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3787-B313-4D71-84D9-FE8A6443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F26-32DE-4E9E-B255-A164E907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BA1-10DC-4B40-8FF5-014B0906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FF41-18EC-47B0-B1E1-27CD3F9B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B0B0-A8E4-453D-AB80-9E1BCDBE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B92F-B016-4322-98D0-89B1641F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EFB-C1FD-425C-93FD-4BEB513E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2C6-B3E4-43C9-A709-7AE88372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0BCD-5BA2-49F8-85E0-4572C9B3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E0F5-8C9E-4E2D-B9DD-448303AD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2CD3-C281-40EC-919E-E3589A36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EFAC-8224-4903-8A89-CA7AD1B3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3AB7-0ECA-4993-A9AE-096845FE8D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Являются ли эти записи отношениями? Где вы с ними встречались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381636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: 1000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: 25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:5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: 4 000 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Картинка 53 из 12518"/>
          <p:cNvPicPr/>
          <p:nvPr/>
        </p:nvPicPr>
        <p:blipFill>
          <a:blip r:embed="rId1"/>
          <a:stretch/>
        </p:blipFill>
        <p:spPr>
          <a:xfrm>
            <a:off x="3780000" y="1916280"/>
            <a:ext cx="50767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пункт 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843, 844, 85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6022800" y="3578400"/>
            <a:ext cx="2868840" cy="290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5564160" y="536400"/>
            <a:ext cx="3327480" cy="237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549360" y="3578400"/>
            <a:ext cx="2894040" cy="3052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372960" y="388800"/>
            <a:ext cx="3245040" cy="2532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8" name="Text Box 5"/>
          <p:cNvSpPr/>
          <p:nvPr/>
        </p:nvSpPr>
        <p:spPr>
          <a:xfrm>
            <a:off x="2912400" y="2781360"/>
            <a:ext cx="41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6686d"/>
                </a:solidFill>
                <a:latin typeface="Monotype Corsiva"/>
              </a:rPr>
              <a:t>Масшта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Картинка 61 из 4320"/>
          <p:cNvPicPr/>
          <p:nvPr/>
        </p:nvPicPr>
        <p:blipFill>
          <a:blip r:embed="rId1"/>
          <a:stretch/>
        </p:blipFill>
        <p:spPr>
          <a:xfrm>
            <a:off x="5219640" y="1773360"/>
            <a:ext cx="3487680" cy="4671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716360" y="189000"/>
            <a:ext cx="4103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сшта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:34 – 1: 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Картинка 1 из 11633"/>
          <p:cNvPicPr/>
          <p:nvPr/>
        </p:nvPicPr>
        <p:blipFill>
          <a:blip r:embed="rId2"/>
          <a:stretch/>
        </p:blipFill>
        <p:spPr>
          <a:xfrm>
            <a:off x="324000" y="476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468360" y="4797360"/>
            <a:ext cx="388764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кроорганизм Даф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сштаб 95: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тношение длины отрез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а изображен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 его настоящей длин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масштабом изобра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84360" y="4724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: 5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500720" y="458136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 :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ончите фразу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если длина отрезка СК на карте в 20 000 раз меньше, чем на местности, то масштаб этой карт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если отрезок АВ = 6 см изображён на карте с масштабом 1 : 200 000, то на местности его длин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если на местности длина отрезка АВ = 8 м, то на карте с масштабом 1 : 200, он изображён длино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564000" y="5734080"/>
            <a:ext cx="460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i?id=15553634&amp;tov=2"/>
          <p:cNvPicPr/>
          <p:nvPr/>
        </p:nvPicPr>
        <p:blipFill>
          <a:blip r:embed="rId1"/>
          <a:stretch/>
        </p:blipFill>
        <p:spPr>
          <a:xfrm>
            <a:off x="7093080" y="4149720"/>
            <a:ext cx="168264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Картинка 13 из 90311"/>
          <p:cNvPicPr/>
          <p:nvPr/>
        </p:nvPicPr>
        <p:blipFill>
          <a:blip r:embed="rId2"/>
          <a:stretch/>
        </p:blipFill>
        <p:spPr>
          <a:xfrm>
            <a:off x="250920" y="189000"/>
            <a:ext cx="2485800" cy="1866960"/>
          </a:xfrm>
          <a:prstGeom prst="rect">
            <a:avLst/>
          </a:prstGeom>
          <a:ln w="0">
            <a:noFill/>
          </a:ln>
        </p:spPr>
      </p:pic>
      <p:sp>
        <p:nvSpPr>
          <p:cNvPr id="61" name="Line 12"/>
          <p:cNvSpPr/>
          <p:nvPr/>
        </p:nvSpPr>
        <p:spPr>
          <a:xfrm>
            <a:off x="2700360" y="1773360"/>
            <a:ext cx="4392720" cy="25192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 rot="1844400">
            <a:off x="1547280" y="3643560"/>
            <a:ext cx="73234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тояние от Москвы до Санкт-Петербур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рямой составляет  примерно 635 км от центра до центра. По автотрассе протяженность маршрут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00 к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995640" y="189000"/>
            <a:ext cx="48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сколько раз надо уменьшить это расстояние, чтобы его можно было изобразить  на слайде в виде отрезка длиной в 14 с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324000" y="5300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0000000см: 14см = 5000000(р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24000" y="59500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означает отношение 1: 5000000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402480" y="4653000"/>
            <a:ext cx="44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00км=700000м=70000000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карте с масштабом 1: 150 000 расстояние между деревней и станцией равно 2,8 см. Найти расстояние между ними на м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а 18 из 173619"/>
          <p:cNvPicPr/>
          <p:nvPr/>
        </p:nvPicPr>
        <p:blipFill>
          <a:blip r:embed="rId1"/>
          <a:stretch/>
        </p:blipFill>
        <p:spPr>
          <a:xfrm>
            <a:off x="5545080" y="3938760"/>
            <a:ext cx="22449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39640" y="67320"/>
            <a:ext cx="8236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тояние между двумя городами равно 400 к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те длину отрезка, соединяющего эти города на карте, выполненн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масштабе 1 : 5 000 00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 зад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8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826(б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8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8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8:52:05Z</dcterms:created>
  <dc:creator>Your User Name</dc:creator>
  <dc:description/>
  <dc:language>en-US</dc:language>
  <cp:lastModifiedBy>RePack by Diakov</cp:lastModifiedBy>
  <dcterms:modified xsi:type="dcterms:W3CDTF">2014-11-14T07:57:28Z</dcterms:modified>
  <cp:revision>26</cp:revision>
  <dc:subject/>
  <dc:title>Вычислите:</dc:title>
</cp:coreProperties>
</file>