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B228-C493-4E50-A1AD-3C981D585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8C8F-BFE6-4D31-97BB-E25E7416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69C6-937C-4A30-BBAB-832611708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1DDC-78F9-46E3-B3CF-6B8C7EE77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C7C7-2634-435B-82C7-7624770D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B445-B03A-48A3-B388-189E7F7D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6227-F2B3-41D9-8ECE-F1EC7646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D729-6319-4495-AEAB-13567EF6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AAF2-9531-4DF5-9160-B2939CEE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4704-B170-4429-8AD4-E6E35BCD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D28B-59B1-4B40-8DD4-AA144162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E21B-34D0-4F12-A757-55961255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5FC9-1204-460B-8E83-175B32170A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Являются ли эти записи отношениями? Где вы с ними встречались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3816360" cy="40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: 1000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: 25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:50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: 4 000 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Картинка 53 из 12518"/>
          <p:cNvPicPr/>
          <p:nvPr/>
        </p:nvPicPr>
        <p:blipFill>
          <a:blip r:embed="rId1"/>
          <a:stretch/>
        </p:blipFill>
        <p:spPr>
          <a:xfrm>
            <a:off x="3780000" y="1916280"/>
            <a:ext cx="507672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пункт 2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843, 844, 85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6022800" y="3578400"/>
            <a:ext cx="2868840" cy="2900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5564160" y="536400"/>
            <a:ext cx="3327480" cy="2378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6" name="Picture 3" descr=""/>
          <p:cNvPicPr/>
          <p:nvPr/>
        </p:nvPicPr>
        <p:blipFill>
          <a:blip r:embed="rId3"/>
          <a:stretch/>
        </p:blipFill>
        <p:spPr>
          <a:xfrm>
            <a:off x="549360" y="3578400"/>
            <a:ext cx="2894040" cy="3052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7" name="Picture 4" descr=""/>
          <p:cNvPicPr/>
          <p:nvPr/>
        </p:nvPicPr>
        <p:blipFill>
          <a:blip r:embed="rId4"/>
          <a:stretch/>
        </p:blipFill>
        <p:spPr>
          <a:xfrm>
            <a:off x="372960" y="388800"/>
            <a:ext cx="3245040" cy="2532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8" name="Text Box 5"/>
          <p:cNvSpPr/>
          <p:nvPr/>
        </p:nvSpPr>
        <p:spPr>
          <a:xfrm>
            <a:off x="2912400" y="2781360"/>
            <a:ext cx="414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06686d"/>
                </a:solidFill>
                <a:latin typeface="Monotype Corsiva"/>
              </a:rPr>
              <a:t>Масшта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Картинка 61 из 4320"/>
          <p:cNvPicPr/>
          <p:nvPr/>
        </p:nvPicPr>
        <p:blipFill>
          <a:blip r:embed="rId1"/>
          <a:stretch/>
        </p:blipFill>
        <p:spPr>
          <a:xfrm>
            <a:off x="5219640" y="1773360"/>
            <a:ext cx="3487680" cy="46717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4716360" y="189000"/>
            <a:ext cx="4103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асштаб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:34 – 1: 3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Картинка 1 из 11633"/>
          <p:cNvPicPr/>
          <p:nvPr/>
        </p:nvPicPr>
        <p:blipFill>
          <a:blip r:embed="rId2"/>
          <a:stretch/>
        </p:blipFill>
        <p:spPr>
          <a:xfrm>
            <a:off x="324000" y="47628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468360" y="4797360"/>
            <a:ext cx="3887640" cy="18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кроорганизм Даф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асштаб 95: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Отношение длины отрез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на изображен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к его настоящей длин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масштабом изображ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684360" y="472428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 : 50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4500720" y="4581360"/>
            <a:ext cx="28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 :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кончите фразу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если длина отрезка СК на карте в 20 000 раз меньше, чем на местности, то масштаб этой карты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если отрезок АВ = 6 см изображён на карте с масштабом 1 : 200 000, то на местности его длин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если на местности длина отрезка АВ = 8 м, то на карте с масштабом 1 : 200, он изображён длиной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3564000" y="5734080"/>
            <a:ext cx="4608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i?id=15553634&amp;tov=2"/>
          <p:cNvPicPr/>
          <p:nvPr/>
        </p:nvPicPr>
        <p:blipFill>
          <a:blip r:embed="rId1"/>
          <a:stretch/>
        </p:blipFill>
        <p:spPr>
          <a:xfrm>
            <a:off x="7093080" y="4149720"/>
            <a:ext cx="1682640" cy="244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Картинка 13 из 90311"/>
          <p:cNvPicPr/>
          <p:nvPr/>
        </p:nvPicPr>
        <p:blipFill>
          <a:blip r:embed="rId2"/>
          <a:stretch/>
        </p:blipFill>
        <p:spPr>
          <a:xfrm>
            <a:off x="250920" y="189000"/>
            <a:ext cx="2485800" cy="1866960"/>
          </a:xfrm>
          <a:prstGeom prst="rect">
            <a:avLst/>
          </a:prstGeom>
          <a:ln w="0">
            <a:noFill/>
          </a:ln>
        </p:spPr>
      </p:pic>
      <p:sp>
        <p:nvSpPr>
          <p:cNvPr id="61" name="Line 12"/>
          <p:cNvSpPr/>
          <p:nvPr/>
        </p:nvSpPr>
        <p:spPr>
          <a:xfrm>
            <a:off x="2700360" y="1773360"/>
            <a:ext cx="4392720" cy="2519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3"/>
          <p:cNvSpPr/>
          <p:nvPr/>
        </p:nvSpPr>
        <p:spPr>
          <a:xfrm rot="1844400">
            <a:off x="1547280" y="3643560"/>
            <a:ext cx="73234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стояние от Москвы до Санкт-Петербург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прямой составляет  примерно 635 км от центра до центра. По автотрассе протяженность маршрут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00 к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3995640" y="189000"/>
            <a:ext cx="48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 сколько раз надо уменьшить это расстояние, чтобы его можно было изобразить  на слайде в виде отрезка длиной в 14 с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324000" y="530064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0000000см: 14см = 5000000(ра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324000" y="595008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означает отношение 1: 5000000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402480" y="4653000"/>
            <a:ext cx="44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00км=700000м=70000000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карте с масштабом 1: 150 000 расстояние между деревней и станцией равно 2,8 см. Найти расстояние между ними на мест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Картинка 18 из 173619"/>
          <p:cNvPicPr/>
          <p:nvPr/>
        </p:nvPicPr>
        <p:blipFill>
          <a:blip r:embed="rId1"/>
          <a:stretch/>
        </p:blipFill>
        <p:spPr>
          <a:xfrm>
            <a:off x="5545080" y="3938760"/>
            <a:ext cx="22449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39640" y="67320"/>
            <a:ext cx="8236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стояние между двумя городами равно 400 км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йдите длину отрезка, соединяющего эти города на карте, выполненно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масштабе 1 : 5 000 000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полни зад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82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826(б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82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82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08:52:05Z</dcterms:created>
  <dc:creator>Your User Name</dc:creator>
  <dc:description/>
  <dc:language>en-US</dc:language>
  <cp:lastModifiedBy>RePack by Diakov</cp:lastModifiedBy>
  <dcterms:modified xsi:type="dcterms:W3CDTF">2014-11-14T07:57:28Z</dcterms:modified>
  <cp:revision>26</cp:revision>
  <dc:subject/>
  <dc:title>Вычислите:</dc:title>
</cp:coreProperties>
</file>