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843F-733F-4910-A49C-A9F9CCB94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B039-F993-4975-8649-E5D5E1363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A225-B5F3-4242-B82B-EBA3519E8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B0CE-5674-4F8B-B914-7C4F41283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93CD-0AA0-4DBB-9050-9EFBFCEB0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71F5-1A18-4FFA-8629-EA13316E8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B9CD-5AD7-4168-BC71-85DD4D2F3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4B90-6AE6-4101-807B-3C36105AC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FA8E-53AB-4ACD-B175-CA477354F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5DD0-C61E-485B-8B04-0B3D57D3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A5CF-37FB-4ADC-ACC4-8624F383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58C8-9E62-45AB-AE10-F231E4B6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CD964-08B4-4592-8B0D-BD8BF2191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87280" y="1484280"/>
            <a:ext cx="741708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верка знаний по истории средних веков по учебнику Искровской Л.В., издательство «Вентана-Граф» пар 27-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готовила учитель истории и обществознания МОУ « СОШ с. Ириновка Новобурасского района Саратовской области» Макеева Валентина Серг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24000" y="765000"/>
            <a:ext cx="856908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оотнесите термины и понятия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) университеты       1) школьная философ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) томизм                    2) высшая шко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) схоластика             3) учение Фомы Аквинск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наменитый собор Святой Софии в Константинополе после завоевания был превращен турками в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) дворец султана      2) тюрьму        3) гробницу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4) мече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Родоначальником книгопечатания в Европе явля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) Иоганн Гутенберг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) Данте Алигьери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) Пьер Абеляр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) Ян Г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4. «Повесть о Тристане и Изольде»- это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) сатирический народный стих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) рыцарская поэм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) любовная поэ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8360" y="1125360"/>
            <a:ext cx="8424720" cy="42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5. Картины, выполненные из кусочков прозрачного стекла эт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а) мезонины     б) флюгера    в) витраж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6. Верно ли утверждение, что в средневековой школе в Европе обучение шло на латинском языке?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) да            Б) 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7. Стиль архитектуры на основе архитектуры Древнего Рима называютс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) итальянским      б) римским      в) романск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8. Поиском вещества, который бы превращал любой металл в золото, занималис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) епископы       б) алхимики           в) астрол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95280" y="476280"/>
            <a:ext cx="828036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9. Определи, в каком стиле построено каждое здание. Назовите не менее 3 характеристик каждого сти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А)                                                                                        Б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Конкурс &quot;Архитектурный стиль&quot;"/>
          <p:cNvPicPr/>
          <p:nvPr/>
        </p:nvPicPr>
        <p:blipFill>
          <a:blip r:embed="rId1"/>
          <a:stretch/>
        </p:blipFill>
        <p:spPr>
          <a:xfrm>
            <a:off x="0" y="2320920"/>
            <a:ext cx="4211640" cy="4537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Готика романский стиль. Фото-сайт о моде и стиле."/>
          <p:cNvPicPr/>
          <p:nvPr/>
        </p:nvPicPr>
        <p:blipFill>
          <a:blip r:embed="rId2"/>
          <a:stretch/>
        </p:blipFill>
        <p:spPr>
          <a:xfrm>
            <a:off x="4356000" y="2449440"/>
            <a:ext cx="478800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50920" y="404640"/>
            <a:ext cx="8353440" cy="64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тве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4  Б3   В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- готический  (стрельчатая арка, более легкий свод, не толстые стены, большие окна, каменная роза над входом, наличие контфорсов, витражи)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- романский (полукруглая арка, тяжелый свод, толстые стены, небольшие окн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2T04:45:58Z</dcterms:created>
  <dc:creator>Алексей</dc:creator>
  <dc:description/>
  <dc:language>en-US</dc:language>
  <cp:lastModifiedBy>Алексей</cp:lastModifiedBy>
  <dcterms:modified xsi:type="dcterms:W3CDTF">2014-12-12T05:09:10Z</dcterms:modified>
  <cp:revision>2</cp:revision>
  <dc:subject/>
  <dc:title>Слайд 1</dc:title>
</cp:coreProperties>
</file>