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0B7-3B12-4F95-B805-9DED21B2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216-1420-44F7-80D6-1F2A02D0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397-C908-4589-9055-CFE606FD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802-2931-4959-850F-C659BE15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7A7-EBFC-4C06-9D73-7028CB7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B2E-9AFC-4EFE-ADC2-71CB47E7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C2B-95BB-4FE4-98B7-377F2ACA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8E1-CB21-41B9-A509-925DD2FB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408-641D-42BE-A6B4-CE903B62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3DC-BA85-4BE4-8D76-65B0A651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D5F-2C98-4FDA-AB87-553CFE6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793-1550-420F-91E7-74A62D69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62C-2B08-4132-A815-E16A54BE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484280"/>
            <a:ext cx="741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знаний по истории средних веков по учебнику Искровской Л.В., издательство «Вентана-Граф» пар 27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учитель истории и обществознания МОУ « СОШ с. Ириновка Новобурасского района Саратовской области» Макеева Валентин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765000"/>
            <a:ext cx="85690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отнесите термины и понят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университеты       1) шко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томизм                    2) высшая ш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схоластика             3) учение Фомы Акви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менитый собор Святой Софии в Константинополе после завоевания был превращен турками в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ворец султана      2) тюрьму        3) гробниц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4) меч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доначальником книгопечатания в Европе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Иоганн Гутенберг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Данте Алигьери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Пьер Абеляр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Ян Г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 «Повесть о Тристане и Изольде»- э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сатирический народный сти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рыцарская поэм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любовная поэ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25360"/>
            <a:ext cx="84247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Картины, выполненные из кусочков прозрачного стекла э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а) мезонины     б) флюгера    в) витр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. Верно ли утверждение, что в средневековой школе в Европе обучение шло на латинском языке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да            Б)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. Стиль архитектуры на основе архитектуры Древнего Рима называ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итальянским      б) римским      в) роман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. Поиском вещества, который бы превращал любой металл в золото, занима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епископы       б) алхимики           в) астр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7628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. Определи, в каком стиле построено каждое здание. Назовите не менее 3 характеристик каждого ст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)                                                                                        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онкурс &quot;Архитектурный стиль&quot;"/>
          <p:cNvPicPr/>
          <p:nvPr/>
        </p:nvPicPr>
        <p:blipFill>
          <a:blip r:embed="rId1"/>
          <a:stretch/>
        </p:blipFill>
        <p:spPr>
          <a:xfrm>
            <a:off x="0" y="2320920"/>
            <a:ext cx="4211640" cy="453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Готика романский стиль. Фото-сайт о моде и стиле."/>
          <p:cNvPicPr/>
          <p:nvPr/>
        </p:nvPicPr>
        <p:blipFill>
          <a:blip r:embed="rId2"/>
          <a:stretch/>
        </p:blipFill>
        <p:spPr>
          <a:xfrm>
            <a:off x="4356000" y="2449440"/>
            <a:ext cx="4788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04640"/>
            <a:ext cx="835344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4  Б3   В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- готический  (стрельчатая арка, более легкий свод, не толстые стены, большие окна, каменная роза над входом, наличие контфорсов, витражи)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- романский (полукруглая арка, тяжелый свод, толстые стены, небольшие ок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04:45:58Z</dcterms:created>
  <dc:creator>Алексей</dc:creator>
  <dc:description/>
  <dc:language>en-US</dc:language>
  <cp:lastModifiedBy>Алексей</cp:lastModifiedBy>
  <dcterms:modified xsi:type="dcterms:W3CDTF">2014-12-12T05:09:10Z</dcterms:modified>
  <cp:revision>2</cp:revision>
  <dc:subject/>
  <dc:title>Слайд 1</dc:title>
</cp:coreProperties>
</file>