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4A07-47FE-4743-9232-BFEB47691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1073-4F23-4080-9424-431059F34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1D5A-EA4B-4FB5-9CCC-4AEA2C7B3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BB61-5E9E-4E92-8E44-AD5B3D12B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0028-EC7F-41A5-BD12-62C8BF7C9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29AA-847D-455A-B5A0-B0D8E17B7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BD23-90CD-4685-B4C4-008DDBC60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F7D4-1579-4413-9593-955D0ED6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E0BE-10EA-4D4B-B079-C40757155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1C86-B1DD-43C1-9C6D-0684331B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64E0-AFD5-4A6D-87DA-FEA60191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1FD0-810D-4BF3-945A-94D36994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47251-71EB-4BC8-A225-46EA427EA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87280" y="1484280"/>
            <a:ext cx="741708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верка знаний по истории средних веков по учебнику Искровской Л.В., издательство «Вентана-Граф» пар 27-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готовила учитель истории и обществознания МОУ « СОШ с. Ириновка Новобурасского района Саратовской области» Макеева Валентина Серг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24000" y="765000"/>
            <a:ext cx="856908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оотнесите термины и понятия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) университеты       1) школьная философ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) томизм                    2) высшая шко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) схоластика             3) учение Фомы Аквинск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наменитый собор Святой Софии в Константинополе после завоевания был превращен турками в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) дворец султана      2) тюрьму        3) гробницу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4) мече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Родоначальником книгопечатания в Европе явля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) Иоганн Гутенберг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) Данте Алигьери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) Пьер Абеляр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) Ян Г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4. «Повесть о Тристане и Изольде»- это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) сатирический народный стих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) рыцарская поэм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) любовная поэ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8360" y="1125360"/>
            <a:ext cx="8424720" cy="42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5. Картины, выполненные из кусочков прозрачного стекла эт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а) мезонины     б) флюгера    в) витраж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6. Верно ли утверждение, что в средневековой школе в Европе обучение шло на латинском языке?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) да            Б) 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7. Стиль архитектуры на основе архитектуры Древнего Рима называютс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) итальянским      б) римским      в) романск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8. Поиском вещества, который бы превращал любой металл в золото, занималис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) епископы       б) алхимики           в) астрол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95280" y="476280"/>
            <a:ext cx="828036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9. Определи, в каком стиле построено каждое здание. Назовите не менее 3 характеристик каждого сти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А)                                                                                        Б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Конкурс &quot;Архитектурный стиль&quot;"/>
          <p:cNvPicPr/>
          <p:nvPr/>
        </p:nvPicPr>
        <p:blipFill>
          <a:blip r:embed="rId1"/>
          <a:stretch/>
        </p:blipFill>
        <p:spPr>
          <a:xfrm>
            <a:off x="0" y="2320920"/>
            <a:ext cx="4211640" cy="4537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Готика романский стиль. Фото-сайт о моде и стиле."/>
          <p:cNvPicPr/>
          <p:nvPr/>
        </p:nvPicPr>
        <p:blipFill>
          <a:blip r:embed="rId2"/>
          <a:stretch/>
        </p:blipFill>
        <p:spPr>
          <a:xfrm>
            <a:off x="4356000" y="2449440"/>
            <a:ext cx="478800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50920" y="404640"/>
            <a:ext cx="8353440" cy="64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тве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4  Б3   В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- готический  (стрельчатая арка, более легкий свод, не толстые стены, большие окна, каменная роза над входом, наличие контфорсов, витражи)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- романский (полукруглая арка, тяжелый свод, толстые стены, небольшие окн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2T04:45:58Z</dcterms:created>
  <dc:creator>Алексей</dc:creator>
  <dc:description/>
  <dc:language>en-US</dc:language>
  <cp:lastModifiedBy>Алексей</cp:lastModifiedBy>
  <dcterms:modified xsi:type="dcterms:W3CDTF">2014-12-12T05:09:10Z</dcterms:modified>
  <cp:revision>2</cp:revision>
  <dc:subject/>
  <dc:title>Слайд 1</dc:title>
</cp:coreProperties>
</file>