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DCA-8678-4244-85F9-6469029D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8CC-D488-49F7-A3E6-EEC11841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F32-9107-4D48-B6F0-EF19FAA9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C834-AB21-4322-9D76-D9ECC76F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00D3-053D-4988-84E1-1B480589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93C4-635F-4156-80F7-09990B2E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9BE-444D-432D-8A1D-C1D41232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E85E-21F0-4EEF-9256-B4038883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CD6-F3C8-44B6-B392-96AECE01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DDD-90F9-4451-BB8D-B4D44A1D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8F0-D4E6-473E-B17D-48596F2C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E3D-FACB-44C0-8A1A-18AEAD16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F542-7435-478D-A673-8EF82E048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92720" y="907920"/>
            <a:ext cx="2951280" cy="54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ник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аграф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учитель истории и обществознания МОУ «СОШ с. Ириновка» Макеева Валенти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и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рия Древнего мира. 5 класс. 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ндреевская Т.П., Белкин М.В., Ванина Э.В.  Издательство Вентана-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5832360" cy="57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2060640"/>
            <a:ext cx="8569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Юные сыновья и дочери вельмож, писцов и ремесленников! Пусть поля ваши дают обильные урожаи! Пусть головы ваши наполняются знаниями. Да живет ваш царь вечно и справедливо правит стра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, царь Верхнего и Нижнего Египта, наслышан, что есть такое государство – Финикия. Многие там диковины делают её умельцы, что корабли их лучшие по всей великой воде, а одежды ярки, как закат, что придумали они, как быстро записать то, что хранится в хранилищах их вельмож. Помогите узнать, где находится эта страна. Чем занимаются её свободные люди? Правда ли, что они лучшие мореплаватели? Куда и зачем плавают. Торгуют ли ч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умал я великое дело и нуждаюсь в хороших кораблях и расторопных людях. Разузнайте все, что можно, и сообщите м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арь Верхнего и Нижнего Египта, фараон Псаметих 2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8366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исьм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раона. Прочтем его и узнаем, с какой просьбой обращается к нам фарао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5640" y="1413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вопросы поставил перед нами фараон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2060640"/>
            <a:ext cx="6409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Где находится эта стра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чем занимаются люд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уда и зачем пла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чем торгую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3789360"/>
            <a:ext cx="784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м мы можем пользоваться, чтобы найти ответы на эти вопросы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4869000"/>
            <a:ext cx="7490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арт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тлас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ллюстрациями в учебник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59600" cy="6524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43640" y="1628640"/>
            <a:ext cx="2700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де находится эта стра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ем занимаются люд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751040"/>
            <a:ext cx="8569080" cy="3182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000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уда и зачем пла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ем торгую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img3.jpg (25948 bytes)"/>
          <p:cNvPicPr/>
          <p:nvPr/>
        </p:nvPicPr>
        <p:blipFill>
          <a:blip r:embed="rId1"/>
          <a:stretch/>
        </p:blipFill>
        <p:spPr>
          <a:xfrm>
            <a:off x="324000" y="2060640"/>
            <a:ext cx="8459640" cy="3373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уда и зачем пла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ем торгую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549360"/>
            <a:ext cx="705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, 2, 3, 4, 5 — все умеем мы считать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аз! Подняться, потянуться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ва! Согнуться, разогнуться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и! В ладоши три хлопка, головою три кивка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 четыре — руки ш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ять — руками помах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Шесть — за парту тихо сест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35280" y="2743200"/>
            <a:ext cx="498816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Финикийский алфавит на сайте Игоря Гаршина"/>
          <p:cNvPicPr/>
          <p:nvPr/>
        </p:nvPicPr>
        <p:blipFill>
          <a:blip r:embed="rId1"/>
          <a:stretch/>
        </p:blipFill>
        <p:spPr>
          <a:xfrm>
            <a:off x="826920" y="1341360"/>
            <a:ext cx="7620120" cy="46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260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Что это может бы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2595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фл йксйкн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Буквы по номеру в алфавите. Всего найдено результатов - 7816"/>
          <p:cNvPicPr/>
          <p:nvPr/>
        </p:nvPicPr>
        <p:blipFill>
          <a:blip r:embed="rId1"/>
          <a:stretch/>
        </p:blipFill>
        <p:spPr>
          <a:xfrm>
            <a:off x="1692360" y="549360"/>
            <a:ext cx="526104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1T16:10:18Z</dcterms:created>
  <dc:creator>Алексей</dc:creator>
  <dc:description/>
  <dc:language>en-US</dc:language>
  <cp:lastModifiedBy>Алексей</cp:lastModifiedBy>
  <dcterms:modified xsi:type="dcterms:W3CDTF">2014-12-21T11:33:02Z</dcterms:modified>
  <cp:revision>4</cp:revision>
  <dc:subject/>
  <dc:title>Слайд 1</dc:title>
</cp:coreProperties>
</file>