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BCA-D6BC-4083-939C-AC793576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E1D-A1F4-4E8C-BB1F-3259A541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A02-00CE-4E59-92C3-57BEF021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FEA-5123-427E-8A6C-A1DF0162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485-5E71-4F4C-8464-B242F2F6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8BA-049C-4C58-B07C-703425A3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432-80F0-431A-AE84-CCF04D6B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419-B21F-4491-9A11-BCAED67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386-D852-46ED-B038-3395286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EB1-8092-4D83-8A3D-2AACD4AB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BA3-A3D5-4F70-B5D6-B87D2669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80C-7870-41BE-8F02-CD33FF4F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2AD0-5C76-4A7F-A5CD-EF10EB4B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92720" y="907920"/>
            <a:ext cx="295128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ик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граф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учитель истории и обществознания МОУ «СОШ с. Ириновка» Макеева Валент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я Древнего мира. 5 класс.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дреевская Т.П., Белкин М.В., Ванина Э.В.  Издательство Вентана-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83236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2060640"/>
            <a:ext cx="856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ые сыновья и дочери вельмож, писцов и ремесленников! Пусть поля ваши дают обильные урожаи! Пусть головы ваши наполняются знаниями. Да живет ваш царь вечно и справедливо правит стра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, царь Верхнего и Нижнего Египта, наслышан, что есть такое государство – Финикия. Многие там диковины делают её умельцы, что корабли их лучшие по всей великой воде, а одежды ярки, как закат, что придумали они, как быстро записать то, что хранится в хранилищах их вельмож. Помогите узнать, где находится эта страна. Чем занимаются её свободные люди? Правда ли, что они лучшие мореплаватели? Куда и зачем плавают. Торгуют ли 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умал я великое дело и нуждаюсь в хороших кораблях и расторопных людях. Разузнайте все, что можно, и сообщите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арь Верхнего и Нижнего Египта, фараон Псаметих 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83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сьм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аона. Прочтем его и узнаем, с какой просьбой обращается к нам фара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1413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вопросы поставил перед нами фараон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2060640"/>
            <a:ext cx="640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де находится эта стра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ем занимаются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789360"/>
            <a:ext cx="784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мы можем пользоваться, чтобы найти ответы на эти вопросы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869000"/>
            <a:ext cx="749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р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тлас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ллюстрациями в учебни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9600" cy="652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43640" y="1628640"/>
            <a:ext cx="270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де находится эта стра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занимаются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51040"/>
            <a:ext cx="8569080" cy="318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img3.jpg (25948 bytes)"/>
          <p:cNvPicPr/>
          <p:nvPr/>
        </p:nvPicPr>
        <p:blipFill>
          <a:blip r:embed="rId1"/>
          <a:stretch/>
        </p:blipFill>
        <p:spPr>
          <a:xfrm>
            <a:off x="324000" y="2060640"/>
            <a:ext cx="8459640" cy="337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549360"/>
            <a:ext cx="70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, 2, 3, 4, 5 — все умеем мы считать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! Подняться, потянуться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ва! Согнуться, разогнуться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! В ладоши три хлопка, головою три кивк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четыре — руки ш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ять — руками помах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есть — за парту тихо се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35280" y="2743200"/>
            <a:ext cx="49881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иникийский алфавит на сайте Игоря Гаршина"/>
          <p:cNvPicPr/>
          <p:nvPr/>
        </p:nvPicPr>
        <p:blipFill>
          <a:blip r:embed="rId1"/>
          <a:stretch/>
        </p:blipFill>
        <p:spPr>
          <a:xfrm>
            <a:off x="826920" y="1341360"/>
            <a:ext cx="7620120" cy="46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26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Что это может бы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2595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фл йксйкн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Буквы по номеру в алфавите. Всего найдено результатов - 7816"/>
          <p:cNvPicPr/>
          <p:nvPr/>
        </p:nvPicPr>
        <p:blipFill>
          <a:blip r:embed="rId1"/>
          <a:stretch/>
        </p:blipFill>
        <p:spPr>
          <a:xfrm>
            <a:off x="1692360" y="549360"/>
            <a:ext cx="526104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6:10:18Z</dcterms:created>
  <dc:creator>Алексей</dc:creator>
  <dc:description/>
  <dc:language>en-US</dc:language>
  <cp:lastModifiedBy>Алексей</cp:lastModifiedBy>
  <dcterms:modified xsi:type="dcterms:W3CDTF">2014-12-21T11:33:02Z</dcterms:modified>
  <cp:revision>4</cp:revision>
  <dc:subject/>
  <dc:title>Слайд 1</dc:title>
</cp:coreProperties>
</file>