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669-4741-4DD6-8CD3-474BC4A4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4DB-6286-45DD-80AB-B26B3564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5B4-0D27-4897-84BF-F9CD77A5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29A-4B59-4C62-AC8A-B81E1629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D01-2516-4744-A835-23A49189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9A0-B514-4EBE-8A18-80F293C3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627-FC1D-47CD-80E8-2C547F3B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8FC-A1FF-4753-87B3-CBF1FCC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37F-D49E-4DF3-8697-2C102411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009-DEB8-4D73-B8F9-2CF0264C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215-0583-47A1-A2A0-277058D0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DA7-4B20-4EA3-9937-7D8382B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38C8-2ECF-4D9B-9EE8-DAAE2D918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92720" y="907920"/>
            <a:ext cx="2951280" cy="54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ик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граф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учитель истории и обществознания МОУ «СОШ с. Ириновка» Макеева Валент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я Древнего мира. 5 класс.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дреевская Т.П., Белкин М.В., Ванина Э.В.  Издательство Вентана-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83236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2060640"/>
            <a:ext cx="856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ые сыновья и дочери вельмож, писцов и ремесленников! Пусть поля ваши дают обильные урожаи! Пусть головы ваши наполняются знаниями. Да живет ваш царь вечно и справедливо правит стра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, царь Верхнего и Нижнего Египта, наслышан, что есть такое государство – Финикия. Многие там диковины делают её умельцы, что корабли их лучшие по всей великой воде, а одежды ярки, как закат, что придумали они, как быстро записать то, что хранится в хранилищах их вельмож. Помогите узнать, где находится эта страна. Чем занимаются её свободные люди? Правда ли, что они лучшие мореплаватели? Куда и зачем плавают. Торгуют ли 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умал я великое дело и нуждаюсь в хороших кораблях и расторопных людях. Разузнайте все, что можно, и сообщите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арь Верхнего и Нижнего Египта, фараон Псаметих 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836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сьм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аона. Прочтем его и узнаем, с какой просьбой обращается к нам фара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1413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вопросы поставил перед нами фараон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2060640"/>
            <a:ext cx="640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де находится эта стра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ем занимаются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уда и зачем пла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ем торгу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789360"/>
            <a:ext cx="784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мы можем пользоваться, чтобы найти ответы на эти вопросы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4869000"/>
            <a:ext cx="749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р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тлас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ллюстрациями в учебни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9600" cy="652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43640" y="1628640"/>
            <a:ext cx="270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де находится эта стра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занимаются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751040"/>
            <a:ext cx="8569080" cy="318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уда и зачем пла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торгу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img3.jpg (25948 bytes)"/>
          <p:cNvPicPr/>
          <p:nvPr/>
        </p:nvPicPr>
        <p:blipFill>
          <a:blip r:embed="rId1"/>
          <a:stretch/>
        </p:blipFill>
        <p:spPr>
          <a:xfrm>
            <a:off x="324000" y="2060640"/>
            <a:ext cx="8459640" cy="337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уда и зачем пла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м торгу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549360"/>
            <a:ext cx="705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, 2, 3, 4, 5 — все умеем мы считать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з! Подняться, потянуться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ва! Согнуться, разогнуться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и! В ладоши три хлопка, головою три кивк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четыре — руки ш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ять — руками помах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есть — за парту тихо се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35280" y="2743200"/>
            <a:ext cx="49881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иникийский алфавит на сайте Игоря Гаршина"/>
          <p:cNvPicPr/>
          <p:nvPr/>
        </p:nvPicPr>
        <p:blipFill>
          <a:blip r:embed="rId1"/>
          <a:stretch/>
        </p:blipFill>
        <p:spPr>
          <a:xfrm>
            <a:off x="826920" y="1341360"/>
            <a:ext cx="7620120" cy="46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26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Что это может бы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2595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фл йксйкн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Буквы по номеру в алфавите. Всего найдено результатов - 7816"/>
          <p:cNvPicPr/>
          <p:nvPr/>
        </p:nvPicPr>
        <p:blipFill>
          <a:blip r:embed="rId1"/>
          <a:stretch/>
        </p:blipFill>
        <p:spPr>
          <a:xfrm>
            <a:off x="1692360" y="549360"/>
            <a:ext cx="526104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6:10:18Z</dcterms:created>
  <dc:creator>Алексей</dc:creator>
  <dc:description/>
  <dc:language>en-US</dc:language>
  <cp:lastModifiedBy>Алексей</cp:lastModifiedBy>
  <dcterms:modified xsi:type="dcterms:W3CDTF">2014-12-21T11:33:02Z</dcterms:modified>
  <cp:revision>4</cp:revision>
  <dc:subject/>
  <dc:title>Слайд 1</dc:title>
</cp:coreProperties>
</file>