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49-B188-4CD5-9CA5-FC9CCCBD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AD0-C42B-4169-9D59-15B93BE9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19D-26E3-4B66-BE5B-DBA2DED6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95F-9C12-4EAA-9A6B-F54B6002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DE6A-483F-4946-964D-EDA5ED3C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0C3C-4518-4431-9251-745FAD9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5DA9-7AAC-479F-A0E3-8995842E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162F-ABF8-4887-8EDF-D7CA6E06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FA5D-736B-4AE6-BF95-47D14F6B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157-90B8-418B-AAC2-63C8D73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B82-ABAB-4758-99A1-0C56272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646-ABA0-471C-8A13-0628BB9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5012-B62B-4AF0-8316-6E928A5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2CF6-C4C2-4E98-9C74-CF545DB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EA20-BD18-4562-BADB-36EF20C6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8B88-7E3B-474C-8F66-239F9EBF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1E4B-BBBB-4A7F-8361-3127E2E9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DEB-0C97-43D4-823A-DDABB21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2EB-E539-4FC8-B2A9-E2BA93E7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734-C2C9-4F09-BAAE-50933641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6D7-5DC3-4D09-AF7B-E21F4D2D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5BB-BA35-4F86-848F-614E7D73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630-9445-4F75-99F3-D57A018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20A-CA1F-4B4D-AF4D-0D245DE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68D3-F76D-49CB-AB8A-7F56035794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0DC-E46B-4484-A953-F1E5B3223B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Анализ применения  ИКТ-технологий на уроке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Детская природа требует наглядности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.Д. Ушинский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590560" cy="65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w30"/>
          <p:cNvPicPr/>
          <p:nvPr/>
        </p:nvPicPr>
        <p:blipFill>
          <a:blip r:embed="rId2"/>
          <a:stretch/>
        </p:blipFill>
        <p:spPr>
          <a:xfrm>
            <a:off x="762120" y="4038480"/>
            <a:ext cx="17478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игиенические требо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прерывная длительность воздействия не должна превыша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ля 1-х классов 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-5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5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-7-х классов 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-9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5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-11-х классов -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0 ми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6" descr="Шустрик"/>
          <p:cNvPicPr/>
          <p:nvPr/>
        </p:nvPicPr>
        <p:blipFill>
          <a:blip r:embed="rId1"/>
          <a:stretch/>
        </p:blipFill>
        <p:spPr>
          <a:xfrm>
            <a:off x="7620120" y="5335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ритерии оценки урока (максимальная оценка – 5 баллов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Знание предмет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труктурное решение урок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спользование современных  методик, технолог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спользование авторских методик, технологи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учный характер преподава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Нацеленность на развитие личности учени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отрудничество педагога и учени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Коммуникативная культур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Результативность уро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Индивидуальность урок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Воспитывающий характер обучени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Самоанализ урока (максим. оценка – 1 балл)краткая характеристика целей, которые ставил и анализ их достижения; информация об объеме материала и качество его усвоения учащимися;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характеристика применяемых методов работы с учащимися и оценивание их; оценка активности учащихся и обоснование использованных приемов в организации  труда;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самооценка отдельных аспектов своей деятельности (речь, логика, характер отношений с учениками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6" descr="Шустрик"/>
          <p:cNvPicPr/>
          <p:nvPr/>
        </p:nvPicPr>
        <p:blipFill>
          <a:blip r:embed="rId1"/>
          <a:stretch/>
        </p:blipFill>
        <p:spPr>
          <a:xfrm>
            <a:off x="7467480" y="304920"/>
            <a:ext cx="85752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трывки из схем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нализа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азнообрази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одов и приемов, применяемых на уро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спользование средст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обучения (наглядных пособий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ТС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личностных особенностей учащихс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ими методами, приемами учитель приводил учащихся в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остояние активност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Шустрик"/>
          <p:cNvPicPr/>
          <p:nvPr/>
        </p:nvPicPr>
        <p:blipFill>
          <a:blip r:embed="rId1"/>
          <a:stretch/>
        </p:blipFill>
        <p:spPr>
          <a:xfrm>
            <a:off x="7696080" y="762120"/>
            <a:ext cx="85752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ология обучения,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кология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ие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з современных технологи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обучения использованы учителе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аков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эффект технологи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использованной учителе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стояние здоровь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учащихся класса и его учет на уро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Услови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внешние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териальны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обучения в данном по­меще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Шустрик"/>
          <p:cNvPicPr/>
          <p:nvPr/>
        </p:nvPicPr>
        <p:blipFill>
          <a:blip r:embed="rId1"/>
          <a:stretch/>
        </p:blipFill>
        <p:spPr>
          <a:xfrm>
            <a:off x="73915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хема анализ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временного урок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скольк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местно и умел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применялись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С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высилась ли эффективность урока за счет ТСО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жно ли было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бойтись без ТСО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Шустрик"/>
          <p:cNvPicPr/>
          <p:nvPr/>
        </p:nvPicPr>
        <p:blipFill>
          <a:blip r:embed="rId1"/>
          <a:stretch/>
        </p:blipFill>
        <p:spPr>
          <a:xfrm>
            <a:off x="78487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ормативные документ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выяснить, чего от нас требует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ГО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в связи с внедрением ИКТ на урок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критерии, по которым можно будет оценить, насколько педагог реализует требования  ФГОС по внедрению и использованию ИКТ-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chel13"/>
          <p:cNvPicPr/>
          <p:nvPr/>
        </p:nvPicPr>
        <p:blipFill>
          <a:blip r:embed="rId1"/>
          <a:stretch/>
        </p:blipFill>
        <p:spPr>
          <a:xfrm>
            <a:off x="7086600" y="6094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33"/>
          <p:cNvPicPr/>
          <p:nvPr/>
        </p:nvPicPr>
        <p:blipFill>
          <a:blip r:embed="rId2"/>
          <a:stretch/>
        </p:blipFill>
        <p:spPr>
          <a:xfrm>
            <a:off x="7391520" y="5181480"/>
            <a:ext cx="1295280" cy="12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ить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игиенические требова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етодические рекоменд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о созданию презент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 критерии оценивания урока с точки зрения использования ИКТ  в рамках здоровьесберегающих 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писатель"/>
          <p:cNvPicPr/>
          <p:nvPr/>
        </p:nvPicPr>
        <p:blipFill>
          <a:blip r:embed="rId1"/>
          <a:stretch/>
        </p:blipFill>
        <p:spPr>
          <a:xfrm>
            <a:off x="6477120" y="609480"/>
            <a:ext cx="121428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0"/>
          <p:cNvPicPr/>
          <p:nvPr/>
        </p:nvPicPr>
        <p:blipFill>
          <a:blip r:embed="rId2"/>
          <a:stretch/>
        </p:blipFill>
        <p:spPr>
          <a:xfrm>
            <a:off x="3505320" y="5257800"/>
            <a:ext cx="1092240" cy="1170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2_"/>
          <p:cNvPicPr/>
          <p:nvPr/>
        </p:nvPicPr>
        <p:blipFill>
          <a:blip r:embed="rId3"/>
          <a:stretch/>
        </p:blipFill>
        <p:spPr>
          <a:xfrm rot="20659800">
            <a:off x="5062320" y="5319720"/>
            <a:ext cx="3078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груп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ить  имеющиеся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хемы анализ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Результа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предложения по  усовершенствованию данных схем в тех фрагментах, где идет оценивание использованных технолог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62"/>
          <p:cNvPicPr/>
          <p:nvPr/>
        </p:nvPicPr>
        <p:blipFill>
          <a:blip r:embed="rId1"/>
          <a:stretch/>
        </p:blipFill>
        <p:spPr>
          <a:xfrm flipH="1">
            <a:off x="7032600" y="380880"/>
            <a:ext cx="1068480" cy="144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2"/>
          <p:cNvPicPr/>
          <p:nvPr/>
        </p:nvPicPr>
        <p:blipFill>
          <a:blip r:embed="rId2"/>
          <a:stretch/>
        </p:blipFill>
        <p:spPr>
          <a:xfrm>
            <a:off x="4114800" y="4597560"/>
            <a:ext cx="205740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48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Наша задача –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разработать доступные и  четкие критерии анализа урока с использованием ИКТ.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6" descr="b37"/>
          <p:cNvPicPr/>
          <p:nvPr/>
        </p:nvPicPr>
        <p:blipFill>
          <a:blip r:embed="rId1"/>
          <a:stretch/>
        </p:blipFill>
        <p:spPr>
          <a:xfrm>
            <a:off x="1219320" y="762120"/>
            <a:ext cx="1214280" cy="1128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ae7125b032b97b698f903407ce24b4c0"/>
          <p:cNvPicPr/>
          <p:nvPr/>
        </p:nvPicPr>
        <p:blipFill>
          <a:blip r:embed="rId2"/>
          <a:stretch/>
        </p:blipFill>
        <p:spPr>
          <a:xfrm>
            <a:off x="3962520" y="4216320"/>
            <a:ext cx="17524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6"/>
          <p:cNvPicPr/>
          <p:nvPr/>
        </p:nvPicPr>
        <p:blipFill>
          <a:blip r:embed="rId1"/>
          <a:stretch/>
        </p:blipFill>
        <p:spPr>
          <a:xfrm>
            <a:off x="7086600" y="48769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7"/>
          <p:cNvPicPr/>
          <p:nvPr/>
        </p:nvPicPr>
        <p:blipFill>
          <a:blip r:embed="rId2"/>
          <a:stretch/>
        </p:blipFill>
        <p:spPr>
          <a:xfrm>
            <a:off x="3352680" y="3276720"/>
            <a:ext cx="2211480" cy="219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03"/>
          <p:cNvPicPr/>
          <p:nvPr/>
        </p:nvPicPr>
        <p:blipFill>
          <a:blip r:embed="rId3"/>
          <a:stretch/>
        </p:blipFill>
        <p:spPr>
          <a:xfrm>
            <a:off x="1371600" y="861840"/>
            <a:ext cx="1143000" cy="102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62280" y="762120"/>
            <a:ext cx="365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Начинаем!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438280"/>
            <a:ext cx="59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ремя работы – 5 мину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оанализировать использование ИКТ на уроке с точки зрения   эффективности,  целесообразности, актуальност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ыработать схему анализа урока с применением ИКТ-технолог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знак"/>
          <p:cNvPicPr/>
          <p:nvPr/>
        </p:nvPicPr>
        <p:blipFill>
          <a:blip r:embed="rId1"/>
          <a:stretch/>
        </p:blipFill>
        <p:spPr>
          <a:xfrm>
            <a:off x="914400" y="1066680"/>
            <a:ext cx="9288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Ваши предложения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9" descr="SMILE8"/>
          <p:cNvPicPr/>
          <p:nvPr/>
        </p:nvPicPr>
        <p:blipFill>
          <a:blip r:embed="rId1"/>
          <a:stretch/>
        </p:blipFill>
        <p:spPr>
          <a:xfrm>
            <a:off x="1143000" y="914400"/>
            <a:ext cx="933480" cy="803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819520" y="102384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бсуждение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Спасибо за работу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14040" y="5867280"/>
            <a:ext cx="480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меститель директора по УВР МКОУ Дулесовской ООШ Мухина А.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53080" y="304920"/>
            <a:ext cx="2057400" cy="14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35816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облем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 проверить, измерить, оценить на уроке эффективность, безопасность и целесообразность использование ИКТ - технологий?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52578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smile3"/>
          <p:cNvPicPr/>
          <p:nvPr/>
        </p:nvPicPr>
        <p:blipFill>
          <a:blip r:embed="rId2"/>
          <a:stretch/>
        </p:blipFill>
        <p:spPr>
          <a:xfrm>
            <a:off x="914400" y="1143000"/>
            <a:ext cx="798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48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опрос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По каким критериям мы будем это делать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8" descr="о чем задумался"/>
          <p:cNvPicPr/>
          <p:nvPr/>
        </p:nvPicPr>
        <p:blipFill>
          <a:blip r:embed="rId1"/>
          <a:stretch/>
        </p:blipFill>
        <p:spPr>
          <a:xfrm>
            <a:off x="990720" y="838080"/>
            <a:ext cx="857160" cy="91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ГОС,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Функционирова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информационной образовательной сре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беспечивается средствами ИКТ и квалификацией работников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ее использующих и поддерживающи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Шустрик"/>
          <p:cNvPicPr/>
          <p:nvPr/>
        </p:nvPicPr>
        <p:blipFill>
          <a:blip r:embed="rId1"/>
          <a:stretch/>
        </p:blipFill>
        <p:spPr>
          <a:xfrm>
            <a:off x="7543800" y="5335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бразовательный результат по ФГО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умение работ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в материальной 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нформационной сред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начального общего образования (в том числе с учебными моделями) в соответствии с содержанием конкретного учебного предме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6" descr="Шустрик"/>
          <p:cNvPicPr/>
          <p:nvPr/>
        </p:nvPicPr>
        <p:blipFill>
          <a:blip r:embed="rId1"/>
          <a:stretch/>
        </p:blipFill>
        <p:spPr>
          <a:xfrm>
            <a:off x="7772400" y="60948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ему мы должны научи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тивное использование речевых средств и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средств информационных и коммуникационных технологи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далее - ИКТ) для решения коммуникативных и познавательных задач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6" descr="Шустрик"/>
          <p:cNvPicPr/>
          <p:nvPr/>
        </p:nvPicPr>
        <p:blipFill>
          <a:blip r:embed="rId1"/>
          <a:stretch/>
        </p:blipFill>
        <p:spPr>
          <a:xfrm>
            <a:off x="7620120" y="45720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ичностные результа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установки н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безопасный, здоровый образ жизни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наличие мотивации к творческому труду, работе на результат, бережному отношению к материальным и духовным ценностя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Шустрик"/>
          <p:cNvPicPr/>
          <p:nvPr/>
        </p:nvPicPr>
        <p:blipFill>
          <a:blip r:embed="rId1"/>
          <a:stretch/>
        </p:blipFill>
        <p:spPr>
          <a:xfrm>
            <a:off x="7543800" y="609480"/>
            <a:ext cx="857160" cy="939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ные обязанност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едагог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водит обучение обучающихся в соответствии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 требованиями федеральных государственных образовательных стандартов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анизует и контролирует их самостоятельную работу, индивидуальные образовательные траектории (программы)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спользу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иболее эффективные формы, методы и средства обучения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овые образовательные технологии, включая информационные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6" descr="Шустрик"/>
          <p:cNvPicPr/>
          <p:nvPr/>
        </p:nvPicPr>
        <p:blipFill>
          <a:blip r:embed="rId1"/>
          <a:stretch/>
        </p:blipFill>
        <p:spPr>
          <a:xfrm>
            <a:off x="7848720" y="304920"/>
            <a:ext cx="857160" cy="93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0T20:20:2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