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9.png" ContentType="image/png"/>
  <Override PartName="/ppt/media/image10.gif" ContentType="image/gif"/>
  <Override PartName="/ppt/media/image5.gif" ContentType="image/gif"/>
  <Override PartName="/ppt/media/image22.gif" ContentType="image/gif"/>
  <Override PartName="/ppt/media/image4.gif" ContentType="image/gif"/>
  <Override PartName="/ppt/media/image21.gif" ContentType="image/gif"/>
  <Override PartName="/ppt/media/image19.gif" ContentType="image/gif"/>
  <Override PartName="/ppt/media/image1.gif" ContentType="image/gif"/>
  <Override PartName="/ppt/media/image3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E48C-E20E-4EB4-B134-0F8B5A577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E5C2-42CD-4111-A655-E664A8FF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8858-591A-4925-830F-3879ECDD8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28A0-1C39-4B87-925F-5930EAADD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997A-5286-4836-BD27-7574755B5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E1EB-1590-49EF-BCBB-A5C8BD31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21FE-8983-4359-BAC5-C8C7EA3C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7A74-F5BF-4E74-87F1-7E28C1DA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679A-270F-4A26-AFCB-31FBB3A8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274B-02C6-4824-89F6-1D44CA33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99FA-F911-4E84-B2C3-33713885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4FA2-A66E-4B08-A163-AD0FCE28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03CA-E1B9-44BC-8CC2-5AC50840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CFD7-B26C-4821-8798-96C254B5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F8A8-F0D4-4316-BC33-B5DA3352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4AF6-C1E9-421D-8F0E-1F84B9BAA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4FE3-831E-4FBB-A5B6-EDD47449E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9579-5166-4CF6-A076-64DB550B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0DED-10A8-476C-9844-F88ABEF9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9987-98E8-400A-B96A-39D4ECD2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1A1A-A396-42D3-875A-3AF48E3A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AAD0-0EBD-47E3-B0AB-9F67768A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EB22-E840-4B10-AA77-6F138F6A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5473-64A1-4752-9A28-24C92690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3D9D-D9D6-42A6-95B8-6FFB93EC0BF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5916-B216-41C1-AAAA-1C19F57CEC6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Анализ применения  ИКТ-технологий на уроке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Детская природа требует наглядности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К.Д. Ушинский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791320" y="380880"/>
            <a:ext cx="2590560" cy="657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hw30"/>
          <p:cNvPicPr/>
          <p:nvPr/>
        </p:nvPicPr>
        <p:blipFill>
          <a:blip r:embed="rId2"/>
          <a:stretch/>
        </p:blipFill>
        <p:spPr>
          <a:xfrm>
            <a:off x="762120" y="4038480"/>
            <a:ext cx="174780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Гигиенические требов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епрерывная длительность воздействия не должна превышать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для 1-х классов -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0 мин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-5-х классов -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5 мин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6-7-х классов -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20 мин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-9-х классов -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25 мин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0-11-х классов -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30 мин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6" descr="Шустрик"/>
          <p:cNvPicPr/>
          <p:nvPr/>
        </p:nvPicPr>
        <p:blipFill>
          <a:blip r:embed="rId1"/>
          <a:stretch/>
        </p:blipFill>
        <p:spPr>
          <a:xfrm>
            <a:off x="7620120" y="533520"/>
            <a:ext cx="857160" cy="939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Критерии оценки урока (максимальная оценка – 5 баллов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Знание предмет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Структурное решение урока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Использование современных  методик, технологи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Использование авторских методик, технологий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Научный характер преподавания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Нацеленность на развитие личности ученик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Сотрудничество педагога и ученик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Коммуникативная культура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Результативность урок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Индивидуальность урок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Воспитывающий характер обучения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Самоанализ урока (максим. оценка – 1 балл)краткая характеристика целей, которые ставил и анализ их достижения; информация об объеме материала и качество его усвоения учащимися;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характеристика применяемых методов работы с учащимися и оценивание их; оценка активности учащихся и обоснование использованных приемов в организации  труда;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самооценка отдельных аспектов своей деятельности (речь, логика, характер отношений с учениками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Picture 6" descr="Шустрик"/>
          <p:cNvPicPr/>
          <p:nvPr/>
        </p:nvPicPr>
        <p:blipFill>
          <a:blip r:embed="rId1"/>
          <a:stretch/>
        </p:blipFill>
        <p:spPr>
          <a:xfrm>
            <a:off x="7467480" y="304920"/>
            <a:ext cx="857520" cy="939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трывки из схем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анализа урок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Разнообразие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етодов и приемов, применяемых на урок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Использование средств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обучения (наглядных пособий,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ТСО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личностных особенностей учащихся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Какими методами, приемами учитель приводил учащихся в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состояние активности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6" descr="Шустрик"/>
          <p:cNvPicPr/>
          <p:nvPr/>
        </p:nvPicPr>
        <p:blipFill>
          <a:blip r:embed="rId1"/>
          <a:stretch/>
        </p:blipFill>
        <p:spPr>
          <a:xfrm>
            <a:off x="7696080" y="762120"/>
            <a:ext cx="857520" cy="939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ехнология обучения,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экология урок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акие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из современных технологий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обучения использованы учителем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аков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эффект технологии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использованной учителем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Состояние здоровья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учащихся класса и его учет на урок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Условия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внешние,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материальные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) обучения в данном по­мещени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6" descr="Шустрик"/>
          <p:cNvPicPr/>
          <p:nvPr/>
        </p:nvPicPr>
        <p:blipFill>
          <a:blip r:embed="rId1"/>
          <a:stretch/>
        </p:blipFill>
        <p:spPr>
          <a:xfrm>
            <a:off x="7391520" y="457200"/>
            <a:ext cx="857160" cy="939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хема анализа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овременного урок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Насколько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уместно и умело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применялись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ТСО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овысилась ли эффективность урока за счет ТСО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Можно ли было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обойтись без ТСО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6" descr="Шустрик"/>
          <p:cNvPicPr/>
          <p:nvPr/>
        </p:nvPicPr>
        <p:blipFill>
          <a:blip r:embed="rId1"/>
          <a:stretch/>
        </p:blipFill>
        <p:spPr>
          <a:xfrm>
            <a:off x="7848720" y="457200"/>
            <a:ext cx="857160" cy="939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1 групп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зучить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нормативные документы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и выяснить, чего от нас требует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ФГОС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в связи с внедрением ИКТ на уроке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Результат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- критерии, по которым можно будет оценить, насколько педагог реализует требования  ФГОС по внедрению и использованию ИКТ-технологи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4" descr="chel13"/>
          <p:cNvPicPr/>
          <p:nvPr/>
        </p:nvPicPr>
        <p:blipFill>
          <a:blip r:embed="rId1"/>
          <a:stretch/>
        </p:blipFill>
        <p:spPr>
          <a:xfrm>
            <a:off x="7086600" y="60948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033"/>
          <p:cNvPicPr/>
          <p:nvPr/>
        </p:nvPicPr>
        <p:blipFill>
          <a:blip r:embed="rId2"/>
          <a:stretch/>
        </p:blipFill>
        <p:spPr>
          <a:xfrm>
            <a:off x="7391520" y="5181480"/>
            <a:ext cx="1295280" cy="12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2 групп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зучить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гигиенические требован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и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методические рекомендаци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по созданию презентаци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Результат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-  критерии оценивания урока с точки зрения использования ИКТ  в рамках здоровьесберегающих технологи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Picture 4" descr="писатель"/>
          <p:cNvPicPr/>
          <p:nvPr/>
        </p:nvPicPr>
        <p:blipFill>
          <a:blip r:embed="rId1"/>
          <a:stretch/>
        </p:blipFill>
        <p:spPr>
          <a:xfrm>
            <a:off x="6477120" y="609480"/>
            <a:ext cx="1214280" cy="1219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10"/>
          <p:cNvPicPr/>
          <p:nvPr/>
        </p:nvPicPr>
        <p:blipFill>
          <a:blip r:embed="rId2"/>
          <a:stretch/>
        </p:blipFill>
        <p:spPr>
          <a:xfrm>
            <a:off x="3505320" y="5257800"/>
            <a:ext cx="1092240" cy="1170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22_"/>
          <p:cNvPicPr/>
          <p:nvPr/>
        </p:nvPicPr>
        <p:blipFill>
          <a:blip r:embed="rId3"/>
          <a:stretch/>
        </p:blipFill>
        <p:spPr>
          <a:xfrm rot="20659800">
            <a:off x="5062320" y="5319720"/>
            <a:ext cx="30780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3 групп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зучить  имеющиеся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схемы анализа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Результат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- предложения по  усовершенствованию данных схем в тех фрагментах, где идет оценивание использованных технологи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4" descr="62"/>
          <p:cNvPicPr/>
          <p:nvPr/>
        </p:nvPicPr>
        <p:blipFill>
          <a:blip r:embed="rId1"/>
          <a:stretch/>
        </p:blipFill>
        <p:spPr>
          <a:xfrm flipH="1">
            <a:off x="7032600" y="380880"/>
            <a:ext cx="1068480" cy="1447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12"/>
          <p:cNvPicPr/>
          <p:nvPr/>
        </p:nvPicPr>
        <p:blipFill>
          <a:blip r:embed="rId2"/>
          <a:stretch/>
        </p:blipFill>
        <p:spPr>
          <a:xfrm>
            <a:off x="4114800" y="4597560"/>
            <a:ext cx="2057400" cy="13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480" y="834120"/>
            <a:ext cx="67132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Наша задача –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разработать доступные и  четкие критерии анализа урока с использованием ИКТ.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Picture 6" descr="b37"/>
          <p:cNvPicPr/>
          <p:nvPr/>
        </p:nvPicPr>
        <p:blipFill>
          <a:blip r:embed="rId1"/>
          <a:stretch/>
        </p:blipFill>
        <p:spPr>
          <a:xfrm>
            <a:off x="1219320" y="762120"/>
            <a:ext cx="1214280" cy="1128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ae7125b032b97b698f903407ce24b4c0"/>
          <p:cNvPicPr/>
          <p:nvPr/>
        </p:nvPicPr>
        <p:blipFill>
          <a:blip r:embed="rId2"/>
          <a:stretch/>
        </p:blipFill>
        <p:spPr>
          <a:xfrm>
            <a:off x="3962520" y="4216320"/>
            <a:ext cx="175248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7" descr="6"/>
          <p:cNvPicPr/>
          <p:nvPr/>
        </p:nvPicPr>
        <p:blipFill>
          <a:blip r:embed="rId1"/>
          <a:stretch/>
        </p:blipFill>
        <p:spPr>
          <a:xfrm>
            <a:off x="7086600" y="487692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17"/>
          <p:cNvPicPr/>
          <p:nvPr/>
        </p:nvPicPr>
        <p:blipFill>
          <a:blip r:embed="rId2"/>
          <a:stretch/>
        </p:blipFill>
        <p:spPr>
          <a:xfrm>
            <a:off x="3352680" y="3276720"/>
            <a:ext cx="2211480" cy="2190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03"/>
          <p:cNvPicPr/>
          <p:nvPr/>
        </p:nvPicPr>
        <p:blipFill>
          <a:blip r:embed="rId3"/>
          <a:stretch/>
        </p:blipFill>
        <p:spPr>
          <a:xfrm>
            <a:off x="1371600" y="861840"/>
            <a:ext cx="1143000" cy="10274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662280" y="762120"/>
            <a:ext cx="365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Начинаем!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2438280"/>
            <a:ext cx="596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Время работы – 5 мину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480" y="834120"/>
            <a:ext cx="6636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Цель 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Проанализировать использование ИКТ на уроке с точки зрения   эффективности,  целесообразности, актуальности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Выработать схему анализа урока с применением ИКТ-технологи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Picture 4" descr="знак"/>
          <p:cNvPicPr/>
          <p:nvPr/>
        </p:nvPicPr>
        <p:blipFill>
          <a:blip r:embed="rId1"/>
          <a:stretch/>
        </p:blipFill>
        <p:spPr>
          <a:xfrm>
            <a:off x="914400" y="1066680"/>
            <a:ext cx="9288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Ваши предложения!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Picture 9" descr="SMILE8"/>
          <p:cNvPicPr/>
          <p:nvPr/>
        </p:nvPicPr>
        <p:blipFill>
          <a:blip r:embed="rId1"/>
          <a:stretch/>
        </p:blipFill>
        <p:spPr>
          <a:xfrm>
            <a:off x="1143000" y="914400"/>
            <a:ext cx="933480" cy="8031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819520" y="102384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Обсуждение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Спасибо за работу!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914040" y="5867280"/>
            <a:ext cx="480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аместитель директора по УВР МКОУ Дулесовской ООШ Мухина А.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553080" y="304920"/>
            <a:ext cx="2057400" cy="1461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581280" y="2362320"/>
            <a:ext cx="358164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480" y="834120"/>
            <a:ext cx="6636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Проблема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как проверить, измерить, оценить на уроке эффективность, безопасность и целесообразность использование ИКТ - технологий?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38080" y="5257800"/>
            <a:ext cx="1428840" cy="1190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smile3"/>
          <p:cNvPicPr/>
          <p:nvPr/>
        </p:nvPicPr>
        <p:blipFill>
          <a:blip r:embed="rId2"/>
          <a:stretch/>
        </p:blipFill>
        <p:spPr>
          <a:xfrm>
            <a:off x="914400" y="1143000"/>
            <a:ext cx="7984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480" y="834120"/>
            <a:ext cx="67132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Вопрос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По каким критериям мы будем это делать?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8" descr="о чем задумался"/>
          <p:cNvPicPr/>
          <p:nvPr/>
        </p:nvPicPr>
        <p:blipFill>
          <a:blip r:embed="rId1"/>
          <a:stretch/>
        </p:blipFill>
        <p:spPr>
          <a:xfrm>
            <a:off x="990720" y="838080"/>
            <a:ext cx="857160" cy="914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ФГОС, услов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Функционирование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информационной образовательной среды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обеспечивается средствами ИКТ и квалификацией работников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ее использующих и поддерживающих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6" descr="Шустрик"/>
          <p:cNvPicPr/>
          <p:nvPr/>
        </p:nvPicPr>
        <p:blipFill>
          <a:blip r:embed="rId1"/>
          <a:stretch/>
        </p:blipFill>
        <p:spPr>
          <a:xfrm>
            <a:off x="7543800" y="533520"/>
            <a:ext cx="857160" cy="939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бразовательный результат по ФГОС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умение работать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в материальной и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информационной среде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начального общего образования (в том числе с учебными моделями) в соответствии с содержанием конкретного учебного предмет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Picture 6" descr="Шустрик"/>
          <p:cNvPicPr/>
          <p:nvPr/>
        </p:nvPicPr>
        <p:blipFill>
          <a:blip r:embed="rId1"/>
          <a:stretch/>
        </p:blipFill>
        <p:spPr>
          <a:xfrm>
            <a:off x="7772400" y="609480"/>
            <a:ext cx="857160" cy="939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ему мы должны научит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активное использование речевых средств и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средств информационных и коммуникационных технологий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далее - ИКТ) для решения коммуникативных и познавательных задач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Picture 6" descr="Шустрик"/>
          <p:cNvPicPr/>
          <p:nvPr/>
        </p:nvPicPr>
        <p:blipFill>
          <a:blip r:embed="rId1"/>
          <a:stretch/>
        </p:blipFill>
        <p:spPr>
          <a:xfrm>
            <a:off x="7620120" y="457200"/>
            <a:ext cx="857160" cy="939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Личностные результат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формирование установки на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безопасный, здоровый образ жизни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наличие мотивации к творческому труду, работе на результат, бережному отношению к материальным и духовным ценностям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6" descr="Шустрик"/>
          <p:cNvPicPr/>
          <p:nvPr/>
        </p:nvPicPr>
        <p:blipFill>
          <a:blip r:embed="rId1"/>
          <a:stretch/>
        </p:blipFill>
        <p:spPr>
          <a:xfrm>
            <a:off x="7543800" y="609480"/>
            <a:ext cx="857160" cy="939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олжностные обязанности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едагог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роводит обучение обучающихся в соответствии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с требованиями федеральных государственных образовательных стандартов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рганизует и контролирует их самостоятельную работу, индивидуальные образовательные траектории (программы),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используя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аиболее эффективные формы, методы и средства обучения,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новые образовательные технологии, включая информационные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6" descr="Шустрик"/>
          <p:cNvPicPr/>
          <p:nvPr/>
        </p:nvPicPr>
        <p:blipFill>
          <a:blip r:embed="rId1"/>
          <a:stretch/>
        </p:blipFill>
        <p:spPr>
          <a:xfrm>
            <a:off x="7848720" y="304920"/>
            <a:ext cx="857160" cy="939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10T20:20:27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