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F8C-885A-4372-8ABE-C739A4D6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892-7CDA-4D66-B182-E7E5DFE4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281-758B-45E0-BF05-A140AC7E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9B5-D49D-4BA4-B315-936D076A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743-AAAC-4187-9A70-CF35FC1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906-B106-4991-BB60-ACBA336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1FCA-1997-41D5-9FDD-AC96C1F2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E81-54D0-4C88-A2B1-A15C5EF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CDF-33E7-4F28-B7B9-4B4FA0A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E83-1360-41F5-AD29-8C440CD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2D5-8E79-4661-86D3-0C4474E6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8E3-AA1B-41DD-ABEF-42463BD6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C27-5C97-4B0A-BF40-01219EBEA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isability_symbols.s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"Сострадание.</a:t>
            </a:r>
            <a:br>
              <a:rPr sz="6000"/>
            </a:b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Понимание. Право на лучшую жизнь"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5295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Disability symbo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3808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"/>
          <p:cNvPicPr/>
          <p:nvPr/>
        </p:nvPicPr>
        <p:blipFill>
          <a:blip r:embed="rId1"/>
          <a:stretch/>
        </p:blipFill>
        <p:spPr>
          <a:xfrm>
            <a:off x="380880" y="228600"/>
            <a:ext cx="22100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"/>
          <p:cNvPicPr/>
          <p:nvPr/>
        </p:nvPicPr>
        <p:blipFill>
          <a:blip r:embed="rId2"/>
          <a:stretch/>
        </p:blipFill>
        <p:spPr>
          <a:xfrm>
            <a:off x="2751120" y="3733920"/>
            <a:ext cx="3344760" cy="2209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234360" y="3352680"/>
            <a:ext cx="37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й Петрович Карачен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57520" y="632376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на Малер – психолог из Швейца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1"/>
          <p:cNvPicPr/>
          <p:nvPr/>
        </p:nvPicPr>
        <p:blipFill>
          <a:blip r:embed="rId3"/>
          <a:stretch/>
        </p:blipFill>
        <p:spPr>
          <a:xfrm>
            <a:off x="3741840" y="228600"/>
            <a:ext cx="494496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5410080" y="2971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эри    Вер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3"/>
          <p:cNvPicPr/>
          <p:nvPr/>
        </p:nvPicPr>
        <p:blipFill>
          <a:blip r:embed="rId1"/>
          <a:stretch/>
        </p:blipFill>
        <p:spPr>
          <a:xfrm>
            <a:off x="461880" y="3887640"/>
            <a:ext cx="4338720" cy="243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6"/>
          <p:cNvPicPr/>
          <p:nvPr/>
        </p:nvPicPr>
        <p:blipFill>
          <a:blip r:embed="rId2"/>
          <a:stretch/>
        </p:blipFill>
        <p:spPr>
          <a:xfrm>
            <a:off x="4952880" y="3049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762120" y="1332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та и Гита Резахано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181480" y="514908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 Малыш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363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5037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огда они сильнее нас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28600" y="928800"/>
            <a:ext cx="4294080" cy="286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370400" y="3790800"/>
            <a:ext cx="4767120" cy="3067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570560" y="928800"/>
            <a:ext cx="4444920" cy="299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28600" y="3790800"/>
            <a:ext cx="41418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38080" y="237960"/>
            <a:ext cx="769644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22T19:52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