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477-D44A-4C64-B36B-922FA3BB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7B5-849B-477D-8A0C-BBD344B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775-6E2C-4C74-8DE2-9B25E683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158-032F-4FBF-83BE-23B3EF5C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3C0-0D9C-42EC-B92A-C447893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7FF-D691-41F2-AD45-E3F078C9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DF2-AFCB-4AB6-9738-29838FA9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79D-57B2-4E63-B128-978FC315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F0C-20D6-4A0B-B5F9-1A446036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3D4-A2C2-4458-B4CB-E4FA48CA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998-31D1-4ED8-A6A5-DD09F2C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A0F-3025-40AB-A3C7-16BC858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762-B295-4108-BA1C-626961BEE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sability_symbols.s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"Сострадание.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Понимание. Право на лучшую жизнь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5295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Disability 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808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"/>
          <p:cNvPicPr/>
          <p:nvPr/>
        </p:nvPicPr>
        <p:blipFill>
          <a:blip r:embed="rId1"/>
          <a:stretch/>
        </p:blipFill>
        <p:spPr>
          <a:xfrm>
            <a:off x="380880" y="228600"/>
            <a:ext cx="22100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"/>
          <p:cNvPicPr/>
          <p:nvPr/>
        </p:nvPicPr>
        <p:blipFill>
          <a:blip r:embed="rId2"/>
          <a:stretch/>
        </p:blipFill>
        <p:spPr>
          <a:xfrm>
            <a:off x="2751120" y="3733920"/>
            <a:ext cx="3344760" cy="2209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234360" y="33526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Петрович Карачен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57520" y="632376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на Малер – психолог из Швейц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1"/>
          <p:cNvPicPr/>
          <p:nvPr/>
        </p:nvPicPr>
        <p:blipFill>
          <a:blip r:embed="rId3"/>
          <a:stretch/>
        </p:blipFill>
        <p:spPr>
          <a:xfrm>
            <a:off x="3741840" y="228600"/>
            <a:ext cx="494496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5410080" y="2971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эри    Вер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461880" y="3887640"/>
            <a:ext cx="4338720" cy="243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6"/>
          <p:cNvPicPr/>
          <p:nvPr/>
        </p:nvPicPr>
        <p:blipFill>
          <a:blip r:embed="rId2"/>
          <a:stretch/>
        </p:blipFill>
        <p:spPr>
          <a:xfrm>
            <a:off x="4952880" y="304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762120" y="133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та и Гита Резахано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181480" y="51490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 Малыш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363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5037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огда они сильнее н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8600" y="928800"/>
            <a:ext cx="4294080" cy="28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370400" y="3790800"/>
            <a:ext cx="4767120" cy="306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570560" y="928800"/>
            <a:ext cx="4444920" cy="299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28600" y="3790800"/>
            <a:ext cx="4141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38080" y="237960"/>
            <a:ext cx="769644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22T19:52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