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6.wmf" ContentType="image/x-wmf"/>
  <Override PartName="/ppt/media/image19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63C-F3AF-450B-8576-6DF793FE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37C-A483-4F63-B129-EF6D8E2C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D57-C1C9-4173-ACA9-52308FEB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26A-63D6-4CAD-8CD0-E6EFB8E1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BB5-2F29-4448-90EF-8A9EF80D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57D2-2349-4726-B7B2-28A0EB1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BF9A-0B22-4790-9AF8-16D6E50B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F499-D438-43E2-B96E-CE4F2F6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32C-7329-4156-9EB0-FD5C1C5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494E-6C6E-4301-BA00-9824832D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78F-342B-4B39-A95B-EA38465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CAE-6934-4427-9E18-30413F0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F278-0396-4C02-B7AB-AE99389C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90E-F0E7-4F4C-8B7D-0E0B257D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069A-0B77-4EA3-B5D6-BB4D885F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8052-40CE-44B4-A5A1-C5272EA4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3B2F-0FEC-4FF2-A70A-83B984A6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0CD-1704-4263-B93D-22A665CF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AC5-8D45-4658-8621-C461BF14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E83-3C37-4D17-9E01-D9AF533C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579-0027-4520-B5BD-8503E50E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44D-3A5C-4D54-8285-147D014D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D5E-B426-4360-9427-B1B530F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0824-6117-43C1-B7D2-953167F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076-21CC-491E-8542-1FEC1281AD2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DCAE-8575-485C-8847-4E7B2166949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dkvartal.ru/system/ckeditor_assets/pictures/8521/content_asmq_owl.jpg?1359396541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53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042920" y="2133720"/>
            <a:ext cx="701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В магазин привезли 200 фонариков.     Из них 1% были бракованными. Сколько бракованных фонариков привезли в магазин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http://img.sotmarket.ru/img/aksessuary_automobile/fonari/fenix/f01_fenix_tk35_2.png"/>
          <p:cNvPicPr/>
          <p:nvPr/>
        </p:nvPicPr>
        <p:blipFill>
          <a:blip r:embed="rId1"/>
          <a:stretch/>
        </p:blipFill>
        <p:spPr>
          <a:xfrm>
            <a:off x="5364000" y="4653000"/>
            <a:ext cx="344808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042920" y="2565360"/>
            <a:ext cx="70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а день рождения бабушка подарила внуку 1000 рублей. На следующий день он потратил 25% этих денег. Сколько денег потратил вну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2" descr="http://im3-tub-ru.yandex.net/i?id=115651699-37-72&amp;n=21"/>
          <p:cNvPicPr/>
          <p:nvPr/>
        </p:nvPicPr>
        <p:blipFill>
          <a:blip r:embed="rId1"/>
          <a:stretch/>
        </p:blipFill>
        <p:spPr>
          <a:xfrm>
            <a:off x="5710320" y="189000"/>
            <a:ext cx="31096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332000" y="692280"/>
            <a:ext cx="672156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книге 300 страниц. Девочка прочитала 50% всех страниц. Сколько страниц прочитала девоч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5" descr="http://board.od.ua/uploads/aimages/large/517/516698-563084.jpg"/>
          <p:cNvPicPr/>
          <p:nvPr/>
        </p:nvPicPr>
        <p:blipFill>
          <a:blip r:embed="rId1"/>
          <a:srcRect l="23078" t="7894" r="25641" b="2646"/>
          <a:stretch/>
        </p:blipFill>
        <p:spPr>
          <a:xfrm>
            <a:off x="6227640" y="4797360"/>
            <a:ext cx="2916360" cy="181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476360" y="40464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В магазин привезли 80 кг фруктов. Из них 10% составляют мандарины. Сколько килограммов мандаринов привезли в магазин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5" descr="http://s016.radikal.ru/i336/1201/3d/1e41e030aafa.jpg"/>
          <p:cNvPicPr/>
          <p:nvPr/>
        </p:nvPicPr>
        <p:blipFill>
          <a:blip r:embed="rId1"/>
          <a:stretch/>
        </p:blipFill>
        <p:spPr>
          <a:xfrm>
            <a:off x="4500720" y="3789360"/>
            <a:ext cx="424800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476360" y="0"/>
            <a:ext cx="65772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Туристы наметили за день пройти    35 км. До обеда они прошли 20% намеченного пути. Сколько километров прошли туристы до обед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d0d0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2" descr="http://www.ecommerce-journal.com/uploads/posts/2013-09/1379249057_9603303_w640_h640_b4058475690.jpg"/>
          <p:cNvPicPr/>
          <p:nvPr/>
        </p:nvPicPr>
        <p:blipFill>
          <a:blip r:embed="rId1"/>
          <a:stretch/>
        </p:blipFill>
        <p:spPr>
          <a:xfrm>
            <a:off x="5076720" y="4149720"/>
            <a:ext cx="376740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187280" y="1773360"/>
            <a:ext cx="68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а счёт сотового телефона пришло 611 рублей. Сколько денег положили на телефон, если комиссионный сбор 6%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2" descr="http://im7-tub-ru.yandex.net/i?id=59047862-04-72&amp;n=21"/>
          <p:cNvPicPr/>
          <p:nvPr/>
        </p:nvPicPr>
        <p:blipFill>
          <a:blip r:embed="rId1"/>
          <a:stretch/>
        </p:blipFill>
        <p:spPr>
          <a:xfrm>
            <a:off x="6227640" y="4724280"/>
            <a:ext cx="2232000" cy="19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1403280" y="1700280"/>
            <a:ext cx="665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На соревнованиях спортсменами было сделано 300 выстрелов. Из них 87 не попало в цель. Сколько процентов всех выстрелов попало в цель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2" descr="http://www.justmedia.ru/upload/news/51e3d774ab9b4507267726_600_400.jpg"/>
          <p:cNvPicPr/>
          <p:nvPr/>
        </p:nvPicPr>
        <p:blipFill>
          <a:blip r:embed="rId1"/>
          <a:stretch/>
        </p:blipFill>
        <p:spPr>
          <a:xfrm>
            <a:off x="3635280" y="3716280"/>
            <a:ext cx="53564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1403280" y="189000"/>
            <a:ext cx="741672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В магазине куртка стоила       3000 рублей. Цену понизили на 20%. Сколько рублей стала стоить куртк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d0d0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000 : 100 = 30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30 • 20 = на 600(руб.) – снизилась цена курт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3000 – 600 = 2400(руб.) – стала стоить курт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24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2" descr="http://im8-tub-ru.yandex.net/i?id=74214918-54-72&amp;n=21"/>
          <p:cNvPicPr/>
          <p:nvPr/>
        </p:nvPicPr>
        <p:blipFill>
          <a:blip r:embed="rId1"/>
          <a:stretch/>
        </p:blipFill>
        <p:spPr>
          <a:xfrm>
            <a:off x="6443640" y="4797360"/>
            <a:ext cx="237492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1476360" y="0"/>
            <a:ext cx="6600960" cy="69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После 15 %-ной скидки покупатель купил ботинки      за 1700 рублей. Сколько стоили ботинки до скидк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1)100 – 15 = 85(%) – это 17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1700 : 85 = 20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20 • 100 = 2000(руб.) стоили ботинки до скид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20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" descr="http://im5-tub-ru.yandex.net/i?id=410273264-46-72&amp;n=21"/>
          <p:cNvPicPr/>
          <p:nvPr/>
        </p:nvPicPr>
        <p:blipFill>
          <a:blip r:embed="rId1"/>
          <a:stretch/>
        </p:blipFill>
        <p:spPr>
          <a:xfrm>
            <a:off x="6156360" y="4149720"/>
            <a:ext cx="266544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332000" y="189000"/>
            <a:ext cx="674532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Пенсионер  получал 7500 рублей. Пенсию повысили на 8%. Какова будет пенсия после повыш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1640" indent="-514440">
              <a:lnSpc>
                <a:spcPct val="100000"/>
              </a:lnSpc>
              <a:spcBef>
                <a:spcPts val="1749"/>
              </a:spcBef>
              <a:buClr>
                <a:srgbClr val="0d0d0d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7500 : 100 = 75(руб.) – это 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2) 75 • 8 = на 600(руб.) – повысили пенси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3) 7500 + 600 = 8100(РУБ.) – БУДЕТ ПЕНС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0d0d0d"/>
                </a:solidFill>
                <a:latin typeface="Tahoma"/>
              </a:rPr>
              <a:t>Ответ: 8100 руб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2" descr="http://im8-tub-ru.yandex.net/i?id=631536292-17-72&amp;n=21"/>
          <p:cNvPicPr/>
          <p:nvPr/>
        </p:nvPicPr>
        <p:blipFill>
          <a:blip r:embed="rId1"/>
          <a:stretch/>
        </p:blipFill>
        <p:spPr>
          <a:xfrm>
            <a:off x="6203880" y="4221000"/>
            <a:ext cx="250848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63440" y="-1279440"/>
            <a:ext cx="4267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565360"/>
          <a:ext cx="3672000" cy="2664000"/>
        </p:xfrm>
        <a:graphic>
          <a:graphicData uri="http://schemas.openxmlformats.org/drawingml/2006/table">
            <a:tbl>
              <a:tblPr/>
              <a:tblGrid>
                <a:gridCol w="523800"/>
                <a:gridCol w="525600"/>
                <a:gridCol w="523800"/>
                <a:gridCol w="525600"/>
                <a:gridCol w="523800"/>
                <a:gridCol w="525600"/>
                <a:gridCol w="5238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Прямоугольник 14"/>
          <p:cNvSpPr/>
          <p:nvPr/>
        </p:nvSpPr>
        <p:spPr>
          <a:xfrm>
            <a:off x="5076720" y="2997360"/>
            <a:ext cx="3095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1. Знак математического действ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2. Место, занимаемое цифрой в записи числ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3. Часть прямой, ограниченная двумя точкам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4. Единица масс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5. Наименьшее натуральное числ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6. Число, на которое нельзя дели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7. Четырёхзначное числ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1258920" y="189000"/>
            <a:ext cx="7634160" cy="57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Клиент положил на счёт банка         50000 рублей под 18% годовых. Сколько денег он снимет со счёта через год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0d0d0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50000 : 100 = 500(руб.) – это 1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2) 500 • 18 = 9000(руб.) – прибы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3) 50000 + 9000 = 59000(руб.) -  снимет со счё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d0d0d"/>
                </a:solidFill>
                <a:latin typeface="Tahoma"/>
              </a:rPr>
              <a:t>Ответ: 59000 рубл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Picture 2" descr="http://im8-tub-ru.yandex.net/i?id=126607292-39-72&amp;n=21"/>
          <p:cNvPicPr/>
          <p:nvPr/>
        </p:nvPicPr>
        <p:blipFill>
          <a:blip r:embed="rId1"/>
          <a:stretch/>
        </p:blipFill>
        <p:spPr>
          <a:xfrm>
            <a:off x="5867280" y="4724280"/>
            <a:ext cx="3276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1116000" y="1989000"/>
            <a:ext cx="696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1" lang="ru-RU" sz="6600" spc="-1" strike="noStrike">
                <a:solidFill>
                  <a:srgbClr val="0000cc"/>
                </a:solidFill>
                <a:latin typeface="Tahoma"/>
              </a:rPr>
              <a:t>ТЕСТ ДОСТИЖЕНИЙ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187280" y="2060640"/>
            <a:ext cx="68900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. Из 25 учащихся нашего класса вторую четверть без троек закончили 14 учеников. Сколько процентов учеников нашего класса закончили вторую четверть без троек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35%    б) 56%       в)49%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5867280" y="619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403280" y="0"/>
            <a:ext cx="774072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2. У двух братьев денег было поровну. Младший израсходовал 25% своих денег, а старший – четвёртую часть своих денег. У кого из них денег осталось меньш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у младшего                             б)у старшего                               в) осталось поровну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http://opekaweb.ru/sverdlovsk/datas/children_galleries/111_870_3246.jpg"/>
          <p:cNvPicPr/>
          <p:nvPr/>
        </p:nvPicPr>
        <p:blipFill>
          <a:blip r:embed="rId1"/>
          <a:stretch/>
        </p:blipFill>
        <p:spPr>
          <a:xfrm>
            <a:off x="6012000" y="2781360"/>
            <a:ext cx="313200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116000" y="1989000"/>
            <a:ext cx="68184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3. Флэшку, стоимостью        300 рублей,  уценили на 50%. Сколько таких флэшек можно купить на 675 рублей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а) 4,5      б) 5          в) 4    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5" descr="http://data.hdworld.cz/img/article/img/b7/9b1fe6eb73b8d4c04673b45e6cac0b.jpg"/>
          <p:cNvPicPr/>
          <p:nvPr/>
        </p:nvPicPr>
        <p:blipFill>
          <a:blip r:embed="rId1"/>
          <a:stretch/>
        </p:blipFill>
        <p:spPr>
          <a:xfrm>
            <a:off x="5580000" y="235080"/>
            <a:ext cx="324000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loud"/>
          <p:cNvSpPr/>
          <p:nvPr/>
        </p:nvSpPr>
        <p:spPr>
          <a:xfrm>
            <a:off x="762120" y="1523880"/>
            <a:ext cx="7619760" cy="4496040"/>
          </a:xfrm>
          <a:custGeom>
            <a:avLst/>
            <a:gdLst>
              <a:gd name="textAreaLeft" fmla="*/ 1050120 w 7619760"/>
              <a:gd name="textAreaRight" fmla="*/ 6027840 w 7619760"/>
              <a:gd name="textAreaTop" fmla="*/ 678960 h 4496040"/>
              <a:gd name="textAreaBottom" fmla="*/ 3608640 h 44960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WordArt 2"/>
          <p:cNvSpPr txBox="1"/>
          <p:nvPr/>
        </p:nvSpPr>
        <p:spPr>
          <a:xfrm>
            <a:off x="2743200" y="685800"/>
            <a:ext cx="3505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ГАД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Text Box 3"/>
          <p:cNvSpPr/>
          <p:nvPr/>
        </p:nvSpPr>
        <p:spPr>
          <a:xfrm flipH="1" flipV="1">
            <a:off x="609120" y="24382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Одной я сотою зовусь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В расчетах вам всем пригожус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Но лишь три буковки убрать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Могу я денежкою стать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4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63440" y="-1424160"/>
            <a:ext cx="476244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63440" y="-1279440"/>
            <a:ext cx="4267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4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6"/>
          <p:cNvSpPr/>
          <p:nvPr/>
        </p:nvSpPr>
        <p:spPr>
          <a:xfrm>
            <a:off x="163440" y="-2544840"/>
            <a:ext cx="7086600" cy="53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2565360"/>
          <a:ext cx="3672000" cy="2664000"/>
        </p:xfrm>
        <a:graphic>
          <a:graphicData uri="http://schemas.openxmlformats.org/drawingml/2006/table">
            <a:tbl>
              <a:tblPr/>
              <a:tblGrid>
                <a:gridCol w="523800"/>
                <a:gridCol w="525600"/>
                <a:gridCol w="523800"/>
                <a:gridCol w="525600"/>
                <a:gridCol w="523800"/>
                <a:gridCol w="525600"/>
                <a:gridCol w="5238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3419640" y="1844640"/>
            <a:ext cx="532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19080">
                <a:solidFill>
                  <a:srgbClr val="0000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0" descr="H:\Со сканера\процент.jpg"/>
          <p:cNvPicPr/>
          <p:nvPr/>
        </p:nvPicPr>
        <p:blipFill>
          <a:blip r:embed="rId1"/>
          <a:stretch/>
        </p:blipFill>
        <p:spPr>
          <a:xfrm>
            <a:off x="380880" y="2133720"/>
            <a:ext cx="2576520" cy="43434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12"/>
          <p:cNvSpPr txBox="1"/>
          <p:nvPr/>
        </p:nvSpPr>
        <p:spPr>
          <a:xfrm>
            <a:off x="5334120" y="1905120"/>
            <a:ext cx="2342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1015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0" y="683568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1773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я для человека – это сведения, которые он получает из различных источн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е – это совокупность сведений в какой – нибудь обла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755640" y="177336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е 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оцен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  происходи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олагают, от </a:t>
            </a:r>
            <a:r>
              <a:rPr b="0" lang="ru-RU" sz="3200" spc="-1" strike="noStrike">
                <a:solidFill>
                  <a:srgbClr val="404040"/>
                </a:solidFill>
                <a:latin typeface="Tahoma"/>
              </a:rPr>
              <a:t>итальян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лова     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еп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(сто)</a:t>
            </a:r>
            <a:r>
              <a:rPr b="1" lang="ru-RU" sz="3200" spc="-1" strike="noStrike">
                <a:solidFill>
                  <a:srgbClr val="40404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орое в процент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чётах часто писалось сокращ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11280" y="907920"/>
            <a:ext cx="7921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014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кты из истории:</a:t>
            </a:r>
            <a:endParaRPr b="1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 flipV="1" rot="10800000">
            <a:off x="971280" y="4644000"/>
            <a:ext cx="6769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рго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се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n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сеп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 с</a:t>
            </a:r>
            <a:r>
              <a:rPr b="1" lang="en-US" sz="2400" spc="-1" strike="noStrike">
                <a:solidFill>
                  <a:srgbClr val="0d0d0d"/>
                </a:solidFill>
                <a:latin typeface="Tahoma"/>
              </a:rPr>
              <a:t>t</a:t>
            </a:r>
            <a:r>
              <a:rPr b="1" lang="ru-RU" sz="2400" spc="-1" strike="noStrike">
                <a:solidFill>
                  <a:srgbClr val="0d0d0d"/>
                </a:solidFill>
                <a:latin typeface="Tahoma"/>
              </a:rPr>
              <a:t>о —&gt;с/о —&gt; 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3429000" y="685800"/>
            <a:ext cx="2247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З ИСТОРИ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133720"/>
            <a:ext cx="746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ahoma"/>
              </a:rPr>
              <a:t>Знак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%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зошел благодаря опечатке. В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1685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. в Париже была напечатана книга, где наборщик вместо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to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брал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C:\Program Files\Common Files\Microsoft Shared\Clipart\cagcat50\BS00554_.wmf"/>
          <p:cNvPicPr/>
          <p:nvPr/>
        </p:nvPicPr>
        <p:blipFill>
          <a:blip r:embed="rId3"/>
          <a:stretch/>
        </p:blipFill>
        <p:spPr>
          <a:xfrm>
            <a:off x="3657600" y="4581360"/>
            <a:ext cx="221616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45572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2" descr="http://im5-tub-ru.yandex.net/i?id=9210129-24-72&amp;n=21"/>
          <p:cNvPicPr/>
          <p:nvPr/>
        </p:nvPicPr>
        <p:blipFill>
          <a:blip r:embed="rId1"/>
          <a:stretch/>
        </p:blipFill>
        <p:spPr>
          <a:xfrm>
            <a:off x="395280" y="256536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rewalls.com/large/201105/33177.jpg"/>
          <p:cNvPicPr/>
          <p:nvPr/>
        </p:nvPicPr>
        <p:blipFill>
          <a:blip r:embed="rId2"/>
          <a:stretch/>
        </p:blipFill>
        <p:spPr>
          <a:xfrm>
            <a:off x="6084720" y="549360"/>
            <a:ext cx="2694240" cy="182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www.look.com.ua/download.php?file=201209/640x480/look.com.ua-45931.jpg"/>
          <p:cNvPicPr/>
          <p:nvPr/>
        </p:nvPicPr>
        <p:blipFill>
          <a:blip r:embed="rId3"/>
          <a:srcRect l="0" t="33079" r="43306" b="0"/>
          <a:stretch/>
        </p:blipFill>
        <p:spPr>
          <a:xfrm>
            <a:off x="6588000" y="2708280"/>
            <a:ext cx="2414880" cy="2138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1547640" y="260280"/>
            <a:ext cx="2783160" cy="208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im5-tub-ru.yandex.net/i?id=173522940-53-72&amp;n=21"/>
          <p:cNvPicPr/>
          <p:nvPr/>
        </p:nvPicPr>
        <p:blipFill>
          <a:blip r:embed="rId5"/>
          <a:stretch/>
        </p:blipFill>
        <p:spPr>
          <a:xfrm>
            <a:off x="250920" y="4797360"/>
            <a:ext cx="2665440" cy="1716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http://im5-tub-ru.yandex.net/i?id=79312092-42-72&amp;n=21"/>
          <p:cNvPicPr/>
          <p:nvPr/>
        </p:nvPicPr>
        <p:blipFill>
          <a:blip r:embed="rId6"/>
          <a:stretch/>
        </p:blipFill>
        <p:spPr>
          <a:xfrm>
            <a:off x="3708360" y="4797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9"/>
          <p:cNvSpPr/>
          <p:nvPr/>
        </p:nvSpPr>
        <p:spPr>
          <a:xfrm>
            <a:off x="3132000" y="270828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100 %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2" descr="http://im5-tub-ru.yandex.net/i?id=79312092-42-72&amp;n=21"/>
          <p:cNvPicPr/>
          <p:nvPr/>
        </p:nvPicPr>
        <p:blipFill>
          <a:blip r:embed="rId7"/>
          <a:stretch/>
        </p:blipFill>
        <p:spPr>
          <a:xfrm>
            <a:off x="3708360" y="498636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im5-tub-ru.yandex.net/i?id=79312092-42-72&amp;n=21"/>
          <p:cNvPicPr/>
          <p:nvPr/>
        </p:nvPicPr>
        <p:blipFill>
          <a:blip r:embed="rId8"/>
          <a:stretch/>
        </p:blipFill>
        <p:spPr>
          <a:xfrm>
            <a:off x="3860640" y="513864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332000" y="260280"/>
            <a:ext cx="6408720" cy="564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%</a:t>
            </a:r>
            <a:r>
              <a:rPr b="0" lang="ru-RU" sz="3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3600" spc="-1" strike="noStrike">
                <a:solidFill>
                  <a:srgbClr val="404040"/>
                </a:solidFill>
                <a:latin typeface="Tahoma"/>
              </a:rPr>
              <a:t>0,0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100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1  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50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25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                 </a:t>
            </a:r>
            <a:r>
              <a:rPr b="0" lang="ru-RU" sz="3600" spc="-1" strike="noStrike">
                <a:solidFill>
                  <a:srgbClr val="0d0d0d"/>
                </a:solidFill>
                <a:latin typeface="Tahoma"/>
              </a:rPr>
              <a:t>75%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843280" y="981000"/>
                <a:ext cx="67932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6400800" y="2743200"/>
                <a:ext cx="307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1"/>
              <p:cNvSpPr txBox="1"/>
              <p:nvPr/>
            </p:nvSpPr>
            <p:spPr>
              <a:xfrm>
                <a:off x="2743200" y="4419720"/>
                <a:ext cx="54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477120" y="4419720"/>
                <a:ext cx="30780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20"/>
          <p:cNvSpPr/>
          <p:nvPr/>
        </p:nvSpPr>
        <p:spPr>
          <a:xfrm>
            <a:off x="1676520" y="3581280"/>
            <a:ext cx="457200" cy="457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2"/>
          <p:cNvSpPr/>
          <p:nvPr/>
        </p:nvSpPr>
        <p:spPr>
          <a:xfrm flipH="1">
            <a:off x="5028480" y="3581280"/>
            <a:ext cx="228600" cy="457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5257800" y="3581280"/>
            <a:ext cx="22860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16765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1905120" y="53341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16765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51055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19051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3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5105520" y="55627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5334120" y="5334120"/>
            <a:ext cx="228600" cy="2286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7:56:51Z</dcterms:created>
  <dc:creator>admin</dc:creator>
  <dc:description/>
  <dc:language>en-US</dc:language>
  <cp:lastModifiedBy>user</cp:lastModifiedBy>
  <dcterms:modified xsi:type="dcterms:W3CDTF">2014-06-23T07:00:37Z</dcterms:modified>
  <cp:revision>95</cp:revision>
  <dc:subject/>
  <dc:title>Презентация PowerPoint</dc:title>
</cp:coreProperties>
</file>