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74F-A4A5-4F17-9727-17E357EA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90A-68AA-45D0-AD89-E0E501B9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EB4-1D00-4BAF-9FD4-53B7AACF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531-DE13-4122-8045-3325AEF6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FE9-DC7A-4D2B-A9F9-2BF20A1C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4D0-987E-4964-AB9E-3F42F2E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F6D-4B7A-4D01-995B-CA13C5F1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DCB-FE2B-49AD-BAC3-6CB3007E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E1B-99A4-40A4-81BD-EB05F615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2D1-C58D-4E41-BCFE-38EF79C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28F-7E7B-4025-B1B7-F61717E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203-14C6-4226-BD09-77A361A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F885-C3AD-4411-A4D8-A0A2BADBFA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новление индустриального об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388584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и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хайленко Н.А.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БОУ школа №122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ыночные отнош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8" name="_s17423"/>
            <p:cNvCxnSpPr>
              <a:stCxn id="79" idx="0"/>
              <a:endCxn id="80" idx="2"/>
            </p:cNvCxnSpPr>
            <p:nvPr/>
          </p:nvCxnSpPr>
          <p:spPr>
            <a:xfrm flipV="1" rot="16200000">
              <a:off x="57189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" name="_s17420"/>
            <p:cNvCxnSpPr>
              <a:stCxn id="82" idx="0"/>
              <a:endCxn id="80" idx="2"/>
            </p:cNvCxnSpPr>
            <p:nvPr/>
          </p:nvCxnSpPr>
          <p:spPr>
            <a:xfrm flipV="1" rot="16200000">
              <a:off x="4652280" y="332820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17419"/>
            <p:cNvCxnSpPr>
              <a:stCxn id="84" idx="0"/>
              <a:endCxn id="80" idx="2"/>
            </p:cNvCxnSpPr>
            <p:nvPr/>
          </p:nvCxnSpPr>
          <p:spPr>
            <a:xfrm flipH="1" flipV="1" rot="5400000">
              <a:off x="358560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7418"/>
            <p:cNvCxnSpPr>
              <a:stCxn id="86" idx="0"/>
              <a:endCxn id="80" idx="2"/>
            </p:cNvCxnSpPr>
            <p:nvPr/>
          </p:nvCxnSpPr>
          <p:spPr>
            <a:xfrm flipH="1" flipV="1" rot="5400000">
              <a:off x="2518920" y="226152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" name="_s17414"/>
            <p:cNvSpPr/>
            <p:nvPr/>
          </p:nvSpPr>
          <p:spPr>
            <a:xfrm>
              <a:off x="3657600" y="160020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Свобо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7415"/>
            <p:cNvSpPr/>
            <p:nvPr/>
          </p:nvSpPr>
          <p:spPr>
            <a:xfrm>
              <a:off x="45720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родавцо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 покупател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7416"/>
            <p:cNvSpPr/>
            <p:nvPr/>
          </p:nvSpPr>
          <p:spPr>
            <a:xfrm>
              <a:off x="259056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товаро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7417"/>
            <p:cNvSpPr/>
            <p:nvPr/>
          </p:nvSpPr>
          <p:spPr>
            <a:xfrm>
              <a:off x="472428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це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7422"/>
            <p:cNvSpPr/>
            <p:nvPr/>
          </p:nvSpPr>
          <p:spPr>
            <a:xfrm>
              <a:off x="685764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информ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является главным стимулом в развитии производства. В ходе конкуренции   предприниматели, стремясь получить дополнительную прибыль, внедряют на производстве технические изобретения, стремятся уменьшить производственные затраты, сэкономить на энергии и сырье, желая привлечь покупателей, уменьшают цену товаров, улучшают их качество, разнообразят ассорти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рыночной экономики происходит по сх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изис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стой в производстве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ъем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изи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200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нопол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80-1890-х гг. на смену обществу свободной конкуренции приходит общество, в котором главную роль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играют крупные союзы капиталистов - монопо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монопол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219320"/>
          <a:ext cx="8153280" cy="525780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359000"/>
                <a:gridCol w="1358640"/>
              </a:tblGrid>
              <a:tr h="69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по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ниматели договариваются 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ах произво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нках сбыта и источниках сыр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и общего торгового аппар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го производственного аппар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к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р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рн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рнизация – это долгий процесс, который охватывает технику и технологии, социальные, политико-правовые отношения и духовную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рнизация            индустриал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Какое событие становится началом индустриализ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733920"/>
            <a:ext cx="976320" cy="714240"/>
          </a:xfrm>
          <a:prstGeom prst="rightArrow">
            <a:avLst>
              <a:gd name="adj1" fmla="val 50000"/>
              <a:gd name="adj2" fmla="val 34173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дустриал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чной труд                 машинный тр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нуфактура               фаб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ловия                    классы пролетариата и буржуаз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Аграрная революция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беда в деревне товарно-денежных отношений и наемного тр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1600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дернизация в социальной сфер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ничтожение сословных перегородок и огранич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меньшение зависимости человека от социального происхо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одернизация в политической области проявляется в демократизации общ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Демократизаци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это становление правового государ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52279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04920"/>
            <a:ext cx="8228880" cy="5803560"/>
            <a:chOff x="457200" y="304920"/>
            <a:chExt cx="8228880" cy="5803560"/>
          </a:xfrm>
        </p:grpSpPr>
        <p:cxnSp>
          <p:nvCxnSpPr>
            <p:cNvPr id="57" name="_s11278"/>
            <p:cNvCxnSpPr>
              <a:stCxn id="58" idx="0"/>
              <a:endCxn id="59" idx="2"/>
            </p:cNvCxnSpPr>
            <p:nvPr/>
          </p:nvCxnSpPr>
          <p:spPr>
            <a:xfrm flipV="1" rot="16200000">
              <a:off x="5430960" y="1765800"/>
              <a:ext cx="116136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" name="_s11277"/>
            <p:cNvCxnSpPr>
              <a:stCxn id="61" idx="0"/>
              <a:endCxn id="59" idx="2"/>
            </p:cNvCxnSpPr>
            <p:nvPr/>
          </p:nvCxnSpPr>
          <p:spPr>
            <a:xfrm flipV="1">
              <a:off x="4571280" y="2625840"/>
              <a:ext cx="3240" cy="1161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" name="_s11276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550600" y="1766160"/>
              <a:ext cx="116136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" name="_s11272"/>
            <p:cNvSpPr/>
            <p:nvPr/>
          </p:nvSpPr>
          <p:spPr>
            <a:xfrm>
              <a:off x="3337200" y="30492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Основ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чер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равовог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государств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11273"/>
            <p:cNvSpPr/>
            <p:nvPr/>
          </p:nvSpPr>
          <p:spPr>
            <a:xfrm>
              <a:off x="457200" y="378720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Верховен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о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_s11274"/>
            <p:cNvSpPr/>
            <p:nvPr/>
          </p:nvSpPr>
          <p:spPr>
            <a:xfrm>
              <a:off x="3337200" y="378720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аздел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власте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11275"/>
            <p:cNvSpPr/>
            <p:nvPr/>
          </p:nvSpPr>
          <p:spPr>
            <a:xfrm>
              <a:off x="6217560" y="378720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Граждански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рав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и свобо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7200" y="228600"/>
            <a:ext cx="8228880" cy="6246720"/>
            <a:chOff x="457200" y="228600"/>
            <a:chExt cx="8228880" cy="6246720"/>
          </a:xfrm>
        </p:grpSpPr>
        <p:cxnSp>
          <p:nvCxnSpPr>
            <p:cNvPr id="65" name="_s13335"/>
            <p:cNvCxnSpPr>
              <a:stCxn id="66" idx="0"/>
              <a:endCxn id="67" idx="2"/>
            </p:cNvCxnSpPr>
            <p:nvPr/>
          </p:nvCxnSpPr>
          <p:spPr>
            <a:xfrm flipV="1" rot="16200000">
              <a:off x="5386680" y="1911240"/>
              <a:ext cx="1249920" cy="288072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" name="_s13334"/>
            <p:cNvCxnSpPr>
              <a:stCxn id="69" idx="0"/>
              <a:endCxn id="67" idx="2"/>
            </p:cNvCxnSpPr>
            <p:nvPr/>
          </p:nvCxnSpPr>
          <p:spPr>
            <a:xfrm flipV="1">
              <a:off x="4571280" y="2727000"/>
              <a:ext cx="3240" cy="124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13333"/>
            <p:cNvCxnSpPr>
              <a:stCxn id="71" idx="0"/>
              <a:endCxn id="67" idx="2"/>
            </p:cNvCxnSpPr>
            <p:nvPr/>
          </p:nvCxnSpPr>
          <p:spPr>
            <a:xfrm flipH="1" flipV="1" rot="5400000">
              <a:off x="2506320" y="1911600"/>
              <a:ext cx="1249920" cy="288072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" name="_s13329"/>
            <p:cNvSpPr/>
            <p:nvPr/>
          </p:nvSpPr>
          <p:spPr>
            <a:xfrm>
              <a:off x="3337200" y="22860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аздел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власте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3330"/>
            <p:cNvSpPr/>
            <p:nvPr/>
          </p:nvSpPr>
          <p:spPr>
            <a:xfrm>
              <a:off x="457200" y="397656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Законодат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13331"/>
            <p:cNvSpPr/>
            <p:nvPr/>
          </p:nvSpPr>
          <p:spPr>
            <a:xfrm>
              <a:off x="3337200" y="397656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сполнит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13332"/>
            <p:cNvSpPr/>
            <p:nvPr/>
          </p:nvSpPr>
          <p:spPr>
            <a:xfrm>
              <a:off x="6217560" y="397656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удеб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шелон – это порядок войск, при котором второй эшелон располагается за первым, третий за вторым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ывая сроки начала модернизации, а также особенности протекания этого процесса,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ыделяют три эшелона модер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шелоны модер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15-17 вв. – Англия, Франция, Голланд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2. Середина 19 века – США, Германия, Италия, Россия, Япо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20 век – Латинская Америка, страны Вост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4-12-23T19:41:5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