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191-14B7-4E1E-8EC3-BF43CEC4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07E-C7E1-47E7-AFDC-49E66A8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6C1-89A3-4AA4-BF6A-072B412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951-8CFE-4F22-B642-7DEE35A4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5D0-75B4-44B8-AE9E-37D1AD97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E17-038E-4DC2-8E9C-DDC97C9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FB2-7B6B-444F-85A1-59CA9A8E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D4C-A6D4-4E79-AFA4-8419AE0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FBD-05A7-4492-88F9-11ECF5FF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A29-2432-4A83-A509-97335F2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DD1-3831-4A9E-8937-0B1EEA9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605-36D8-49C8-8CE2-9A77D10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F613-92EC-4962-A221-45D3B9BBB1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новление индустриального общест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388584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и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ихайленко Н.А.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БОУ школа №122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ыночные отношени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8" name="_s17423"/>
            <p:cNvCxnSpPr>
              <a:stCxn id="79" idx="0"/>
              <a:endCxn id="80" idx="2"/>
            </p:cNvCxnSpPr>
            <p:nvPr/>
          </p:nvCxnSpPr>
          <p:spPr>
            <a:xfrm flipV="1" rot="16200000">
              <a:off x="57189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1" name="_s17420"/>
            <p:cNvCxnSpPr>
              <a:stCxn id="82" idx="0"/>
              <a:endCxn id="80" idx="2"/>
            </p:cNvCxnSpPr>
            <p:nvPr/>
          </p:nvCxnSpPr>
          <p:spPr>
            <a:xfrm flipV="1" rot="16200000">
              <a:off x="4652280" y="332820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17419"/>
            <p:cNvCxnSpPr>
              <a:stCxn id="84" idx="0"/>
              <a:endCxn id="80" idx="2"/>
            </p:cNvCxnSpPr>
            <p:nvPr/>
          </p:nvCxnSpPr>
          <p:spPr>
            <a:xfrm flipH="1" flipV="1" rot="5400000">
              <a:off x="358560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7418"/>
            <p:cNvCxnSpPr>
              <a:stCxn id="86" idx="0"/>
              <a:endCxn id="80" idx="2"/>
            </p:cNvCxnSpPr>
            <p:nvPr/>
          </p:nvCxnSpPr>
          <p:spPr>
            <a:xfrm flipH="1" flipV="1" rot="5400000">
              <a:off x="2518920" y="226152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0" name="_s17414"/>
            <p:cNvSpPr/>
            <p:nvPr/>
          </p:nvSpPr>
          <p:spPr>
            <a:xfrm>
              <a:off x="3657600" y="160020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Свобо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7415"/>
            <p:cNvSpPr/>
            <p:nvPr/>
          </p:nvSpPr>
          <p:spPr>
            <a:xfrm>
              <a:off x="45720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Продавцов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 покупателе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7416"/>
            <p:cNvSpPr/>
            <p:nvPr/>
          </p:nvSpPr>
          <p:spPr>
            <a:xfrm>
              <a:off x="259056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товаро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17417"/>
            <p:cNvSpPr/>
            <p:nvPr/>
          </p:nvSpPr>
          <p:spPr>
            <a:xfrm>
              <a:off x="472428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це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_s17422"/>
            <p:cNvSpPr/>
            <p:nvPr/>
          </p:nvSpPr>
          <p:spPr>
            <a:xfrm>
              <a:off x="6857640" y="431496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информаци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является главным стимулом в развитии производства. В ходе конкуренции   предприниматели, стремясь получить дополнительную прибыль, внедряют на производстве технические изобретения, стремятся уменьшить производственные затраты, сэкономить на энергии и сырье, желая привлечь покупателей, уменьшают цену товаров, улучшают их качество, разнообразят ассортим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е рыночной экономики происходит по сх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изис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стой в производстве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ъем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изи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752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514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3200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нопол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880-1890-х гг. на смену обществу свободной конкуренции приходит общество, в котором главную роль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играют крупные союзы капиталистов - монопол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монопол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219320"/>
          <a:ext cx="8153280" cy="525780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359000"/>
                <a:gridCol w="1358640"/>
              </a:tblGrid>
              <a:tr h="69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нопол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ниматели договариваются 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мерах производ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нках сбыта и источниках сыр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и общего торгового аппар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го производственного аппар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ик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цер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рн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рнизация – это долгий процесс, который охватывает технику и технологии, социальные, политико-правовые отношения и духовную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дернизация            индустриал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Какое событие становится началом индустриализа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733920"/>
            <a:ext cx="976320" cy="714240"/>
          </a:xfrm>
          <a:prstGeom prst="rightArrow">
            <a:avLst>
              <a:gd name="adj1" fmla="val 50000"/>
              <a:gd name="adj2" fmla="val 34173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дустриализа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чной труд                 машинный тр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нуфактура               фаб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ловия                    классы пролетариата и буржуаз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Аграрная революция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беда в деревне товарно-денежных отношений и наемного тр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1600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8954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дернизация в социальной сфер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ничтожение сословных перегородок и огранич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меньшение зависимости человека от социального происхо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одернизация в политической области проявляется в демократизации общ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Демократизаци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это становление правового государ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522792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04920"/>
            <a:ext cx="8228880" cy="5803560"/>
            <a:chOff x="457200" y="304920"/>
            <a:chExt cx="8228880" cy="5803560"/>
          </a:xfrm>
        </p:grpSpPr>
        <p:cxnSp>
          <p:nvCxnSpPr>
            <p:cNvPr id="57" name="_s11278"/>
            <p:cNvCxnSpPr>
              <a:stCxn id="58" idx="0"/>
              <a:endCxn id="59" idx="2"/>
            </p:cNvCxnSpPr>
            <p:nvPr/>
          </p:nvCxnSpPr>
          <p:spPr>
            <a:xfrm flipV="1" rot="16200000">
              <a:off x="5430960" y="1765800"/>
              <a:ext cx="116136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" name="_s11277"/>
            <p:cNvCxnSpPr>
              <a:stCxn id="61" idx="0"/>
              <a:endCxn id="59" idx="2"/>
            </p:cNvCxnSpPr>
            <p:nvPr/>
          </p:nvCxnSpPr>
          <p:spPr>
            <a:xfrm flipV="1">
              <a:off x="4571280" y="2625840"/>
              <a:ext cx="3240" cy="1161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" name="_s11276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550600" y="1766160"/>
              <a:ext cx="116136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" name="_s11272"/>
            <p:cNvSpPr/>
            <p:nvPr/>
          </p:nvSpPr>
          <p:spPr>
            <a:xfrm>
              <a:off x="3337200" y="30492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Основ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черт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равовог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государств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_s11273"/>
            <p:cNvSpPr/>
            <p:nvPr/>
          </p:nvSpPr>
          <p:spPr>
            <a:xfrm>
              <a:off x="457200" y="378720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Верховен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зако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_s11274"/>
            <p:cNvSpPr/>
            <p:nvPr/>
          </p:nvSpPr>
          <p:spPr>
            <a:xfrm>
              <a:off x="3337200" y="378720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аздел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власте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_s11275"/>
            <p:cNvSpPr/>
            <p:nvPr/>
          </p:nvSpPr>
          <p:spPr>
            <a:xfrm>
              <a:off x="6217560" y="3787200"/>
              <a:ext cx="2468520" cy="2321280"/>
            </a:xfrm>
            <a:prstGeom prst="roundRect">
              <a:avLst>
                <a:gd name="adj" fmla="val 16667"/>
              </a:avLst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Граждански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права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и свобод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457200" y="228600"/>
            <a:ext cx="8228880" cy="6246720"/>
            <a:chOff x="457200" y="228600"/>
            <a:chExt cx="8228880" cy="6246720"/>
          </a:xfrm>
        </p:grpSpPr>
        <p:cxnSp>
          <p:nvCxnSpPr>
            <p:cNvPr id="65" name="_s13335"/>
            <p:cNvCxnSpPr>
              <a:stCxn id="66" idx="0"/>
              <a:endCxn id="67" idx="2"/>
            </p:cNvCxnSpPr>
            <p:nvPr/>
          </p:nvCxnSpPr>
          <p:spPr>
            <a:xfrm flipV="1" rot="16200000">
              <a:off x="5386680" y="1911240"/>
              <a:ext cx="1249920" cy="288072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8" name="_s13334"/>
            <p:cNvCxnSpPr>
              <a:stCxn id="69" idx="0"/>
              <a:endCxn id="67" idx="2"/>
            </p:cNvCxnSpPr>
            <p:nvPr/>
          </p:nvCxnSpPr>
          <p:spPr>
            <a:xfrm flipV="1">
              <a:off x="4571280" y="2727000"/>
              <a:ext cx="3240" cy="1249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0" name="_s13333"/>
            <p:cNvCxnSpPr>
              <a:stCxn id="71" idx="0"/>
              <a:endCxn id="67" idx="2"/>
            </p:cNvCxnSpPr>
            <p:nvPr/>
          </p:nvCxnSpPr>
          <p:spPr>
            <a:xfrm flipH="1" flipV="1" rot="5400000">
              <a:off x="2506320" y="1911600"/>
              <a:ext cx="1249920" cy="2880720"/>
            </a:xfrm>
            <a:prstGeom prst="bentConnector3">
              <a:avLst>
                <a:gd name="adj1" fmla="val 127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" name="_s13329"/>
            <p:cNvSpPr/>
            <p:nvPr/>
          </p:nvSpPr>
          <p:spPr>
            <a:xfrm>
              <a:off x="3337200" y="22860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Раздел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власте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3330"/>
            <p:cNvSpPr/>
            <p:nvPr/>
          </p:nvSpPr>
          <p:spPr>
            <a:xfrm>
              <a:off x="457200" y="397656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Законодат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13331"/>
            <p:cNvSpPr/>
            <p:nvPr/>
          </p:nvSpPr>
          <p:spPr>
            <a:xfrm>
              <a:off x="3337200" y="397656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Исполните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13332"/>
            <p:cNvSpPr/>
            <p:nvPr/>
          </p:nvSpPr>
          <p:spPr>
            <a:xfrm>
              <a:off x="6217560" y="3976560"/>
              <a:ext cx="2468520" cy="2498760"/>
            </a:xfrm>
            <a:custGeom>
              <a:avLst/>
              <a:gdLst>
                <a:gd name="textAreaLeft" fmla="*/ 120240 w 2468520"/>
                <a:gd name="textAreaRight" fmla="*/ 2348280 w 2468520"/>
                <a:gd name="textAreaTop" fmla="*/ 120240 h 2498760"/>
                <a:gd name="textAreaBottom" fmla="*/ 2378520 h 2498760"/>
              </a:gdLst>
              <a:ahLst/>
              <a:rect l="textAreaLeft" t="textAreaTop" r="textAreaRight" b="textAreaBottom"/>
              <a:pathLst>
                <a:path w="21600" h="21865">
                  <a:moveTo>
                    <a:pt x="3600" y="0"/>
                  </a:moveTo>
                  <a:arcTo wR="3600" hR="3600" stAng="16200000" swAng="-5400000"/>
                  <a:lnTo>
                    <a:pt x="0" y="18265"/>
                  </a:lnTo>
                  <a:arcTo wR="3600" hR="3600" stAng="10800000" swAng="-5400000"/>
                  <a:lnTo>
                    <a:pt x="18000" y="21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Судеб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шелон – это порядок войск, при котором второй эшелон располагается за первым, третий за вторым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ывая сроки начала модернизации, а также особенности протекания этого процесса,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ыделяют три эшелона модерн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Эшелоны модер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15-17 вв. – Англия, Франция, Голланд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2. Середина 19 века – США, Германия, Италия, Россия, Япо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20 век – Латинская Америка, страны Вост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4-12-23T19:41:5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