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517-E369-4109-87C4-7B43A24D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CC6-15CB-4F54-A13D-57984AAA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87E-5CBA-4B2D-9CAA-A042990F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02F-E0D6-47C5-A14C-F886D0D1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A4A7-8A39-4F47-9220-66606EF0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96D7-67AB-428A-AD75-4A7A7619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D113-545D-4172-A5F8-E99409E6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11AB-FB80-4C0A-8D48-7F69B609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ECB4-C986-4835-85C7-6919FF3A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5B85-363F-45E9-B8A7-E39C1D89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7C47-6C49-4B7A-8CBB-011C3144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C87-B405-48AA-8FEB-9F94BEF2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40BB-A7D5-4D5C-8BD0-8D153D03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B7D2-B389-479F-BA89-352A622B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B8A9-A529-421C-8E7A-C646E9A2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6A74-2AD4-466E-9A02-EB8DA64C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93AC-D1F2-4A95-A0BF-C7C5E3C2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7BF-2C77-4B52-ADBE-6EACA9BD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7E8-7FD1-4AFB-95BC-294E9BBD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30F-BA6E-4EB6-9E81-04039D5B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72C-8F58-4989-A7E1-12D05DF6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21D-96D2-48CB-9780-E1A5EABA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83C-5F32-4E75-A7E8-6F303BA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FAE-935B-4C6E-96F4-47DFA37F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7968-18AF-4CB5-9E02-165567947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B35A-652A-4455-84FF-8B59D7840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Script MT Bold"/>
              </a:rPr>
              <a:t>Биоэтические проблемы суррогатного материнства</a:t>
            </a:r>
            <a:endParaRPr b="0" lang="en-US" sz="4000" spc="-1" strike="noStrike">
              <a:solidFill>
                <a:srgbClr val="ff0066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705636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404280"/>
            <a:ext cx="8135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т. 55 Федерального закона от 21 ноября 2011 г. «Об основах охраны здоровья граждан Российской Федерации» представлен юридический порядок применения суррогатного материнства (далее — СМ), метода, далеко отстоящего от принципов этики и морали. Использование метода СМ сопряжено с рядом этических пробл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гроза психическому и физическому здоровью суррогатной матери и ребё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рушение понятий, обозначающих кровнородственные 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хранение тайны происхождения ребё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гативное влияние на психику потенциальных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ммерциализация материнства (матка напрокат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упля-продажа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Угроза психическому и физическому здоровью суррогатной матери и ребенка.</a:t>
            </a:r>
            <a:br>
              <a:rPr sz="4000"/>
            </a:br>
            <a:endParaRPr b="0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20636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Риск осложнения беременности у суррогатной матери ранним токсикозом беременных выше, чем у женщин, беременных генетически своим ребенком. При обычной беременности половина генотипа плода принадлежит матери, а суррогатная мать вынашивает полностью генетически чужеродный плод. Реакции отторжения, которые выражаются слабостью, потерей аппетита, рвотой, снижением веса, апатией, тревогой, мнительностью, раздражительностью, у суррогатных матерей могут быть физиологически гораздо сильнее выражены чем у женщины, вынашивающей собственного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Защитники СМ постоянно, говоря о сочувствии к женщине, потерявшей возможность (или изначально не имевшей) самой выносить своего ребенка, или о неповторимом счастье тех, кто обрел материнство с помощью суррогатного материнства, умалчивают про другую женщину – суррогатную мать. Как правило суррогатная мать во время и после передачи ребёнка родителям-заказчикам, т.е. после того как она отделена от своего ребёнка, испытывает сильнейшую психологическую травму. Суррогатная мать может глубоко привязаться к вынашиваемому ребенку в силу тесной биологической связи с ним в период его созревания. Разрыв связи с матерью, выносившей тего, приводит к глубокой психологической травме и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343800"/>
            <a:ext cx="842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Более того, можно ожидать и принципиальное изменение со стороны психологического статуса женщины, которая носит ребёнка и знает, что он никогда не будет ей принадлежать. Невозможность реализации естественных потребностей беременной матери, вызывает стресс, депрессию, психопатические реакции вредные, и женщине, и ребенку. Под действием стресса, мозг суррогатной матери выделяет меньше гормонов эндорфинов, от количества которых зависит скорость обменных процессов и работа всех органов организма беременной женщины, а, следовательно, и состояние организма ребенка. Стресс во время беременности увеличивает риск как психологической ущербности ребенка в будущем, так и может приводить к физическим патологиям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Очевидная манипуляция телесной природой ребенка, получающего генетическое наследие от двух определенных лиц и вместе с тем кровь, питание, жизненное внутриматочное обеспечение от третьего лица — суррогатной матери, в будущем может иметь последствия и на психическом уровн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Сравнение суррогатной матери с кормилицей и утверждение, что такого рода «помощь» не только допустима, но и является выражением альтруизма, крайне сомнительны, т. к. интенсивность отношений между суррогатной матерью и плодом и между няней и ребёнком в корне отли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Разрушение понятий, обозначающих кровнородственные связи.</a:t>
            </a:r>
            <a:br>
              <a:rPr sz="3200"/>
            </a:b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64700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В 1991 году Арлет Швейцер стала первой в США суррогатной матерью для эмбриона собственной дочери. Она родила через кесарево сечение двойню собственных внуков – мальчика и девочку. Подобный случай был в Южной Африке: яйцеклетка молодой женщины (с врожденным отсутствием матки), оплодотворенная сперматозоидом её мужа, была пересажена в матку её матери — будущей бабушки. В приведенных примерах одна женщина одновременно и бабушка, и мать. Подобные ситуации порождают смешение, размывание понятий (мать, бабушка, сын, внук), традиционно служащих для обозначения кровнородственных связей. В ситуации утраты смысла и однозначности понятий дети могут стать жертвой личностного кризиса на почве недостаточной ясности их происхождения и отношений с тем или иным членом семьи. Как повлияет на ребенка известие, что бабушка в тоже время доводится ему мамой? Как объяснить эту ситуацию ребенку, и сможет ли сам он внятно объяснить её учителям и одноклассникам, не превращаясь в мишень для насмеш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Сохранение тайны происхождения ребёнка.</a:t>
            </a:r>
            <a:br>
              <a:rPr sz="4000"/>
            </a:b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834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Не менее значима и проблема сохранения тайны происхождения ребенка. Те, кто был так или иначе причастен ситуации с СМ, признают, что буквально разрываются между необходимостью блюсти тайну и желанием открыть 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Негативное влияние на психику потенциальных родителей.</a:t>
            </a:r>
            <a:br>
              <a:rPr sz="4000"/>
            </a:b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599840"/>
            <a:ext cx="835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Негативное влияние на психику биологических родителей может быть вызвано следующими причин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- опасение за расторжение договора суррогатной матерью или её исчезнов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- страхи женщины, связанные с вынашиванием её ребенка другой женщиной (а не делает ли она что-нибудь неполезное ребёнку, не полюбила ли она его больше, чем я?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- отсутствие гарантии того, что после рождения ребёнка биологические родители не будут подсознательно искать у него черты сходства с той женщиной, которая его носила, особенно, если например, возникнут проблемы в подростковом возрасте (“А это правда мой ребёнок? А может быть, все-таки не мой, потому что не я его носила?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Коммерциализация материнства («матка напрокат»)</a:t>
            </a: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87380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Если суррогатная мать — это мать (или родственница) бесплодной женщины, абсолютность альтруистических мотивов поступка несомненна. Это случай некоммерческого суррогатного материнства. Если же суррогатная мать — посторонняя женщина, то это случай коммерческой услуги. Коммерческие предложения для потенциальных суррогатных матерей сегодня уже открыто размещаются в газетных рубриках по предложению рабочих мест или газетах. Например,в газете «Куда пойти работать?» размещено объявление Московской клиники репродукции «ВИТА НОВА» с приглашением женщин в возрасте от 20 до 35 лет в качестве суррогатных матерей и доноров яйцеклеток за «гарантированную компенсацию до 900000 рубл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Купля-продажа детей.</a:t>
            </a:r>
            <a:br>
              <a:rPr sz="3600"/>
            </a:br>
            <a:endParaRPr b="0" lang="en-US" sz="36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062000"/>
            <a:ext cx="813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Объектом договора купли-продажи является не только биологическая способность к деторождению суррогатной матери, но и сам ребенок. Если бы объектом купли-продажи являлся только процесс вынашивания ребенка, то назначенная в договоре сумма должна была бы выплачиваться суррогатной матери в самом начале беременности в качестве «гарантии» пребывания ребенка в матке. Но то обстоятельство, что часть денег выплачивается лишь в конце беременности, после родов, указывает на то, что такой договор имеет своей конечной целью поставку произведенного «продукта», т. е. куплю-продажу детей. Если, к примеру, ребёнок имеет дефекты развития, заказчики могут от него отказаться: зачем выплачивать всю сумму за «продукт», не удовлетворяющий всем требован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Суррогатное материнство – это явление с отрицательными последствиями для всех участвующих в данной сделке: и для суррогатной матери, и для ребёнка, и для потенциальных родителей.Существует ли реальная альтернатива данному явлению? Да. Это — такая открытая для многих бездетных пар возможность, как усыновление ребёнка, оставшегося без родителей. В этом случае «выигрывают» все: родители, получая долгожданного ребёнка, а дети — любящих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8:12:04Z</dcterms:created>
  <dc:creator>Юля</dc:creator>
  <dc:description/>
  <dc:language>en-US</dc:language>
  <cp:lastModifiedBy>Юля</cp:lastModifiedBy>
  <dcterms:modified xsi:type="dcterms:W3CDTF">2014-03-17T19:04:19Z</dcterms:modified>
  <cp:revision>2</cp:revision>
  <dc:subject/>
  <dc:title>Слайд 1</dc:title>
</cp:coreProperties>
</file>