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51C6-045E-453F-B179-BEADAC9C5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D468-17DB-48E0-B558-6C30B193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EC8A-4A24-4700-A13C-ECCD154E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80F4-2362-4552-ACE2-29F5AD819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45AF-0C2E-4738-A2C4-F141BCAC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E234-C176-4C7A-9EB0-F7E5F6B7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5B89-8E3A-45C5-AAF7-E2EA8B4B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0DBF-3EF2-4D3F-A640-3ADC4556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1772-C228-48E4-867B-84B313A8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9C9F-F96C-4A3C-AB57-D1E8C04D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3CA7-D825-49D9-BF45-389A2D6A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E27A-49D0-4B44-A06A-A95351E3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C421-5181-4F03-A20D-C779D006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4829-84CD-401E-B71B-41C00B41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864C-53D6-48A5-9ADF-7E78C18B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C27F-F306-4E87-A22D-11C45C70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36D6-8FEF-45A6-A3E1-73985EC4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7C39-55ED-4BEB-B3D9-48AF5207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49F9-63EA-42E1-9941-730E043B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C4C9-CC4D-4BF1-8854-9F915BA0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E6B3-3EAF-422B-8F16-C1663CBD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A3E3-D72A-47D3-A493-720F3490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25D3-6836-425F-BDE1-B11C2BB5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F3AE-77A3-46B7-83D7-1BB38639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D373-0DD9-4D3D-B3CA-F9FA75AE2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1E74-10C5-4D0A-8AF5-3D4E401EF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Script MT Bold"/>
              </a:rPr>
              <a:t>Биоэтические проблемы суррогатного материнства</a:t>
            </a:r>
            <a:endParaRPr b="0" lang="en-US" sz="4000" spc="-1" strike="noStrike">
              <a:solidFill>
                <a:srgbClr val="ff0066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116000" y="1916280"/>
            <a:ext cx="705636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4360" y="404280"/>
            <a:ext cx="81356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ст. 55 Федерального закона от 21 ноября 2011 г. «Об основах охраны здоровья граждан Российской Федерации» представлен юридический порядок применения суррогатного материнства (далее — СМ), метода, далеко отстоящего от принципов этики и морали. Использование метода СМ сопряжено с рядом этических пробле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гроза психическому и физическому здоровью суррогатной матери и ребё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зрушение понятий, обозначающих кровнородственные связ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хранение тайны происхождения ребё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гативное влияние на психику потенциальных род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ммерциализация материнства (матка напрокат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упля-продажа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Угроза психическому и физическому здоровью суррогатной матери и ребенка.</a:t>
            </a:r>
            <a:br>
              <a:rPr sz="4000"/>
            </a:br>
            <a:endParaRPr b="0" lang="en-US" sz="28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206360"/>
            <a:ext cx="856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Риск осложнения беременности у суррогатной матери ранним токсикозом беременных выше, чем у женщин, беременных генетически своим ребенком. При обычной беременности половина генотипа плода принадлежит матери, а суррогатная мать вынашивает полностью генетически чужеродный плод. Реакции отторжения, которые выражаются слабостью, потерей аппетита, рвотой, снижением веса, апатией, тревогой, мнительностью, раздражительностью, у суррогатных матерей могут быть физиологически гораздо сильнее выражены чем у женщины, вынашивающей собственного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Защитники СМ постоянно, говоря о сочувствии к женщине, потерявшей возможность (или изначально не имевшей) самой выносить своего ребенка, или о неповторимом счастье тех, кто обрел материнство с помощью суррогатного материнства, умалчивают про другую женщину – суррогатную мать. Как правило суррогатная мать во время и после передачи ребёнка родителям-заказчикам, т.е. после того как она отделена от своего ребёнка, испытывает сильнейшую психологическую травму. Суррогатная мать может глубоко привязаться к вынашиваемому ребенку в силу тесной биологической связи с ним в период его созревания. Разрыв связи с матерью, выносившей тего, приводит к глубокой психологической травме и ребё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0920" y="343800"/>
            <a:ext cx="8424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Более того, можно ожидать и принципиальное изменение со стороны психологического статуса женщины, которая носит ребёнка и знает, что он никогда не будет ей принадлежать. Невозможность реализации естественных потребностей беременной матери, вызывает стресс, депрессию, психопатические реакции вредные, и женщине, и ребенку. Под действием стресса, мозг суррогатной матери выделяет меньше гормонов эндорфинов, от количества которых зависит скорость обменных процессов и работа всех органов организма беременной женщины, а, следовательно, и состояние организма ребенка. Стресс во время беременности увеличивает риск как психологической ущербности ребенка в будущем, так и может приводить к физическим патологиям разви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Очевидная манипуляция телесной природой ребенка, получающего генетическое наследие от двух определенных лиц и вместе с тем кровь, питание, жизненное внутриматочное обеспечение от третьего лица — суррогатной матери, в будущем может иметь последствия и на психическом уровн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Сравнение суррогатной матери с кормилицей и утверждение, что такого рода «помощь» не только допустима, но и является выражением альтруизма, крайне сомнительны, т. к. интенсивность отношений между суррогатной матерью и плодом и между няней и ребёнком в корне отлич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Разрушение понятий, обозначающих кровнородственные связи.</a:t>
            </a:r>
            <a:br>
              <a:rPr sz="3200"/>
            </a:br>
            <a:endParaRPr b="0" lang="en-US" sz="32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1647000"/>
            <a:ext cx="849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В 1991 году Арлет Швейцер стала первой в США суррогатной матерью для эмбриона собственной дочери. Она родила через кесарево сечение двойню собственных внуков – мальчика и девочку. Подобный случай был в Южной Африке: яйцеклетка молодой женщины (с врожденным отсутствием матки), оплодотворенная сперматозоидом её мужа, была пересажена в матку её матери — будущей бабушки. В приведенных примерах одна женщина одновременно и бабушка, и мать. Подобные ситуации порождают смешение, размывание понятий (мать, бабушка, сын, внук), традиционно служащих для обозначения кровнородственных связей. В ситуации утраты смысла и однозначности понятий дети могут стать жертвой личностного кризиса на почве недостаточной ясности их происхождения и отношений с тем или иным членом семьи. Как повлияет на ребенка известие, что бабушка в тоже время доводится ему мамой? Как объяснить эту ситуацию ребенку, и сможет ли сам он внятно объяснить её учителям и одноклассникам, не превращаясь в мишень для насмеше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Сохранение тайны происхождения ребёнка.</a:t>
            </a:r>
            <a:br>
              <a:rPr sz="4000"/>
            </a:br>
            <a:endParaRPr b="0" lang="en-US" sz="32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28342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cript MT Bold"/>
              </a:rPr>
              <a:t>Не менее значима и проблема сохранения тайны происхождения ребенка. Те, кто был так или иначе причастен ситуации с СМ, признают, что буквально разрываются между необходимостью блюсти тайну и желанием открыть е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Негативное влияние на психику потенциальных родителей.</a:t>
            </a:r>
            <a:br>
              <a:rPr sz="4000"/>
            </a:br>
            <a:endParaRPr b="0" lang="en-US" sz="32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599840"/>
            <a:ext cx="8351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cript MT Bold"/>
              </a:rPr>
              <a:t>Негативное влияние на психику биологических родителей может быть вызвано следующими причин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cript MT Bold"/>
              </a:rPr>
              <a:t>- опасение за расторжение договора суррогатной матерью или её исчезнов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cript MT Bold"/>
              </a:rPr>
              <a:t>- страхи женщины, связанные с вынашиванием её ребенка другой женщиной (а не делает ли она что-нибудь неполезное ребёнку, не полюбила ли она его больше, чем я?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cript MT Bold"/>
              </a:rPr>
              <a:t>- отсутствие гарантии того, что после рождения ребёнка биологические родители не будут подсознательно искать у него черты сходства с той женщиной, которая его носила, особенно, если например, возникнут проблемы в подростковом возрасте (“А это правда мой ребёнок? А может быть, все-таки не мой, потому что не я его носила?”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cript MT Bold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Коммерциализация материнства («матка напрокат»)</a:t>
            </a:r>
            <a:r>
              <a:rPr b="1" i="1" lang="en-US" sz="3200" spc="-1" strike="noStrike">
                <a:solidFill>
                  <a:srgbClr val="ff0066"/>
                </a:solidFill>
                <a:latin typeface="Tahoma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87380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Если суррогатная мать — это мать (или родственница) бесплодной женщины, абсолютность альтруистических мотивов поступка несомненна. Это случай некоммерческого суррогатного материнства. Если же суррогатная мать — посторонняя женщина, то это случай коммерческой услуги. Коммерческие предложения для потенциальных суррогатных матерей сегодня уже открыто размещаются в газетных рубриках по предложению рабочих мест или газетах. Например,в газете «Куда пойти работать?» размещено объявление Московской клиники репродукции «ВИТА НОВА» с приглашением женщин в возрасте от 20 до 35 лет в качестве суррогатных матерей и доноров яйцеклеток за «гарантированную компенсацию до 900000 рубле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ahoma"/>
              </a:rPr>
              <a:t>Купля-продажа детей.</a:t>
            </a:r>
            <a:br>
              <a:rPr sz="3600"/>
            </a:br>
            <a:endParaRPr b="0" lang="en-US" sz="36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1062000"/>
            <a:ext cx="8135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Объектом договора купли-продажи является не только биологическая способность к деторождению суррогатной матери, но и сам ребенок. Если бы объектом купли-продажи являлся только процесс вынашивания ребенка, то назначенная в договоре сумма должна была бы выплачиваться суррогатной матери в самом начале беременности в качестве «гарантии» пребывания ребенка в матке. Но то обстоятельство, что часть денег выплачивается лишь в конце беременности, после родов, указывает на то, что такой договор имеет своей конечной целью поставку произведенного «продукта», т. е. куплю-продажу детей. Если, к примеру, ребёнок имеет дефекты развития, заказчики могут от него отказаться: зачем выплачивать всю сумму за «продукт», не удовлетворяющий всем требования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cript MT Bold"/>
              </a:rPr>
              <a:t>Суррогатное материнство – это явление с отрицательными последствиями для всех участвующих в данной сделке: и для суррогатной матери, и для ребёнка, и для потенциальных родителей.Существует ли реальная альтернатива данному явлению? Да. Это — такая открытая для многих бездетных пар возможность, как усыновление ребёнка, оставшегося без родителей. В этом случае «выигрывают» все: родители, получая долгожданного ребёнка, а дети — любящих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8:12:04Z</dcterms:created>
  <dc:creator>Юля</dc:creator>
  <dc:description/>
  <dc:language>en-US</dc:language>
  <cp:lastModifiedBy>Юля</cp:lastModifiedBy>
  <dcterms:modified xsi:type="dcterms:W3CDTF">2014-03-17T19:04:19Z</dcterms:modified>
  <cp:revision>2</cp:revision>
  <dc:subject/>
  <dc:title>Слайд 1</dc:title>
</cp:coreProperties>
</file>