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2BD4-D234-4B23-8250-0797D59741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3B3B-2CB8-4839-B893-EA8097F8D4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6501-1146-469B-9686-9A7E0141DD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9192-ADA2-45FD-BCB3-E48CD903BB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186B-F0B5-4238-828C-73263D3932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F7C2-428F-46C0-8F56-722FA8518E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A185-2393-4B57-B531-362E2FC600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CB6F-8DD8-4FB1-BAA2-5C7844057F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962B-6E75-44D9-BA2D-0177C545B7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A07F-2ADF-41F1-B1BB-983ADF96A3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7909-AF05-422D-B96D-FAA061EB2A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C1CB-5292-431B-A2C1-7188A85436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CC73-2280-423E-8F76-4813B43F81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F750-022E-4F2C-AD6B-02575DBA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3FB6-760C-4355-9673-9394A751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AEAA-B9D6-4E10-A248-FF10032D4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B23D-4593-4067-ABC5-7F722CD7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0CB8-1361-4478-9BD3-4BE3C241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EAF1-6EB4-46D3-AD04-6B408E28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62BE-AB39-47DD-A15A-FF3A881C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B8EA-E06B-4B9A-AB6D-3BBAE52C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1C90-3D41-4C78-9345-3AEADA63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DDB4-BF2F-47BD-A3B2-FC0728A8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F25A-18E7-435B-945C-36659783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4C31-42BC-4B85-83FB-6B41160B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D505-872D-4E57-AD94-F7F05365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9B4D-EF35-411E-9B63-A7CCA3BB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30E4-CE2D-4DB3-9CE0-D4EF16D8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5525-EF15-4EA2-9C53-9268E372B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3CBF-98E9-42B3-A103-882559F3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4C20-70D9-4840-970F-84A9DA19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641F-8EDE-44F5-AE22-D9173E80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B827-AC57-4398-B5E6-A8EB74A8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C203-395A-45DC-BD64-6D360B31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E425-7591-4396-B24F-95115755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3733-5B03-4310-B29F-F6F7B10D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6948-FD92-4565-B8EE-4B679898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7E91-1D41-469B-998A-BF7F5A1F60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DB31-EE0C-495D-B348-9B439AF106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642960" y="571680"/>
            <a:ext cx="8018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сновные способы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бразования слов в русском язык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928880"/>
            <a:ext cx="868680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м способом образую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уществительные со значением цвет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прилагатель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ий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ый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еле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уществительные со значением действ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глаго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ать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пис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теть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ё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1116000" y="27082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1116000" y="27082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1332000" y="314172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12"/>
          <p:cNvSpPr/>
          <p:nvPr/>
        </p:nvSpPr>
        <p:spPr>
          <a:xfrm>
            <a:off x="1332000" y="4076640"/>
            <a:ext cx="50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13"/>
          <p:cNvSpPr/>
          <p:nvPr/>
        </p:nvSpPr>
        <p:spPr>
          <a:xfrm>
            <a:off x="1403280" y="4508640"/>
            <a:ext cx="50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AutoShape 14">
            <a:hlinkClick r:id="rId1" action="ppaction://hlinksldjump"/>
          </p:cNvPr>
          <p:cNvSpPr/>
          <p:nvPr/>
        </p:nvSpPr>
        <p:spPr>
          <a:xfrm>
            <a:off x="250920" y="5373720"/>
            <a:ext cx="1042920" cy="538200"/>
          </a:xfrm>
          <a:custGeom>
            <a:avLst/>
            <a:gdLst>
              <a:gd name="textAreaLeft" fmla="*/ 34560 w 1042920"/>
              <a:gd name="textAreaRight" fmla="*/ 1008360 w 10429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41843" h="21600">
                <a:moveTo>
                  <a:pt x="0" y="0"/>
                </a:moveTo>
                <a:lnTo>
                  <a:pt x="41843" y="0"/>
                </a:lnTo>
                <a:lnTo>
                  <a:pt x="41843" y="21600"/>
                </a:lnTo>
                <a:lnTo>
                  <a:pt x="0" y="21600"/>
                </a:lnTo>
                <a:close/>
              </a:path>
              <a:path fill="lightenLess" w="41843" h="21600">
                <a:moveTo>
                  <a:pt x="0" y="0"/>
                </a:moveTo>
                <a:lnTo>
                  <a:pt x="41843" y="0"/>
                </a:lnTo>
                <a:lnTo>
                  <a:pt x="40443" y="1400"/>
                </a:lnTo>
                <a:lnTo>
                  <a:pt x="1400" y="1400"/>
                </a:lnTo>
                <a:close/>
              </a:path>
              <a:path fill="darken" w="41843" h="21600">
                <a:moveTo>
                  <a:pt x="41843" y="0"/>
                </a:moveTo>
                <a:lnTo>
                  <a:pt x="41843" y="21600"/>
                </a:lnTo>
                <a:lnTo>
                  <a:pt x="40443" y="20200"/>
                </a:lnTo>
                <a:lnTo>
                  <a:pt x="40443" y="1400"/>
                </a:lnTo>
                <a:close/>
              </a:path>
              <a:path fill="darkenLess" w="41843" h="21600">
                <a:moveTo>
                  <a:pt x="41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43" y="20200"/>
                </a:lnTo>
                <a:close/>
              </a:path>
              <a:path fill="lighten" w="41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843" h="21600">
                <a:moveTo>
                  <a:pt x="17423" y="10800"/>
                </a:moveTo>
                <a:lnTo>
                  <a:pt x="27928" y="3794"/>
                </a:lnTo>
                <a:lnTo>
                  <a:pt x="27928" y="17806"/>
                </a:lnTo>
                <a:close/>
              </a:path>
              <a:path fill="darken" w="41843" h="21600">
                <a:moveTo>
                  <a:pt x="13915" y="3794"/>
                </a:moveTo>
                <a:lnTo>
                  <a:pt x="15577" y="3794"/>
                </a:lnTo>
                <a:lnTo>
                  <a:pt x="15577" y="17806"/>
                </a:lnTo>
                <a:lnTo>
                  <a:pt x="13915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42920" y="35676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3300"/>
                </a:solidFill>
                <a:latin typeface="Elephant"/>
                <a:ea typeface="Times New Roman"/>
              </a:rPr>
              <a:t>Морфологические:</a:t>
            </a:r>
            <a:br>
              <a:rPr sz="4900"/>
            </a:br>
            <a:r>
              <a:rPr b="1" lang="ru-RU" sz="4900" spc="-1" strike="noStrike">
                <a:solidFill>
                  <a:srgbClr val="003300"/>
                </a:solidFill>
                <a:latin typeface="Elephant"/>
                <a:ea typeface="Times New Roman"/>
              </a:rPr>
              <a:t>бессуффиксный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8840"/>
          </a:xfrm>
          <a:prstGeom prst="rect">
            <a:avLst/>
          </a:prstGeom>
          <a:solidFill>
            <a:srgbClr val="00b0f0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жение без соединительной гласн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1500120"/>
          <a:ext cx="9144000" cy="4983120"/>
        </p:xfrm>
        <a:graphic>
          <a:graphicData uri="http://schemas.openxmlformats.org/drawingml/2006/table">
            <a:tbl>
              <a:tblPr/>
              <a:tblGrid>
                <a:gridCol w="3292560"/>
                <a:gridCol w="2658960"/>
                <a:gridCol w="3192480"/>
              </a:tblGrid>
              <a:tr h="110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ходные сл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е сло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реч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41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бер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гательный +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бан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пец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альный +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ур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кур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лащ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алат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жили + бы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тихий + тих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еле + ел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щ-палат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-бы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хий-тих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-ел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г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ага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еч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solidFill>
            <a:srgbClr val="00b0f0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жение с соединительной гласн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2000160"/>
          <a:ext cx="9144000" cy="4857840"/>
        </p:xfrm>
        <a:graphic>
          <a:graphicData uri="http://schemas.openxmlformats.org/drawingml/2006/table">
            <a:tbl>
              <a:tblPr/>
              <a:tblGrid>
                <a:gridCol w="2212920"/>
                <a:gridCol w="1644840"/>
                <a:gridCol w="2571480"/>
                <a:gridCol w="271476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ходные сл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единительная глас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е сло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реч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6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хие + фрук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ря +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м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х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ук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рел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ебный + булоч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еб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лоч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ага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929800" cy="1274760"/>
          </a:xfrm>
          <a:prstGeom prst="rect">
            <a:avLst/>
          </a:prstGeom>
          <a:solidFill>
            <a:srgbClr val="00b0f0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ложение с одновременным присоединением суффик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525680"/>
          <a:ext cx="9144000" cy="5332320"/>
        </p:xfrm>
        <a:graphic>
          <a:graphicData uri="http://schemas.openxmlformats.org/drawingml/2006/table">
            <a:tbl>
              <a:tblPr/>
              <a:tblGrid>
                <a:gridCol w="1857240"/>
                <a:gridCol w="1643040"/>
                <a:gridCol w="1292400"/>
                <a:gridCol w="2508120"/>
                <a:gridCol w="1843200"/>
              </a:tblGrid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ходные сл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единительная глас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ф-фик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е сло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реч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к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жим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л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к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жима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лк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-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ое +м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е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-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86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зная +дор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зн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ага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мо+ ход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моход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еч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8840"/>
          </a:xfrm>
          <a:prstGeom prst="rect">
            <a:avLst/>
          </a:prstGeom>
          <a:solidFill>
            <a:srgbClr val="00b0f0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жение с сокращени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1500120"/>
          <a:ext cx="9144000" cy="5496120"/>
        </p:xfrm>
        <a:graphic>
          <a:graphicData uri="http://schemas.openxmlformats.org/drawingml/2006/table">
            <a:tbl>
              <a:tblPr/>
              <a:tblGrid>
                <a:gridCol w="3292560"/>
                <a:gridCol w="2658960"/>
                <a:gridCol w="3192480"/>
              </a:tblGrid>
              <a:tr h="110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сокращ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е сло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речи: существи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41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о части основ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нивер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льный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аг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ниверма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жносокращенное сло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о первой букв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демический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ьшой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матический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а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Д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бреви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4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о первого звука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дства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М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совой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форм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бреви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Овал 21"/>
          <p:cNvSpPr/>
          <p:nvPr/>
        </p:nvSpPr>
        <p:spPr>
          <a:xfrm>
            <a:off x="4786200" y="5418000"/>
            <a:ext cx="3959280" cy="1440000"/>
          </a:xfrm>
          <a:prstGeom prst="ellipse">
            <a:avLst/>
          </a:prstGeom>
          <a:solidFill>
            <a:srgbClr val="f2dcd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краще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Скругленный прямоугольник 1"/>
          <p:cNvSpPr/>
          <p:nvPr/>
        </p:nvSpPr>
        <p:spPr>
          <a:xfrm>
            <a:off x="928800" y="214200"/>
            <a:ext cx="7429320" cy="12859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собы словообразования  имен существительны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Овал 2"/>
          <p:cNvSpPr/>
          <p:nvPr/>
        </p:nvSpPr>
        <p:spPr>
          <a:xfrm>
            <a:off x="214200" y="1428840"/>
            <a:ext cx="3816360" cy="1439640"/>
          </a:xfrm>
          <a:prstGeom prst="ellipse">
            <a:avLst/>
          </a:prstGeom>
          <a:solidFill>
            <a:srgbClr val="f2dcd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а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Овал 5"/>
          <p:cNvSpPr/>
          <p:nvPr/>
        </p:nvSpPr>
        <p:spPr>
          <a:xfrm>
            <a:off x="4929120" y="1428840"/>
            <a:ext cx="3959280" cy="1439640"/>
          </a:xfrm>
          <a:prstGeom prst="ellipse">
            <a:avLst/>
          </a:prstGeom>
          <a:solidFill>
            <a:srgbClr val="f2dcd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оч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Овал 9"/>
          <p:cNvSpPr/>
          <p:nvPr/>
        </p:nvSpPr>
        <p:spPr>
          <a:xfrm>
            <a:off x="285840" y="2786040"/>
            <a:ext cx="3744720" cy="1440000"/>
          </a:xfrm>
          <a:prstGeom prst="ellipse">
            <a:avLst/>
          </a:prstGeom>
          <a:solidFill>
            <a:srgbClr val="f2dcd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очно-суффикса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Овал 10"/>
          <p:cNvSpPr/>
          <p:nvPr/>
        </p:nvSpPr>
        <p:spPr>
          <a:xfrm>
            <a:off x="4857840" y="2786040"/>
            <a:ext cx="3959280" cy="1440000"/>
          </a:xfrm>
          <a:prstGeom prst="ellipse">
            <a:avLst/>
          </a:prstGeom>
          <a:solidFill>
            <a:srgbClr val="f2dcd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суффикс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Овал 11"/>
          <p:cNvSpPr/>
          <p:nvPr/>
        </p:nvSpPr>
        <p:spPr>
          <a:xfrm>
            <a:off x="285840" y="4143240"/>
            <a:ext cx="3959280" cy="1440000"/>
          </a:xfrm>
          <a:prstGeom prst="ellipse">
            <a:avLst/>
          </a:prstGeom>
          <a:solidFill>
            <a:srgbClr val="f2dcd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ие без соединительной глас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Овал 12"/>
          <p:cNvSpPr/>
          <p:nvPr/>
        </p:nvSpPr>
        <p:spPr>
          <a:xfrm>
            <a:off x="4857840" y="4143240"/>
            <a:ext cx="3959280" cy="1440000"/>
          </a:xfrm>
          <a:prstGeom prst="ellipse">
            <a:avLst/>
          </a:prstGeom>
          <a:solidFill>
            <a:srgbClr val="f2dcd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ие с одновременным присоединением суффик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ая соединительная линия 31"/>
          <p:cNvSpPr/>
          <p:nvPr/>
        </p:nvSpPr>
        <p:spPr>
          <a:xfrm>
            <a:off x="4500000" y="1500120"/>
            <a:ext cx="34920" cy="435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ая соединительная линия 36"/>
          <p:cNvSpPr/>
          <p:nvPr/>
        </p:nvSpPr>
        <p:spPr>
          <a:xfrm>
            <a:off x="4030560" y="2149560"/>
            <a:ext cx="18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ая соединительная линия 38"/>
          <p:cNvSpPr/>
          <p:nvPr/>
        </p:nvSpPr>
        <p:spPr>
          <a:xfrm>
            <a:off x="4030560" y="2149560"/>
            <a:ext cx="898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ая соединительная линия 44"/>
          <p:cNvSpPr/>
          <p:nvPr/>
        </p:nvSpPr>
        <p:spPr>
          <a:xfrm>
            <a:off x="4000680" y="3357720"/>
            <a:ext cx="898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ая соединительная линия 54"/>
          <p:cNvSpPr/>
          <p:nvPr/>
        </p:nvSpPr>
        <p:spPr>
          <a:xfrm>
            <a:off x="4143240" y="4857840"/>
            <a:ext cx="755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ая соединительная линия 14"/>
          <p:cNvSpPr/>
          <p:nvPr/>
        </p:nvSpPr>
        <p:spPr>
          <a:xfrm>
            <a:off x="4143240" y="5857920"/>
            <a:ext cx="755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Овал 15"/>
          <p:cNvSpPr/>
          <p:nvPr/>
        </p:nvSpPr>
        <p:spPr>
          <a:xfrm>
            <a:off x="357120" y="5418000"/>
            <a:ext cx="3959280" cy="1440000"/>
          </a:xfrm>
          <a:prstGeom prst="ellipse">
            <a:avLst/>
          </a:prstGeom>
          <a:solidFill>
            <a:srgbClr val="f2dcd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ие с соединительной глас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Скругленный прямоугольник 1"/>
          <p:cNvSpPr/>
          <p:nvPr/>
        </p:nvSpPr>
        <p:spPr>
          <a:xfrm>
            <a:off x="928800" y="214200"/>
            <a:ext cx="7429320" cy="11430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собы словообразования имен прилагательны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Овал 2"/>
          <p:cNvSpPr/>
          <p:nvPr/>
        </p:nvSpPr>
        <p:spPr>
          <a:xfrm>
            <a:off x="142920" y="1643040"/>
            <a:ext cx="3816360" cy="1440000"/>
          </a:xfrm>
          <a:prstGeom prst="ellipse">
            <a:avLst/>
          </a:prstGeom>
          <a:solidFill>
            <a:srgbClr val="f2dcdb"/>
          </a:soli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а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Овал 5"/>
          <p:cNvSpPr/>
          <p:nvPr/>
        </p:nvSpPr>
        <p:spPr>
          <a:xfrm>
            <a:off x="4857840" y="1643040"/>
            <a:ext cx="3959280" cy="144000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оч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Овал 9"/>
          <p:cNvSpPr/>
          <p:nvPr/>
        </p:nvSpPr>
        <p:spPr>
          <a:xfrm>
            <a:off x="214200" y="3429000"/>
            <a:ext cx="3745080" cy="144000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очно-суффикса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Овал 11"/>
          <p:cNvSpPr/>
          <p:nvPr/>
        </p:nvSpPr>
        <p:spPr>
          <a:xfrm>
            <a:off x="2714760" y="5214960"/>
            <a:ext cx="3958920" cy="144000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ие с соединительной глас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Овал 12"/>
          <p:cNvSpPr/>
          <p:nvPr/>
        </p:nvSpPr>
        <p:spPr>
          <a:xfrm>
            <a:off x="4929120" y="3429000"/>
            <a:ext cx="3959280" cy="144000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ие с одновременным присоединением суффик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ая соединительная линия 31"/>
          <p:cNvSpPr/>
          <p:nvPr/>
        </p:nvSpPr>
        <p:spPr>
          <a:xfrm flipH="1">
            <a:off x="4498560" y="1357200"/>
            <a:ext cx="1800" cy="3859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ая соединительная линия 36"/>
          <p:cNvSpPr/>
          <p:nvPr/>
        </p:nvSpPr>
        <p:spPr>
          <a:xfrm>
            <a:off x="3959280" y="2363760"/>
            <a:ext cx="14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ая соединительная линия 38"/>
          <p:cNvSpPr/>
          <p:nvPr/>
        </p:nvSpPr>
        <p:spPr>
          <a:xfrm>
            <a:off x="3959280" y="2363760"/>
            <a:ext cx="898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ая соединительная линия 44"/>
          <p:cNvSpPr/>
          <p:nvPr/>
        </p:nvSpPr>
        <p:spPr>
          <a:xfrm>
            <a:off x="3959280" y="4149720"/>
            <a:ext cx="969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Скругленный прямоугольник 1"/>
          <p:cNvSpPr/>
          <p:nvPr/>
        </p:nvSpPr>
        <p:spPr>
          <a:xfrm>
            <a:off x="928800" y="214200"/>
            <a:ext cx="7429320" cy="11430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собы словообразования глаго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Овал 2"/>
          <p:cNvSpPr/>
          <p:nvPr/>
        </p:nvSpPr>
        <p:spPr>
          <a:xfrm>
            <a:off x="142920" y="1643040"/>
            <a:ext cx="3816360" cy="1440000"/>
          </a:xfrm>
          <a:prstGeom prst="ellipse">
            <a:avLst/>
          </a:prstGeom>
          <a:solidFill>
            <a:srgbClr val="f2dcdb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а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Овал 5"/>
          <p:cNvSpPr/>
          <p:nvPr/>
        </p:nvSpPr>
        <p:spPr>
          <a:xfrm>
            <a:off x="4857840" y="1643040"/>
            <a:ext cx="3959280" cy="1440000"/>
          </a:xfrm>
          <a:prstGeom prst="ellipse">
            <a:avLst/>
          </a:prstGeom>
          <a:solidFill>
            <a:srgbClr val="f2dcdb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оч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Овал 9"/>
          <p:cNvSpPr/>
          <p:nvPr/>
        </p:nvSpPr>
        <p:spPr>
          <a:xfrm>
            <a:off x="2714760" y="3786120"/>
            <a:ext cx="3744720" cy="1440000"/>
          </a:xfrm>
          <a:prstGeom prst="ellipse">
            <a:avLst/>
          </a:prstGeom>
          <a:solidFill>
            <a:srgbClr val="f2dcdb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очно-суффикса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ая соединительная линия 31"/>
          <p:cNvSpPr/>
          <p:nvPr/>
        </p:nvSpPr>
        <p:spPr>
          <a:xfrm flipH="1">
            <a:off x="4498560" y="1428840"/>
            <a:ext cx="1800" cy="235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ая соединительная линия 36"/>
          <p:cNvSpPr/>
          <p:nvPr/>
        </p:nvSpPr>
        <p:spPr>
          <a:xfrm>
            <a:off x="3959280" y="2363760"/>
            <a:ext cx="14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ая соединительная линия 38"/>
          <p:cNvSpPr/>
          <p:nvPr/>
        </p:nvSpPr>
        <p:spPr>
          <a:xfrm>
            <a:off x="3959280" y="2363760"/>
            <a:ext cx="898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Скругленный прямоугольник 1"/>
          <p:cNvSpPr/>
          <p:nvPr/>
        </p:nvSpPr>
        <p:spPr>
          <a:xfrm>
            <a:off x="642960" y="285840"/>
            <a:ext cx="7286760" cy="13572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собы словообразования   нареч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Овал 2"/>
          <p:cNvSpPr/>
          <p:nvPr/>
        </p:nvSpPr>
        <p:spPr>
          <a:xfrm>
            <a:off x="428760" y="2500200"/>
            <a:ext cx="3286080" cy="178596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а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Овал 3"/>
          <p:cNvSpPr/>
          <p:nvPr/>
        </p:nvSpPr>
        <p:spPr>
          <a:xfrm>
            <a:off x="428760" y="4714920"/>
            <a:ext cx="3357360" cy="178596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оч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Овал 4"/>
          <p:cNvSpPr/>
          <p:nvPr/>
        </p:nvSpPr>
        <p:spPr>
          <a:xfrm>
            <a:off x="5072040" y="2500200"/>
            <a:ext cx="3286080" cy="171468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очно-суффикса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Овал 5"/>
          <p:cNvSpPr/>
          <p:nvPr/>
        </p:nvSpPr>
        <p:spPr>
          <a:xfrm>
            <a:off x="5143680" y="4786200"/>
            <a:ext cx="3357360" cy="178596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ие без соединительной глас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ая соединительная линия 7"/>
          <p:cNvSpPr/>
          <p:nvPr/>
        </p:nvSpPr>
        <p:spPr>
          <a:xfrm>
            <a:off x="4285440" y="1714680"/>
            <a:ext cx="71640" cy="4643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ая соединительная линия 9"/>
          <p:cNvSpPr/>
          <p:nvPr/>
        </p:nvSpPr>
        <p:spPr>
          <a:xfrm>
            <a:off x="4286160" y="3214800"/>
            <a:ext cx="7858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рямая соединительная линия 11"/>
          <p:cNvSpPr/>
          <p:nvPr/>
        </p:nvSpPr>
        <p:spPr>
          <a:xfrm flipH="1" flipV="1">
            <a:off x="3643200" y="3214800"/>
            <a:ext cx="6429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ая соединительная линия 13"/>
          <p:cNvSpPr/>
          <p:nvPr/>
        </p:nvSpPr>
        <p:spPr>
          <a:xfrm>
            <a:off x="4357800" y="5357880"/>
            <a:ext cx="1000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ая соединительная линия 15"/>
          <p:cNvSpPr/>
          <p:nvPr/>
        </p:nvSpPr>
        <p:spPr>
          <a:xfrm flipH="1" flipV="1">
            <a:off x="3714840" y="5357880"/>
            <a:ext cx="6429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Elephant"/>
                <a:ea typeface="Times New Roman"/>
              </a:rPr>
              <a:t>Способы словообразован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2857680" y="4357800"/>
            <a:ext cx="5973480" cy="18572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еморфологическ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214200" y="2214720"/>
            <a:ext cx="5473800" cy="17859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орфологическ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Стрелка вниз 8"/>
          <p:cNvSpPr/>
          <p:nvPr/>
        </p:nvSpPr>
        <p:spPr>
          <a:xfrm>
            <a:off x="2571840" y="1428840"/>
            <a:ext cx="285840" cy="7142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Стрелка вниз 9"/>
          <p:cNvSpPr/>
          <p:nvPr/>
        </p:nvSpPr>
        <p:spPr>
          <a:xfrm>
            <a:off x="6500880" y="1428840"/>
            <a:ext cx="285840" cy="285732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рфологические способы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вообраз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альны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очны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очно – суффиксальны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суффиксны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ие без соединительной гласно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ие с соединительной гласно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ие с одновременным присоединением суффикс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ие с сокращение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68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3300"/>
                </a:solidFill>
                <a:latin typeface="Elephant"/>
                <a:ea typeface="Times New Roman"/>
              </a:rPr>
              <a:t>Морфологические:</a:t>
            </a:r>
            <a:br>
              <a:rPr sz="4900"/>
            </a:br>
            <a:r>
              <a:rPr b="1" lang="ru-RU" sz="4300" spc="-1" strike="noStrike">
                <a:solidFill>
                  <a:srgbClr val="003300"/>
                </a:solidFill>
                <a:latin typeface="Elephant"/>
                <a:ea typeface="Times New Roman"/>
              </a:rPr>
              <a:t>приставочный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продуктивен среди глагол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хать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ъех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→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х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→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х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→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ха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3429000" y="2928960"/>
            <a:ext cx="5473800" cy="2158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643200" y="3071880"/>
            <a:ext cx="50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лова, образованные приставочным способом, всегда относятся к той же части речи, что и слова, от которых они образова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715200" y="5143680"/>
            <a:ext cx="44665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т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пер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ущ.                    Сущ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ный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ил.                     При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f0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ставочн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1714680"/>
          <a:ext cx="9144000" cy="5143320"/>
        </p:xfrm>
        <a:graphic>
          <a:graphicData uri="http://schemas.openxmlformats.org/drawingml/2006/table">
            <a:tbl>
              <a:tblPr/>
              <a:tblGrid>
                <a:gridCol w="1928880"/>
                <a:gridCol w="1785960"/>
                <a:gridCol w="2357280"/>
                <a:gridCol w="307188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ходное сло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тав-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е сло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реч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олов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д-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д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олов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ят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е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ят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ага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и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за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за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и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г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рош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е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рош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еч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00040" y="185688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ация используется в словообразовании всех основных частей реч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т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рат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в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в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ив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в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3357720" y="2571840"/>
            <a:ext cx="5473440" cy="252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571920" y="2643120"/>
            <a:ext cx="50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олько этим способом образуются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частия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епричастия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т глаго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4430880" y="3857760"/>
            <a:ext cx="326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ть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та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ющ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ш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→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2128680" y="5013360"/>
            <a:ext cx="653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е особое внимание на наречия на –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ив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←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асив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н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←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терес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остн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←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дост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500040" y="642960"/>
            <a:ext cx="82296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Elephant"/>
                <a:ea typeface="Times New Roman"/>
              </a:rPr>
              <a:t>Морфологические:</a:t>
            </a:r>
            <a:br>
              <a:rPr sz="5400"/>
            </a:br>
            <a:r>
              <a:rPr b="1" lang="ru-RU" sz="4800" spc="-1" strike="noStrike">
                <a:solidFill>
                  <a:srgbClr val="003300"/>
                </a:solidFill>
                <a:latin typeface="Elephant"/>
                <a:ea typeface="Times New Roman"/>
              </a:rPr>
              <a:t>суффиксальны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5480" y="274680"/>
            <a:ext cx="8429400" cy="797040"/>
          </a:xfrm>
          <a:prstGeom prst="rect">
            <a:avLst/>
          </a:prstGeom>
          <a:solidFill>
            <a:srgbClr val="00b0f0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ффиксальны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1397160"/>
          <a:ext cx="9144000" cy="5460840"/>
        </p:xfrm>
        <a:graphic>
          <a:graphicData uri="http://schemas.openxmlformats.org/drawingml/2006/table">
            <a:tbl>
              <a:tblPr/>
              <a:tblGrid>
                <a:gridCol w="1889280"/>
                <a:gridCol w="1738080"/>
                <a:gridCol w="2444760"/>
                <a:gridCol w="3071880"/>
              </a:tblGrid>
              <a:tr h="109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ходное сло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ффик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е сло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ре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атл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и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атлон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и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ст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ага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я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нич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ярнич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г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нибу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да-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ибу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еч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42920" y="1785960"/>
            <a:ext cx="882000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а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</a:t>
            </a:r>
            <a:r>
              <a:rPr b="1" i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              тёмный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н</a:t>
            </a:r>
            <a:r>
              <a:rPr b="1" i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           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но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</a:t>
            </a:r>
            <a:r>
              <a:rPr b="1" i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179280" y="2492280"/>
            <a:ext cx="8785440" cy="388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539640" y="2565360"/>
            <a:ext cx="82821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иболее часто образуются этим способо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уществительные с суффиксами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ник, -й(е), -о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зда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зд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г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жь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лаголы с постфиксом 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с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ть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ть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речия с приставкой 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-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 суффиксами 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и</a:t>
            </a:r>
            <a:r>
              <a:rPr b="1" i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ому</a:t>
            </a:r>
            <a:r>
              <a:rPr b="1" i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ем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еский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ружеск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ний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имн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м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й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-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м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42920" y="35676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3300"/>
                </a:solidFill>
                <a:latin typeface="Elephant"/>
                <a:ea typeface="Times New Roman"/>
              </a:rPr>
              <a:t>Морфологические:</a:t>
            </a:r>
            <a:br>
              <a:rPr sz="4900"/>
            </a:br>
            <a:r>
              <a:rPr b="1" lang="ru-RU" sz="4300" spc="-1" strike="noStrike">
                <a:solidFill>
                  <a:srgbClr val="003300"/>
                </a:solidFill>
                <a:latin typeface="Elephant"/>
                <a:ea typeface="Times New Roman"/>
              </a:rPr>
              <a:t>приставочно-суффиксальный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f0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ставочно-суффиксальн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1643040"/>
          <a:ext cx="9001080" cy="4929120"/>
        </p:xfrm>
        <a:graphic>
          <a:graphicData uri="http://schemas.openxmlformats.org/drawingml/2006/table">
            <a:tbl>
              <a:tblPr/>
              <a:tblGrid>
                <a:gridCol w="1650960"/>
                <a:gridCol w="1724040"/>
                <a:gridCol w="1055880"/>
                <a:gridCol w="2179440"/>
                <a:gridCol w="2390760"/>
              </a:tblGrid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ходное сло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тав-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ф-фик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е сло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реч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п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д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-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за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за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к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ага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я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ть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г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ле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з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дал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еч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3T19:06:25Z</dcterms:created>
  <dc:creator>Татьяна</dc:creator>
  <dc:description/>
  <dc:language>en-US</dc:language>
  <cp:lastModifiedBy>Татьяна</cp:lastModifiedBy>
  <dcterms:modified xsi:type="dcterms:W3CDTF">2014-12-23T19:12:09Z</dcterms:modified>
  <cp:revision>1</cp:revision>
  <dc:subject/>
  <dc:title>Слайд 1</dc:title>
</cp:coreProperties>
</file>