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6510-90C5-4773-BE2F-B47569400C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28D6-4BDE-4C73-9C1D-D1BEE1D2C6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8B39-7E14-48D8-A781-67C9440253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C784-D8A8-4FC5-B4C6-86F258EC2E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095D-03A6-4800-8241-D6A0C49B9D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112B-4150-4DB3-A5EE-DA2201500A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3C07-7CC8-4197-B4D5-A9B90D20C0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3665-59D7-43A6-938B-66D4E9A9F5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1FD8-A6DF-4211-9D6B-580E879487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38B0-EA06-4DB4-8D32-F1F76BE804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D338-31C4-4D75-9312-401D0B7A1B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C1D0-800F-4097-BAD4-0488F70831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9A7A-DA16-44D3-9510-A7C8F8D470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B06-EEBD-4000-AE83-79C761C5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36C-9863-48CA-AB06-B5CB9C37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4B3-B2B7-499C-B320-89227343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573-FA62-41C1-A31E-247CDB3C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D8D6-6B35-4F7F-BDF1-64E05E7B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034F-BCB0-4E91-99AD-508A3C29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8C7A-404C-4861-BB75-E4B47D74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0812-24A4-445C-9B0E-895B1DC1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5C6C-71CD-4C48-9996-14C6125A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C5DD-2A74-44AD-B7A7-AE3124A5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C9FF-18D2-4DD3-9DBA-CE610028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BBF-2D60-429C-BF22-5942EB2D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0EBB-2671-4D78-A45F-F9C22B0E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73BF-AF4F-42ED-932F-F192998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4E6-059A-4823-B0CF-D8433AA9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90DC-8D37-4E28-890C-E70977CD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89FD-D33C-4102-B8D4-F769C386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441-0F06-44E2-B6C1-032B5046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B25-ED06-4472-9270-5D3C2B8F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1FC-AE1C-4617-BF90-5CD87F43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81E-C8F5-41BE-9A15-ED38D3BF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96C-4101-4F78-845F-D888DAFD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AEB-84D9-400E-B8A9-6C0E2588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CA0-4699-4148-B6C4-1D624003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D3C2-55A9-4D42-BFDA-406D839BD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DCFE-A797-4B8F-B776-A291106FB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642960" y="571680"/>
            <a:ext cx="801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сновные способы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бразования слов в русском язык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28880"/>
            <a:ext cx="86868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м способом образу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ествительные со значением цв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прилагатель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л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ествительные со значением действ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глаго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е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ё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1116000" y="27082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1116000" y="27082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1332000" y="3141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1332000" y="407664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1403280" y="4508640"/>
            <a:ext cx="50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14">
            <a:hlinkClick r:id="rId1" action="ppaction://hlinksldjump"/>
          </p:cNvPr>
          <p:cNvSpPr/>
          <p:nvPr/>
        </p:nvSpPr>
        <p:spPr>
          <a:xfrm>
            <a:off x="250920" y="537372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43" h="21600">
                <a:moveTo>
                  <a:pt x="17423" y="10800"/>
                </a:moveTo>
                <a:lnTo>
                  <a:pt x="27928" y="3794"/>
                </a:lnTo>
                <a:lnTo>
                  <a:pt x="27928" y="17806"/>
                </a:lnTo>
                <a:close/>
              </a:path>
              <a:path fill="darken" w="41843" h="21600">
                <a:moveTo>
                  <a:pt x="13915" y="3794"/>
                </a:moveTo>
                <a:lnTo>
                  <a:pt x="15577" y="3794"/>
                </a:lnTo>
                <a:lnTo>
                  <a:pt x="15577" y="17806"/>
                </a:lnTo>
                <a:lnTo>
                  <a:pt x="13915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42920" y="3567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4900"/>
            </a:b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бессуффиксный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500120"/>
          <a:ext cx="9144000" cy="4983120"/>
        </p:xfrm>
        <a:graphic>
          <a:graphicData uri="http://schemas.openxmlformats.org/drawingml/2006/table">
            <a:tbl>
              <a:tblPr/>
              <a:tblGrid>
                <a:gridCol w="3292560"/>
                <a:gridCol w="2658960"/>
                <a:gridCol w="319248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бе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ательный +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альный +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у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ку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щ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ала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жили + бы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ихий + тих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ле + е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щ-пала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-бы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ий-тих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-е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000160"/>
          <a:ext cx="9144000" cy="4857840"/>
        </p:xfrm>
        <a:graphic>
          <a:graphicData uri="http://schemas.openxmlformats.org/drawingml/2006/table">
            <a:tbl>
              <a:tblPr/>
              <a:tblGrid>
                <a:gridCol w="2212920"/>
                <a:gridCol w="1644840"/>
                <a:gridCol w="2571480"/>
                <a:gridCol w="271476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ительная глас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+ фр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я 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е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ный + було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ло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929800" cy="127476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ожение с одновременным присоединением суффик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525680"/>
          <a:ext cx="9144000" cy="5332320"/>
        </p:xfrm>
        <a:graphic>
          <a:graphicData uri="http://schemas.openxmlformats.org/drawingml/2006/table">
            <a:tbl>
              <a:tblPr/>
              <a:tblGrid>
                <a:gridCol w="1857240"/>
                <a:gridCol w="1643040"/>
                <a:gridCol w="1292400"/>
                <a:gridCol w="2508120"/>
                <a:gridCol w="184320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ительная глас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-фик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л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ма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к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е +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ая +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мо+ ход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моход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 с сокращени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500120"/>
          <a:ext cx="9144000" cy="5496120"/>
        </p:xfrm>
        <a:graphic>
          <a:graphicData uri="http://schemas.openxmlformats.org/drawingml/2006/table">
            <a:tbl>
              <a:tblPr/>
              <a:tblGrid>
                <a:gridCol w="3292560"/>
                <a:gridCol w="2658960"/>
                <a:gridCol w="319248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окра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: существ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 части основ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ьны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м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осокращенн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 первой букв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емически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ьшо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матически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а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Д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бреви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 первого звук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ства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совой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бреви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21"/>
          <p:cNvSpPr/>
          <p:nvPr/>
        </p:nvSpPr>
        <p:spPr>
          <a:xfrm>
            <a:off x="4786200" y="541800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кращ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кругленный прямоугольник 1"/>
          <p:cNvSpPr/>
          <p:nvPr/>
        </p:nvSpPr>
        <p:spPr>
          <a:xfrm>
            <a:off x="928800" y="214200"/>
            <a:ext cx="7429320" cy="1285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 имен существитель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"/>
          <p:cNvSpPr/>
          <p:nvPr/>
        </p:nvSpPr>
        <p:spPr>
          <a:xfrm>
            <a:off x="214200" y="1428840"/>
            <a:ext cx="3816360" cy="143964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4929120" y="1428840"/>
            <a:ext cx="3959280" cy="143964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9"/>
          <p:cNvSpPr/>
          <p:nvPr/>
        </p:nvSpPr>
        <p:spPr>
          <a:xfrm>
            <a:off x="285840" y="2786040"/>
            <a:ext cx="374472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10"/>
          <p:cNvSpPr/>
          <p:nvPr/>
        </p:nvSpPr>
        <p:spPr>
          <a:xfrm>
            <a:off x="4857840" y="27860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уффик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вал 11"/>
          <p:cNvSpPr/>
          <p:nvPr/>
        </p:nvSpPr>
        <p:spPr>
          <a:xfrm>
            <a:off x="285840" y="41432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12"/>
          <p:cNvSpPr/>
          <p:nvPr/>
        </p:nvSpPr>
        <p:spPr>
          <a:xfrm>
            <a:off x="4857840" y="41432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одновременным присоединением суффи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31"/>
          <p:cNvSpPr/>
          <p:nvPr/>
        </p:nvSpPr>
        <p:spPr>
          <a:xfrm>
            <a:off x="4500000" y="1500120"/>
            <a:ext cx="34920" cy="43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36"/>
          <p:cNvSpPr/>
          <p:nvPr/>
        </p:nvSpPr>
        <p:spPr>
          <a:xfrm>
            <a:off x="4030560" y="214956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38"/>
          <p:cNvSpPr/>
          <p:nvPr/>
        </p:nvSpPr>
        <p:spPr>
          <a:xfrm>
            <a:off x="4030560" y="2149560"/>
            <a:ext cx="898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44"/>
          <p:cNvSpPr/>
          <p:nvPr/>
        </p:nvSpPr>
        <p:spPr>
          <a:xfrm>
            <a:off x="4000680" y="3357720"/>
            <a:ext cx="898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54"/>
          <p:cNvSpPr/>
          <p:nvPr/>
        </p:nvSpPr>
        <p:spPr>
          <a:xfrm>
            <a:off x="4143240" y="4857840"/>
            <a:ext cx="75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14"/>
          <p:cNvSpPr/>
          <p:nvPr/>
        </p:nvSpPr>
        <p:spPr>
          <a:xfrm>
            <a:off x="4143240" y="5857920"/>
            <a:ext cx="75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Овал 15"/>
          <p:cNvSpPr/>
          <p:nvPr/>
        </p:nvSpPr>
        <p:spPr>
          <a:xfrm>
            <a:off x="357120" y="541800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Скругленный прямоугольник 1"/>
          <p:cNvSpPr/>
          <p:nvPr/>
        </p:nvSpPr>
        <p:spPr>
          <a:xfrm>
            <a:off x="928800" y="214200"/>
            <a:ext cx="742932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имен прилагатель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Овал 2"/>
          <p:cNvSpPr/>
          <p:nvPr/>
        </p:nvSpPr>
        <p:spPr>
          <a:xfrm>
            <a:off x="142920" y="1643040"/>
            <a:ext cx="381636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Овал 5"/>
          <p:cNvSpPr/>
          <p:nvPr/>
        </p:nvSpPr>
        <p:spPr>
          <a:xfrm>
            <a:off x="4857840" y="1643040"/>
            <a:ext cx="395928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9"/>
          <p:cNvSpPr/>
          <p:nvPr/>
        </p:nvSpPr>
        <p:spPr>
          <a:xfrm>
            <a:off x="214200" y="3429000"/>
            <a:ext cx="374508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11"/>
          <p:cNvSpPr/>
          <p:nvPr/>
        </p:nvSpPr>
        <p:spPr>
          <a:xfrm>
            <a:off x="2714760" y="5214960"/>
            <a:ext cx="395892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12"/>
          <p:cNvSpPr/>
          <p:nvPr/>
        </p:nvSpPr>
        <p:spPr>
          <a:xfrm>
            <a:off x="4929120" y="3429000"/>
            <a:ext cx="395928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одновременным присоединением суффи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31"/>
          <p:cNvSpPr/>
          <p:nvPr/>
        </p:nvSpPr>
        <p:spPr>
          <a:xfrm flipH="1">
            <a:off x="4498560" y="1357200"/>
            <a:ext cx="1800" cy="385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36"/>
          <p:cNvSpPr/>
          <p:nvPr/>
        </p:nvSpPr>
        <p:spPr>
          <a:xfrm>
            <a:off x="3959280" y="236376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38"/>
          <p:cNvSpPr/>
          <p:nvPr/>
        </p:nvSpPr>
        <p:spPr>
          <a:xfrm>
            <a:off x="3959280" y="2363760"/>
            <a:ext cx="898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44"/>
          <p:cNvSpPr/>
          <p:nvPr/>
        </p:nvSpPr>
        <p:spPr>
          <a:xfrm>
            <a:off x="3959280" y="4149720"/>
            <a:ext cx="969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Скругленный прямоугольник 1"/>
          <p:cNvSpPr/>
          <p:nvPr/>
        </p:nvSpPr>
        <p:spPr>
          <a:xfrm>
            <a:off x="928800" y="214200"/>
            <a:ext cx="742932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глаго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"/>
          <p:cNvSpPr/>
          <p:nvPr/>
        </p:nvSpPr>
        <p:spPr>
          <a:xfrm>
            <a:off x="142920" y="1643040"/>
            <a:ext cx="381636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5"/>
          <p:cNvSpPr/>
          <p:nvPr/>
        </p:nvSpPr>
        <p:spPr>
          <a:xfrm>
            <a:off x="4857840" y="16430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9"/>
          <p:cNvSpPr/>
          <p:nvPr/>
        </p:nvSpPr>
        <p:spPr>
          <a:xfrm>
            <a:off x="2714760" y="3786120"/>
            <a:ext cx="374472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ая соединительная линия 31"/>
          <p:cNvSpPr/>
          <p:nvPr/>
        </p:nvSpPr>
        <p:spPr>
          <a:xfrm flipH="1">
            <a:off x="4498560" y="1428840"/>
            <a:ext cx="1800" cy="235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ая соединительная линия 36"/>
          <p:cNvSpPr/>
          <p:nvPr/>
        </p:nvSpPr>
        <p:spPr>
          <a:xfrm>
            <a:off x="3959280" y="236376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8"/>
          <p:cNvSpPr/>
          <p:nvPr/>
        </p:nvSpPr>
        <p:spPr>
          <a:xfrm>
            <a:off x="3959280" y="2363760"/>
            <a:ext cx="898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кругленный прямоугольник 1"/>
          <p:cNvSpPr/>
          <p:nvPr/>
        </p:nvSpPr>
        <p:spPr>
          <a:xfrm>
            <a:off x="642960" y="285840"/>
            <a:ext cx="7286760" cy="1357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  нареч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428760" y="2500200"/>
            <a:ext cx="328608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428760" y="4714920"/>
            <a:ext cx="335736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5072040" y="2500200"/>
            <a:ext cx="3286080" cy="171468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/>
          <p:cNvSpPr/>
          <p:nvPr/>
        </p:nvSpPr>
        <p:spPr>
          <a:xfrm>
            <a:off x="5143680" y="4786200"/>
            <a:ext cx="335736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ая соединительная линия 7"/>
          <p:cNvSpPr/>
          <p:nvPr/>
        </p:nvSpPr>
        <p:spPr>
          <a:xfrm>
            <a:off x="4285440" y="1714680"/>
            <a:ext cx="71640" cy="464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ая соединительная линия 9"/>
          <p:cNvSpPr/>
          <p:nvPr/>
        </p:nvSpPr>
        <p:spPr>
          <a:xfrm>
            <a:off x="4286160" y="3214800"/>
            <a:ext cx="7858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ая соединительная линия 11"/>
          <p:cNvSpPr/>
          <p:nvPr/>
        </p:nvSpPr>
        <p:spPr>
          <a:xfrm flipH="1" flipV="1">
            <a:off x="3643200" y="321480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ая соединительная линия 13"/>
          <p:cNvSpPr/>
          <p:nvPr/>
        </p:nvSpPr>
        <p:spPr>
          <a:xfrm>
            <a:off x="4357800" y="5357880"/>
            <a:ext cx="1000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ая соединительная линия 15"/>
          <p:cNvSpPr/>
          <p:nvPr/>
        </p:nvSpPr>
        <p:spPr>
          <a:xfrm flipH="1" flipV="1">
            <a:off x="3714840" y="535788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Elephant"/>
                <a:ea typeface="Times New Roman"/>
              </a:rPr>
              <a:t>Способы словообраз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2857680" y="4357800"/>
            <a:ext cx="5973480" cy="1857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морфологиче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14200" y="2214720"/>
            <a:ext cx="5473800" cy="1785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рфологиче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трелка вниз 8"/>
          <p:cNvSpPr/>
          <p:nvPr/>
        </p:nvSpPr>
        <p:spPr>
          <a:xfrm>
            <a:off x="2571840" y="1428840"/>
            <a:ext cx="28584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трелка вниз 9"/>
          <p:cNvSpPr/>
          <p:nvPr/>
        </p:nvSpPr>
        <p:spPr>
          <a:xfrm>
            <a:off x="6500880" y="1428840"/>
            <a:ext cx="285840" cy="285732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фологические способы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 – суффиксаль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уффикс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одновременным присоединением суффик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кращени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4900"/>
            </a:br>
            <a:r>
              <a:rPr b="1" lang="ru-RU" sz="4300" spc="-1" strike="noStrike">
                <a:solidFill>
                  <a:srgbClr val="003300"/>
                </a:solidFill>
                <a:latin typeface="Elephant"/>
                <a:ea typeface="Times New Roman"/>
              </a:rPr>
              <a:t>приставочный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родуктивен среди глаго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ъех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429000" y="2928960"/>
            <a:ext cx="5473800" cy="2158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643200" y="3071880"/>
            <a:ext cx="50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ова, образованные приставочным способом, всегда относятся к той же части речи, что и слова, от которых они образов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715200" y="5143680"/>
            <a:ext cx="446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ер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.                    Сущ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л.                     Пр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714680"/>
          <a:ext cx="9144000" cy="5143320"/>
        </p:xfrm>
        <a:graphic>
          <a:graphicData uri="http://schemas.openxmlformats.org/drawingml/2006/table">
            <a:tbl>
              <a:tblPr/>
              <a:tblGrid>
                <a:gridCol w="1928880"/>
                <a:gridCol w="1785960"/>
                <a:gridCol w="2357280"/>
                <a:gridCol w="30718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ав-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д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я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я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00040" y="18568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ция используется в словообразовании всех основных частей ре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ат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в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ив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357720" y="2571840"/>
            <a:ext cx="5473440" cy="252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71920" y="264312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лько этим способом образую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астия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епричастия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 глаго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430880" y="3857760"/>
            <a:ext cx="32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щ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ш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128680" y="5013360"/>
            <a:ext cx="653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особое внимание на наречия на –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с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ре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стн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ост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0040" y="64296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5400"/>
            </a:br>
            <a:r>
              <a:rPr b="1" lang="ru-RU" sz="4800" spc="-1" strike="noStrike">
                <a:solidFill>
                  <a:srgbClr val="003300"/>
                </a:solidFill>
                <a:latin typeface="Elephant"/>
                <a:ea typeface="Times New Roman"/>
              </a:rPr>
              <a:t>суффиксальн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429400" cy="7970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ффиксальн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397160"/>
          <a:ext cx="9144000" cy="5460840"/>
        </p:xfrm>
        <a:graphic>
          <a:graphicData uri="http://schemas.openxmlformats.org/drawingml/2006/table">
            <a:tbl>
              <a:tblPr/>
              <a:tblGrid>
                <a:gridCol w="1889280"/>
                <a:gridCol w="1738080"/>
                <a:gridCol w="2444760"/>
                <a:gridCol w="3071880"/>
              </a:tblGrid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атл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атло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я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нич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ярнич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нибу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а-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ибу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2920" y="1785960"/>
            <a:ext cx="88200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             тёмный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но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79280" y="2492280"/>
            <a:ext cx="878544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2565360"/>
            <a:ext cx="8282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иболее часто образуются этим способ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ествительные с суффиксам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ник, -й(е), -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да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д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ь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голы с постфиксом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речия с приставкой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-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суффиксами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и</a:t>
            </a:r>
            <a:r>
              <a:rPr b="1" i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ому</a:t>
            </a:r>
            <a:r>
              <a:rPr b="1" i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е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ский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ружеск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ний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имн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-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42920" y="3567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4900"/>
            </a:br>
            <a:r>
              <a:rPr b="1" lang="ru-RU" sz="4300" spc="-1" strike="noStrike">
                <a:solidFill>
                  <a:srgbClr val="003300"/>
                </a:solidFill>
                <a:latin typeface="Elephant"/>
                <a:ea typeface="Times New Roman"/>
              </a:rPr>
              <a:t>приставочно-суффиксальный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643040"/>
          <a:ext cx="9001080" cy="4929120"/>
        </p:xfrm>
        <a:graphic>
          <a:graphicData uri="http://schemas.openxmlformats.org/drawingml/2006/table">
            <a:tbl>
              <a:tblPr/>
              <a:tblGrid>
                <a:gridCol w="1650960"/>
                <a:gridCol w="1724040"/>
                <a:gridCol w="1055880"/>
                <a:gridCol w="2179440"/>
                <a:gridCol w="239076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ав-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-фик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п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-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я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е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л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3T19:06:25Z</dcterms:created>
  <dc:creator>Татьяна</dc:creator>
  <dc:description/>
  <dc:language>en-US</dc:language>
  <cp:lastModifiedBy>Татьяна</cp:lastModifiedBy>
  <dcterms:modified xsi:type="dcterms:W3CDTF">2014-12-23T19:12:09Z</dcterms:modified>
  <cp:revision>1</cp:revision>
  <dc:subject/>
  <dc:title>Слайд 1</dc:title>
</cp:coreProperties>
</file>