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6404-4011-4558-96E8-E53379B55B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B7FD-3CD4-4314-B52F-1917C1F711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B54-E20B-4CBD-B1C4-7B6281FD57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6D42-36EA-4DAF-9223-348F20F88F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89C0-AE70-4B94-B19F-E3807038B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F92-127B-4239-9143-782B8D0EE2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ECC-6912-4611-B298-5D49368C05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4A9C-0EDE-468E-8D0F-71BE7473EA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3AF4-8B8D-4711-A6A3-1D34913E6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EA2B-C02B-4CD9-BA9C-5744F178E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0173-CCAF-430F-A6B5-04863F03F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53D-C839-41E6-9C8C-438A5BD6C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697-20B0-4D55-8A98-3DD818136D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FD9-A42A-4D8A-ABC6-67B1316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E74-4352-48BF-BEC2-2585BB86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B25-705D-42C5-952C-E642961B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5E5-98A9-4CFE-B930-50A197A7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9BF3-4B99-4BD6-9CA8-8D8BD6E5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11C4-1A4E-44C0-A1CF-4E5CCE2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E7E-CFA0-4D15-8EB9-C5EEA4F9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43B-EF93-4328-B5CF-4C3428D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C37F-A205-45C2-8301-516229E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A9A-12FD-49D1-BC32-1F9B43B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612-2BB3-4CA7-9910-9838B45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BD3-F92E-410E-ACE3-C50C1B3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1E10-1038-4776-B074-95898AE6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813-3788-46F8-A23F-C48AA22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50C-9353-44C4-9ACF-CDE64FF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F9D2-7014-42DA-BBEC-B65B9711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40D-A491-4726-BEFA-24FBCFDD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F9E-ABB2-4046-9D67-64B6367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C44-5870-4B4E-A5EE-FD5846E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610-A5E5-4BA5-B771-414AF0D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19D-DBBA-4D5E-A22B-239AD9EB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A36-4E7E-46F9-95D9-38F0EEC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FF1-D288-4522-A1FD-7103F403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3A-8E72-4D2C-8D3C-21F16D7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579-701D-41EE-B9B4-18C0C6529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4B5-1985-4E8C-8C02-496384FF1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642960" y="571680"/>
            <a:ext cx="801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сновные способы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разования слов в русском язы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6868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способом обра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цв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прилага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лаго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1332000" y="3141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1332000" y="407664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403280" y="450864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4">
            <a:hlinkClick r:id="rId1" action="ppaction://hlinksldjump"/>
          </p:cNvPr>
          <p:cNvSpPr/>
          <p:nvPr/>
        </p:nvSpPr>
        <p:spPr>
          <a:xfrm>
            <a:off x="250920" y="5373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7423" y="10800"/>
                </a:moveTo>
                <a:lnTo>
                  <a:pt x="27928" y="3794"/>
                </a:lnTo>
                <a:lnTo>
                  <a:pt x="27928" y="17806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15577" y="3794"/>
                </a:lnTo>
                <a:lnTo>
                  <a:pt x="15577" y="17806"/>
                </a:lnTo>
                <a:lnTo>
                  <a:pt x="13915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бессуффиксны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500120"/>
          <a:ext cx="9144000" cy="4983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б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ате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а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щ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ли + 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ихий + 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ле + 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щ-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-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ий-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-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000160"/>
          <a:ext cx="9144000" cy="4857840"/>
        </p:xfrm>
        <a:graphic>
          <a:graphicData uri="http://schemas.openxmlformats.org/drawingml/2006/table">
            <a:tbl>
              <a:tblPr/>
              <a:tblGrid>
                <a:gridCol w="2212920"/>
                <a:gridCol w="1644840"/>
                <a:gridCol w="2571480"/>
                <a:gridCol w="271476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+ 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я 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е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ый + 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929800" cy="127476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ожение с одновременным присоединением суффи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5680"/>
          <a:ext cx="9144000" cy="533232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292400"/>
                <a:gridCol w="2508120"/>
                <a:gridCol w="184320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л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к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е +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ая +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+ хо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хо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00120"/>
          <a:ext cx="9144000" cy="5496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окра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: 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части осно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ьны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м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осокращен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й бук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ем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ш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мат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а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го звук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ств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вой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21"/>
          <p:cNvSpPr/>
          <p:nvPr/>
        </p:nvSpPr>
        <p:spPr>
          <a:xfrm>
            <a:off x="478620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кращ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"/>
          <p:cNvSpPr/>
          <p:nvPr/>
        </p:nvSpPr>
        <p:spPr>
          <a:xfrm>
            <a:off x="928800" y="214200"/>
            <a:ext cx="7429320" cy="1285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"/>
          <p:cNvSpPr/>
          <p:nvPr/>
        </p:nvSpPr>
        <p:spPr>
          <a:xfrm>
            <a:off x="214200" y="1428840"/>
            <a:ext cx="381636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4929120" y="1428840"/>
            <a:ext cx="395928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285840" y="278604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4857840" y="2786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285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4857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31"/>
          <p:cNvSpPr/>
          <p:nvPr/>
        </p:nvSpPr>
        <p:spPr>
          <a:xfrm>
            <a:off x="4500000" y="1500120"/>
            <a:ext cx="34920" cy="43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36"/>
          <p:cNvSpPr/>
          <p:nvPr/>
        </p:nvSpPr>
        <p:spPr>
          <a:xfrm>
            <a:off x="4030560" y="214956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38"/>
          <p:cNvSpPr/>
          <p:nvPr/>
        </p:nvSpPr>
        <p:spPr>
          <a:xfrm>
            <a:off x="4030560" y="21495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44"/>
          <p:cNvSpPr/>
          <p:nvPr/>
        </p:nvSpPr>
        <p:spPr>
          <a:xfrm>
            <a:off x="4000680" y="3357720"/>
            <a:ext cx="898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54"/>
          <p:cNvSpPr/>
          <p:nvPr/>
        </p:nvSpPr>
        <p:spPr>
          <a:xfrm>
            <a:off x="4143240" y="485784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4143240" y="585792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15"/>
          <p:cNvSpPr/>
          <p:nvPr/>
        </p:nvSpPr>
        <p:spPr>
          <a:xfrm>
            <a:off x="35712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имен прилага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214200" y="3429000"/>
            <a:ext cx="37450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11"/>
          <p:cNvSpPr/>
          <p:nvPr/>
        </p:nvSpPr>
        <p:spPr>
          <a:xfrm>
            <a:off x="2714760" y="5214960"/>
            <a:ext cx="395892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12"/>
          <p:cNvSpPr/>
          <p:nvPr/>
        </p:nvSpPr>
        <p:spPr>
          <a:xfrm>
            <a:off x="4929120" y="342900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31"/>
          <p:cNvSpPr/>
          <p:nvPr/>
        </p:nvSpPr>
        <p:spPr>
          <a:xfrm flipH="1">
            <a:off x="4498560" y="1357200"/>
            <a:ext cx="1800" cy="385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44"/>
          <p:cNvSpPr/>
          <p:nvPr/>
        </p:nvSpPr>
        <p:spPr>
          <a:xfrm>
            <a:off x="3959280" y="4149720"/>
            <a:ext cx="96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глаго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2714760" y="378612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ая соединительная линия 31"/>
          <p:cNvSpPr/>
          <p:nvPr/>
        </p:nvSpPr>
        <p:spPr>
          <a:xfrm flipH="1">
            <a:off x="4498560" y="1428840"/>
            <a:ext cx="1800" cy="235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1"/>
          <p:cNvSpPr/>
          <p:nvPr/>
        </p:nvSpPr>
        <p:spPr>
          <a:xfrm>
            <a:off x="642960" y="285840"/>
            <a:ext cx="728676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 нареч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428760" y="2500200"/>
            <a:ext cx="328608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428760" y="471492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5072040" y="2500200"/>
            <a:ext cx="3286080" cy="171468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5143680" y="478620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9"/>
          <p:cNvSpPr/>
          <p:nvPr/>
        </p:nvSpPr>
        <p:spPr>
          <a:xfrm>
            <a:off x="4286160" y="3214800"/>
            <a:ext cx="785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1"/>
          <p:cNvSpPr/>
          <p:nvPr/>
        </p:nvSpPr>
        <p:spPr>
          <a:xfrm flipH="1" flipV="1">
            <a:off x="3643200" y="321480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13"/>
          <p:cNvSpPr/>
          <p:nvPr/>
        </p:nvSpPr>
        <p:spPr>
          <a:xfrm>
            <a:off x="4357800" y="5357880"/>
            <a:ext cx="1000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 flipH="1" flipV="1">
            <a:off x="3714840" y="535788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Elephant"/>
                <a:ea typeface="Times New Roman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857680" y="4357800"/>
            <a:ext cx="5973480" cy="1857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14200" y="2214720"/>
            <a:ext cx="5473800" cy="1785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8"/>
          <p:cNvSpPr/>
          <p:nvPr/>
        </p:nvSpPr>
        <p:spPr>
          <a:xfrm>
            <a:off x="2571840" y="142884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низ 9"/>
          <p:cNvSpPr/>
          <p:nvPr/>
        </p:nvSpPr>
        <p:spPr>
          <a:xfrm>
            <a:off x="6500880" y="1428840"/>
            <a:ext cx="285840" cy="28573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фологические способы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 – 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родуктивен среди глаго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ъ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429000" y="2928960"/>
            <a:ext cx="5473800" cy="2158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3200" y="3071880"/>
            <a:ext cx="50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ва, образованные приставочным способом, всегда относятся к той же части речи, что и слова, от которых они образов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15200" y="5143680"/>
            <a:ext cx="446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е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.                    Сущ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л.                     П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714680"/>
          <a:ext cx="9144000" cy="5143320"/>
        </p:xfrm>
        <a:graphic>
          <a:graphicData uri="http://schemas.openxmlformats.org/drawingml/2006/table">
            <a:tbl>
              <a:tblPr/>
              <a:tblGrid>
                <a:gridCol w="1928880"/>
                <a:gridCol w="1785960"/>
                <a:gridCol w="2357280"/>
                <a:gridCol w="30718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ция используется в словообразовании всех основных частей ре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а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357720" y="2571840"/>
            <a:ext cx="5473440" cy="252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71920" y="264312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лько этим способом 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е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 глаг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430880" y="3857760"/>
            <a:ext cx="32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щ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128680" y="501336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особое внимание на наречия на –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004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5400"/>
            </a:br>
            <a:r>
              <a:rPr b="1" lang="ru-RU" sz="4800" spc="-1" strike="noStrike">
                <a:solidFill>
                  <a:srgbClr val="003300"/>
                </a:solidFill>
                <a:latin typeface="Elephant"/>
                <a:ea typeface="Times New Roman"/>
              </a:rPr>
              <a:t>суффиксаль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429400" cy="7970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ффиксаль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97160"/>
          <a:ext cx="9144000" cy="5460840"/>
        </p:xfrm>
        <a:graphic>
          <a:graphicData uri="http://schemas.openxmlformats.org/drawingml/2006/table">
            <a:tbl>
              <a:tblPr/>
              <a:tblGrid>
                <a:gridCol w="1889280"/>
                <a:gridCol w="1738080"/>
                <a:gridCol w="2444760"/>
                <a:gridCol w="307188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ич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2920" y="1785960"/>
            <a:ext cx="88200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             тёмный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но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79280" y="2492280"/>
            <a:ext cx="878544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565360"/>
            <a:ext cx="8282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иболее часто образуются этим способ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 суффиксам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ник, -й(е), -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голы с постфиксом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речия с приставкой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суффиксами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и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му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жеск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имн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о-суффиксаль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643040"/>
          <a:ext cx="9001080" cy="4929120"/>
        </p:xfrm>
        <a:graphic>
          <a:graphicData uri="http://schemas.openxmlformats.org/drawingml/2006/table">
            <a:tbl>
              <a:tblPr/>
              <a:tblGrid>
                <a:gridCol w="1650960"/>
                <a:gridCol w="1724040"/>
                <a:gridCol w="1055880"/>
                <a:gridCol w="2179440"/>
                <a:gridCol w="239076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п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е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л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19:06:25Z</dcterms:created>
  <dc:creator>Татьяна</dc:creator>
  <dc:description/>
  <dc:language>en-US</dc:language>
  <cp:lastModifiedBy>Татьяна</cp:lastModifiedBy>
  <dcterms:modified xsi:type="dcterms:W3CDTF">2014-12-23T19:12:09Z</dcterms:modified>
  <cp:revision>1</cp:revision>
  <dc:subject/>
  <dc:title>Слайд 1</dc:title>
</cp:coreProperties>
</file>