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63AF-8791-4A54-B996-3718F3B75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A6F1-B899-4090-BA70-5BF37BD8A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EF0-6443-424D-8C6D-010BED3E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852-8D8D-4D95-AB0D-47CA950F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480D9-EC26-4CEB-87E0-FCD9DE8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95AEF-F891-4099-8336-110B858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23928-73CA-41F5-BD77-6B38F5F4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5D140-D642-44CD-A163-659C42A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F126-31D0-4724-922D-70B6F5E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FC912-1D08-4950-8582-B9E2059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F1F5F-2F77-44C1-97D1-76338B37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BDDD-ACAC-4CBB-BEE8-7E263E6E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4D73-1F6C-47F6-8542-CE30BA1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82228-2413-42F1-9179-E554DFF9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B53-B1B6-4838-B680-4195B540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69A70-1726-46F8-BE54-478930A9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68A97-16BC-464F-B7FA-ADC98ABB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8D347-1B9F-4A2D-9DC7-55E007ED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17A16-1295-41AD-AEEE-E53A4019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07125-05CE-4C62-9197-CF1D10F0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57391-D887-4E57-A2AA-9067F667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FBCD5-05F4-472D-AEB9-72C65D5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91ED5-64BC-43E2-AFF6-D6026AD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C3B5D-641B-4D9B-B715-4BD5476D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4B268-C5E0-43B6-955C-1D32FA33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2CB-C7D1-4C3E-9227-D63FFFA6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4ABA3-5F27-46A7-BEC3-CC91F3A5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D04D0-37CA-4080-8436-3CED19EE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B549F-E632-470F-8844-EBFEDB4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CBCD9-B4A0-4EC7-8407-0797E548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AC070-1105-43E5-8441-1389335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60CEA-1DC4-429F-8736-A847497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50F35-E930-4C89-8EA1-F58AC60B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009CA-2E68-4A75-AB19-7A482F7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F8A64-6508-4D27-8688-F009E74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DA86A-EDC5-4619-8849-740FE79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8B9C-0FCF-462F-889E-965AED13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D9E1-ED63-4D65-9790-9BF7C942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724BF-F347-4A89-94B6-553C39CE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6B8C-BDD8-4BB8-AAD2-FBDDE0F3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57F-617A-4A72-BEB9-A5C2E30E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08CD-6472-439E-94CC-0EF89B0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AE6-E238-4CDB-881B-8020AD7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514-9A90-4470-AC2C-F995005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119E-B055-4329-BE37-B7922CC6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6285-D6DF-4F98-B18C-0DCC353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2E3-2A10-419B-8968-E504BAF1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3165-A9B3-486A-9039-AAE8347D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E837-E91A-49D5-9AE7-57EF30A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CE0F-46C5-46DA-B22C-9DE648DB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7588-5784-46C5-B673-04BD2F96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1E5-BEF4-4B4C-A19D-12AE19FF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E394E-73A2-433B-804D-84232572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D6A63-2798-4E6A-8BA5-4438AA0B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A122C-C77F-494E-8D88-8477A321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D2B07-3041-46DA-904B-F7C6F084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A98A3-6D71-4529-BB60-9121C7E7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F49-4D27-45D0-97A1-574C185A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F96E5-3995-4C09-8216-D793CCCE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C9D99-C6FD-4D33-ABCC-8B68B81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45B09-1584-45B6-B53C-CD39A7A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009D9-19A6-48E8-9415-2091E6E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E36F3-A9D4-4669-9F9B-D07C7D2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FD7DF-F1FA-49CF-8240-7ABAE1E9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B62A6-CE73-4899-98F2-B7F55EA0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32DE-6042-450B-9FC7-27EA89C2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1F5C-34B1-4559-A8CF-ED8B41B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E2CC-17A1-48FE-9FAD-512840E8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ADC-21CE-4A38-96F0-5C6950F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B361-7659-4381-97F9-539F97F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9423-7568-4C31-A319-BE60241E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6C71-68AF-400C-80CE-5403E66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D73A-CFA2-4960-BDCA-AC5C51C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D203-ECD2-48FB-AD71-E1FECEEB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7033-8C72-434B-B93D-B28465E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8568-98AE-4159-A8E9-9069F35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73F0-2E8B-4A4A-8DD6-1A66F64A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DF32-7FDD-42AC-9DC2-A9DFD300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C32FC-4C34-44C0-BC49-4E9A2C6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27C-4CA6-45D9-B506-3FF75C5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05D4B-5C9C-4646-A54B-0C7C2BF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69EA5-DF8D-49D2-8D3A-F074AFC8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F79EA-0F98-48E5-AA36-45BCACB0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6BB8F-239B-47C8-8184-4C00011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39C24-DF24-48E4-A4E0-024D8CD0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F1EA7-B1D1-4636-B264-32F833E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B7044-C045-4232-8B5D-AE6EB00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31B3D-B4C9-479B-9A64-8C63CBE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E324F-4774-45BD-ABA7-B3B1F8C0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220A8-D7AD-47E3-B73F-D93D1079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EE8-E67B-4DBA-A297-7F7AD95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FC5E9-4216-42E3-BBC7-E95691F1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75D1F-6495-430F-A4B8-C85AC5D3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9EFA2-9272-4F8C-AB18-1ECB20A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964AB-362B-474D-844A-7257BDE6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D73F7-D2E8-4B5E-97E9-9BB84BD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8E9ED-CCED-406D-926A-6CDC55D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0086F-4A17-4F6A-8610-31EC5BF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866E2-6F07-4750-B0FB-73492A4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05CEE-B539-4741-92A9-B46BC4D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AEB31-CA5B-4D7F-8C79-0A52307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0DB-9F52-4412-9440-E3A50359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D3919-8789-424A-9A31-702E11D1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491F1-8F6A-4BCD-B383-EC3641D9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ACF8F-EE7D-452E-B300-6D78914D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75617-7400-4990-B207-5611550D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49BF3-BB23-4D1D-9891-24C98B7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CE402-7641-41BC-8B1D-78DB665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3F1C3-299B-4C6F-B45D-8D7B543F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874AE-6831-4F51-862F-E655FA8A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7FD54-E569-429C-8A8D-8375D03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858F3-27A4-4D58-AD43-46A6459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29E-2B87-4D97-870B-A5BCEDA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E8A3C-4BC1-4DEA-98FF-91A1919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05B12-E2BC-479E-98EC-28F42B17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F4520-64F2-4DFD-B4C9-00CECEB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EA1AA-E92E-48EF-ADB9-3C892B0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680B6-F1BE-47D0-805C-F1F5A518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2EC7-F8A0-415C-AC04-A1165CA7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5C03-DAFB-4592-94B6-799E9FD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EDEB3-65CC-4E82-B311-81B260D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40F3B-E3A0-40F9-9CA9-63D75347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21FA8-1421-449F-B880-F894B1A7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282-4DE3-44FB-A2AE-13A6454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4CD6-007F-4171-8A10-2555D97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F79DC-9EF8-4E32-90C1-7875E40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F151F-E5F9-44B4-BFB3-803500E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E627-CE57-4E05-84F0-A66E109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18782-EA2E-43F9-A5A3-B26B7B9B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01F0C-537B-4B53-9CE5-EA1C4F69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C42E-09F4-4961-9534-7868D951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6F305-6442-45BB-BAE9-F926B0D9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5060-F8CE-4C8A-B696-AD8EF01D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F4FBA-F600-4FAC-8AE9-2FAE972C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FEA-1720-4F69-BBFD-0D532131F19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09C3-44F6-4A16-98CF-4FC32CD7AD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73D-BA58-4022-A66B-41CC474286C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240-CE16-47F3-87FE-9F7D0A79EF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FD2-D7B9-4CF4-BABC-97B7008522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072F-F41C-4FC7-8D84-5F5F09E31A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4EC-ADCF-4751-8B46-610D93A55F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2A13-B27D-449C-8B61-3F76FA94CB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78F3-14EC-4713-B19E-448FC6ED738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04DA-134E-45C2-A67B-09620ABF7F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A15-DB1F-4A52-93D4-78A6294972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1139760"/>
            <a:ext cx="96379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3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6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78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579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81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582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2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85" name="TextBox 7"/>
          <p:cNvGrpSpPr/>
          <p:nvPr/>
        </p:nvGrpSpPr>
        <p:grpSpPr>
          <a:xfrm>
            <a:off x="1127160" y="5919840"/>
            <a:ext cx="5243400" cy="519480"/>
            <a:chOff x="1127160" y="5919840"/>
            <a:chExt cx="5243400" cy="519480"/>
          </a:xfrm>
        </p:grpSpPr>
        <p:pic>
          <p:nvPicPr>
            <p:cNvPr id="586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143000" y="5929200"/>
              <a:ext cx="52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e2d700"/>
                  </a:solidFill>
                  <a:uFillTx/>
                  <a:latin typeface="Century Schoolbook"/>
                  <a:hlinkClick r:id="rId2" action="ppaction://hlinksldjump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8000"/>
                </a:solidFill>
                <a:latin typeface="Century Schoolbook"/>
              </a:rPr>
              <a:t>4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500" spc="-1" strike="noStrike">
                <a:solidFill>
                  <a:srgbClr val="04617b"/>
                </a:solidFill>
                <a:latin typeface="Century Schoolbook"/>
              </a:rPr>
              <a:t>А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(3;2), ПРОХОДЯЩЕЙ ЧЕРЕЗ </a:t>
            </a:r>
            <a:r>
              <a:rPr b="1" i="1" lang="ru-RU" sz="2500" spc="-1" strike="noStrike">
                <a:solidFill>
                  <a:srgbClr val="04617b"/>
                </a:solidFill>
                <a:latin typeface="Century Schoolbook"/>
              </a:rPr>
              <a:t>В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(7;5).</a:t>
            </a:r>
            <a:endParaRPr b="0" lang="en-US" sz="25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5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5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500" spc="-1" strike="noStrike">
                <a:solidFill>
                  <a:srgbClr val="04617b"/>
                </a:solidFill>
                <a:latin typeface="Century Schoolbook"/>
              </a:rPr>
              <a:t>АВ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 – ДИАМЕТР ДАННОЙ ОКРУЖНОСТИ.</a:t>
            </a:r>
            <a:endParaRPr b="0" lang="en-US" sz="25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200"/>
            </a:br>
            <a:r>
              <a:rPr b="0" i="1" lang="ru-RU" sz="32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2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95" name="Прямоугольник 4"/>
          <p:cNvGrpSpPr/>
          <p:nvPr/>
        </p:nvGrpSpPr>
        <p:grpSpPr>
          <a:xfrm>
            <a:off x="774720" y="5919840"/>
            <a:ext cx="5954760" cy="519480"/>
            <a:chOff x="774720" y="5919840"/>
            <a:chExt cx="5954760" cy="519480"/>
          </a:xfrm>
        </p:grpSpPr>
        <p:pic>
          <p:nvPicPr>
            <p:cNvPr id="59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85880" y="5929200"/>
              <a:ext cx="592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e2d700"/>
                  </a:solidFill>
                  <a:uFillTx/>
                  <a:latin typeface="Century Schoolbook"/>
                  <a:hlinkClick r:id="rId2" action="ppaction://hlinksldjump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entury Schoolbook"/>
              </a:rPr>
              <a:t>ПОСТАНОВКА ПРОБЛЕМЫ.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м известно, что решением уравнения с двумя переменными называют пару чисел (х;у), которая удовлетворяет этому уравн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мы изобрзаим всё множество решений некоторого уравнения на координатной плоскости, то получим график данного урав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ледующем слайде записаны уравнения. Какие фигуры они задают на плоскост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rcRect l="26902" t="30276" r="28075" b="42387"/>
          <a:stretch/>
        </p:blipFill>
        <p:spPr>
          <a:xfrm>
            <a:off x="147600" y="928800"/>
            <a:ext cx="8996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57132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х+у+9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3х+у+9)(2х-3)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-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=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-5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+4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4х+4)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8х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4х-8у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Блок-схема: альтернативный процесс 3"/>
          <p:cNvSpPr/>
          <p:nvPr/>
        </p:nvSpPr>
        <p:spPr>
          <a:xfrm>
            <a:off x="3527280" y="10000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entury Schoolbook"/>
                <a:hlinkClick r:id="rId1" action="ppaction://hlinksldjump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Блок-схема: альтернативный процесс 4"/>
          <p:cNvSpPr/>
          <p:nvPr/>
        </p:nvSpPr>
        <p:spPr>
          <a:xfrm>
            <a:off x="3514680" y="35712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entury Schoolbook"/>
                <a:hlinkClick r:id="rId2" action="ppaction://hlinksldjump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Блок-схема: альтернативный процесс 6"/>
          <p:cNvSpPr/>
          <p:nvPr/>
        </p:nvSpPr>
        <p:spPr>
          <a:xfrm>
            <a:off x="3527280" y="164304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Блок-схема: альтернативный процесс 7"/>
          <p:cNvSpPr/>
          <p:nvPr/>
        </p:nvSpPr>
        <p:spPr>
          <a:xfrm>
            <a:off x="3541680" y="2357280"/>
            <a:ext cx="1571760" cy="35748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Блок-схема: альтернативный процесс 9"/>
          <p:cNvSpPr/>
          <p:nvPr/>
        </p:nvSpPr>
        <p:spPr>
          <a:xfrm>
            <a:off x="3541680" y="30718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Блок-схема: альтернативный процесс 10"/>
          <p:cNvSpPr/>
          <p:nvPr/>
        </p:nvSpPr>
        <p:spPr>
          <a:xfrm>
            <a:off x="3570120" y="371484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Блок-схема: альтернативный процесс 11"/>
          <p:cNvSpPr/>
          <p:nvPr/>
        </p:nvSpPr>
        <p:spPr>
          <a:xfrm>
            <a:off x="3583080" y="4429080"/>
            <a:ext cx="157140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Блок-схема: альтернативный процесс 12"/>
          <p:cNvSpPr/>
          <p:nvPr/>
        </p:nvSpPr>
        <p:spPr>
          <a:xfrm>
            <a:off x="3597120" y="51436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Блок-схема: альтернативный процесс 13"/>
          <p:cNvSpPr/>
          <p:nvPr/>
        </p:nvSpPr>
        <p:spPr>
          <a:xfrm>
            <a:off x="3570120" y="585792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Блок-схема: альтернативный процесс 16"/>
          <p:cNvSpPr/>
          <p:nvPr/>
        </p:nvSpPr>
        <p:spPr>
          <a:xfrm>
            <a:off x="5929200" y="3268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Блок-схема: альтернативный процесс 17"/>
          <p:cNvSpPr/>
          <p:nvPr/>
        </p:nvSpPr>
        <p:spPr>
          <a:xfrm>
            <a:off x="5929200" y="9856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Блок-схема: альтернативный процесс 18"/>
          <p:cNvSpPr/>
          <p:nvPr/>
        </p:nvSpPr>
        <p:spPr>
          <a:xfrm>
            <a:off x="5929200" y="164160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Блок-схема: альтернативный процесс 19"/>
          <p:cNvSpPr/>
          <p:nvPr/>
        </p:nvSpPr>
        <p:spPr>
          <a:xfrm>
            <a:off x="5929200" y="23432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Блок-схема: альтернативный процесс 20"/>
          <p:cNvSpPr/>
          <p:nvPr/>
        </p:nvSpPr>
        <p:spPr>
          <a:xfrm>
            <a:off x="5929200" y="305748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Блок-схема: альтернативный процесс 21"/>
          <p:cNvSpPr/>
          <p:nvPr/>
        </p:nvSpPr>
        <p:spPr>
          <a:xfrm>
            <a:off x="5959440" y="37148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Блок-схема: альтернативный процесс 22"/>
          <p:cNvSpPr/>
          <p:nvPr/>
        </p:nvSpPr>
        <p:spPr>
          <a:xfrm>
            <a:off x="5945040" y="442908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Блок-схема: альтернативный процесс 23"/>
          <p:cNvSpPr/>
          <p:nvPr/>
        </p:nvSpPr>
        <p:spPr>
          <a:xfrm>
            <a:off x="5959440" y="51134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Блок-схема: альтернативный процесс 24"/>
          <p:cNvSpPr/>
          <p:nvPr/>
        </p:nvSpPr>
        <p:spPr>
          <a:xfrm>
            <a:off x="5929200" y="58132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Скругленный прямоугольник 25"/>
          <p:cNvSpPr/>
          <p:nvPr/>
        </p:nvSpPr>
        <p:spPr>
          <a:xfrm>
            <a:off x="571680" y="6357960"/>
            <a:ext cx="30002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ы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6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5395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b5395"/>
                </a:solidFill>
                <a:latin typeface="Century Schoolbook"/>
              </a:rPr>
              <a:t>УРАВНЕНИЕ:    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3Х+У+9=0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 </a:t>
            </a:r>
            <a:r>
              <a:rPr b="0" lang="en-US" sz="2400" spc="-1" strike="noStrike">
                <a:solidFill>
                  <a:srgbClr val="0b5395"/>
                </a:solidFill>
                <a:latin typeface="Century Schoolbook"/>
              </a:rPr>
              <a:t>ax+by+c=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гд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,b,c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числа Называется линейным уравнением с двумя переменными х и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=3      b=1     c=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фиком линейного уравнения является прям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entury Schoolbook"/>
              </a:rPr>
              <a:t>ГРАФИК УРАВНЕНИЯ:    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3Х+У+9=0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23" name="Содержимое 3" descr="1.png"/>
          <p:cNvPicPr/>
          <p:nvPr/>
        </p:nvPicPr>
        <p:blipFill>
          <a:blip r:embed="rId1"/>
          <a:stretch/>
        </p:blipFill>
        <p:spPr>
          <a:xfrm>
            <a:off x="2071800" y="1500120"/>
            <a:ext cx="4670280" cy="46450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624" name="Скругленный прямоугольник 4"/>
          <p:cNvSpPr/>
          <p:nvPr/>
        </p:nvSpPr>
        <p:spPr>
          <a:xfrm>
            <a:off x="200016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3Х+У+9)(2Х-3)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изведение двух или нескольких множителей равно нулю, если хотя бы один из этих множителей равен нулю ,а другой при этом существу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3х+у+9)(2х-3)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х+у+9=0    или           2х-3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=-3х-9                           2х=-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-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фик данного уравнения – две пересекающиеся прямы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5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3Х+У+9)(2Х-3)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4654800" cy="465444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29" name="Скругленный прямоугольник 3"/>
          <p:cNvSpPr/>
          <p:nvPr/>
        </p:nvSpPr>
        <p:spPr>
          <a:xfrm>
            <a:off x="185724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6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 (2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- центр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4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:    </a:t>
            </a:r>
            <a:br>
              <a:rPr sz="3000"/>
            </a:b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6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286000" y="1798560"/>
            <a:ext cx="4143240" cy="414360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34" name="Прямая соединительная линия 5"/>
          <p:cNvSpPr/>
          <p:nvPr/>
        </p:nvSpPr>
        <p:spPr>
          <a:xfrm>
            <a:off x="4714920" y="2857680"/>
            <a:ext cx="714240" cy="1440"/>
          </a:xfrm>
          <a:prstGeom prst="line">
            <a:avLst/>
          </a:prstGeom>
          <a:ln w="12600">
            <a:solidFill>
              <a:srgbClr val="006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6"/>
          <p:cNvSpPr/>
          <p:nvPr/>
        </p:nvSpPr>
        <p:spPr>
          <a:xfrm>
            <a:off x="4858200" y="25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8"/>
          <p:cNvSpPr/>
          <p:nvPr/>
        </p:nvSpPr>
        <p:spPr>
          <a:xfrm flipH="1">
            <a:off x="4714920" y="2857680"/>
            <a:ext cx="1440" cy="10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10"/>
          <p:cNvSpPr/>
          <p:nvPr/>
        </p:nvSpPr>
        <p:spPr>
          <a:xfrm>
            <a:off x="4357800" y="2857680"/>
            <a:ext cx="357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4573440" y="39290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4144680" y="27147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кругленный прямоугольник 9"/>
          <p:cNvSpPr/>
          <p:nvPr/>
        </p:nvSpPr>
        <p:spPr>
          <a:xfrm>
            <a:off x="2000160" y="607212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=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парабол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ное уравнение задаёт параболу, полученную из 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мещением на 2 единицы вправо и на 4 единицы ввер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1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: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=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44" name="Содержимое 3" descr="Graph4.png"/>
          <p:cNvPicPr/>
          <p:nvPr/>
        </p:nvPicPr>
        <p:blipFill>
          <a:blip r:embed="rId1"/>
          <a:stretch/>
        </p:blipFill>
        <p:spPr>
          <a:xfrm>
            <a:off x="1857240" y="1571760"/>
            <a:ext cx="4584960" cy="458460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45" name="Прямая соединительная линия 5"/>
          <p:cNvSpPr/>
          <p:nvPr/>
        </p:nvSpPr>
        <p:spPr>
          <a:xfrm flipH="1">
            <a:off x="4527720" y="4071960"/>
            <a:ext cx="1440" cy="7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7"/>
          <p:cNvSpPr/>
          <p:nvPr/>
        </p:nvSpPr>
        <p:spPr>
          <a:xfrm flipH="1" flipV="1">
            <a:off x="4142880" y="4071960"/>
            <a:ext cx="428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4430160" y="485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3858840" y="400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ый прямоугольник 8"/>
          <p:cNvSpPr/>
          <p:nvPr/>
        </p:nvSpPr>
        <p:spPr>
          <a:xfrm>
            <a:off x="192888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6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 (2;6)- центр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Так как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=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 графиком является точка с (2;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rcRect l="26902" t="61526" r="28075" b="23829"/>
          <a:stretch/>
        </p:blipFill>
        <p:spPr>
          <a:xfrm>
            <a:off x="0" y="1571760"/>
            <a:ext cx="9144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6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53" name="Содержимое 3" descr="Graph9.png"/>
          <p:cNvPicPr/>
          <p:nvPr/>
        </p:nvPicPr>
        <p:blipFill>
          <a:blip r:embed="rId1"/>
          <a:stretch/>
        </p:blipFill>
        <p:spPr>
          <a:xfrm>
            <a:off x="2286000" y="2143080"/>
            <a:ext cx="3809880" cy="380988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54" name="Овал 4"/>
          <p:cNvSpPr/>
          <p:nvPr/>
        </p:nvSpPr>
        <p:spPr>
          <a:xfrm>
            <a:off x="4500720" y="3071880"/>
            <a:ext cx="71280" cy="71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 flipH="1">
            <a:off x="4500720" y="3082320"/>
            <a:ext cx="10800" cy="9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5"/>
          <p:cNvSpPr/>
          <p:nvPr/>
        </p:nvSpPr>
        <p:spPr>
          <a:xfrm flipH="1" flipV="1">
            <a:off x="4214880" y="3071520"/>
            <a:ext cx="2966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8"/>
          <p:cNvSpPr/>
          <p:nvPr/>
        </p:nvSpPr>
        <p:spPr>
          <a:xfrm>
            <a:off x="4358880" y="414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9"/>
          <p:cNvSpPr/>
          <p:nvPr/>
        </p:nvSpPr>
        <p:spPr>
          <a:xfrm>
            <a:off x="3858840" y="300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кругленный прямоугольник 8"/>
          <p:cNvSpPr/>
          <p:nvPr/>
        </p:nvSpPr>
        <p:spPr>
          <a:xfrm>
            <a:off x="2000160" y="614376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(0;0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=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63" name="Содержимое 3" descr="Graph2.png"/>
          <p:cNvPicPr/>
          <p:nvPr/>
        </p:nvPicPr>
        <p:blipFill>
          <a:blip r:embed="rId1"/>
          <a:stretch/>
        </p:blipFill>
        <p:spPr>
          <a:xfrm>
            <a:off x="2286000" y="1655640"/>
            <a:ext cx="4286160" cy="428652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64" name="Прямая соединительная линия 5"/>
          <p:cNvSpPr/>
          <p:nvPr/>
        </p:nvSpPr>
        <p:spPr>
          <a:xfrm flipV="1">
            <a:off x="4428360" y="3285720"/>
            <a:ext cx="5000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4501800" y="3286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кругленный прямоугольник 6"/>
          <p:cNvSpPr/>
          <p:nvPr/>
        </p:nvSpPr>
        <p:spPr>
          <a:xfrm>
            <a:off x="2071800" y="6215040"/>
            <a:ext cx="485748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-4У+4)=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ните формулу квадрата двучлена во второй скобке.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-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ли уравнение окруж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центро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) и радиусо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4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8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2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-4У+4)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70" name="Содержимое 3" descr="Graph5.png"/>
          <p:cNvPicPr/>
          <p:nvPr/>
        </p:nvPicPr>
        <p:blipFill>
          <a:blip r:embed="rId1"/>
          <a:stretch/>
        </p:blipFill>
        <p:spPr>
          <a:xfrm>
            <a:off x="2286000" y="213192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ая соединительная линия 5"/>
          <p:cNvSpPr/>
          <p:nvPr/>
        </p:nvSpPr>
        <p:spPr>
          <a:xfrm>
            <a:off x="3571920" y="3714840"/>
            <a:ext cx="64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ая соединительная линия 7"/>
          <p:cNvSpPr/>
          <p:nvPr/>
        </p:nvSpPr>
        <p:spPr>
          <a:xfrm flipH="1">
            <a:off x="3569760" y="3716280"/>
            <a:ext cx="180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421524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9"/>
          <p:cNvSpPr/>
          <p:nvPr/>
        </p:nvSpPr>
        <p:spPr>
          <a:xfrm>
            <a:off x="342936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Скругленный прямоугольник 10"/>
          <p:cNvSpPr/>
          <p:nvPr/>
        </p:nvSpPr>
        <p:spPr>
          <a:xfrm>
            <a:off x="192888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8Х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7686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Сгруппировать  относительно переменных х и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8х)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Дополнить скобку до полного квадра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8х+16)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0+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Получили уравнение окружност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с центром(-4;0) и </a:t>
            </a: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R=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6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8Х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79" name="Содержимое 3" descr="Graph6.png"/>
          <p:cNvPicPr/>
          <p:nvPr/>
        </p:nvPicPr>
        <p:blipFill>
          <a:blip r:embed="rId1"/>
          <a:stretch/>
        </p:blipFill>
        <p:spPr>
          <a:xfrm>
            <a:off x="2259000" y="1643040"/>
            <a:ext cx="4299120" cy="429912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80" name="Овал 4"/>
          <p:cNvSpPr/>
          <p:nvPr/>
        </p:nvSpPr>
        <p:spPr>
          <a:xfrm flipH="1" flipV="1">
            <a:off x="3669480" y="3785400"/>
            <a:ext cx="7164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3503160" y="3929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Скругленный прямоугольник 6"/>
          <p:cNvSpPr/>
          <p:nvPr/>
        </p:nvSpPr>
        <p:spPr>
          <a:xfrm>
            <a:off x="200016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entury Schoolbook"/>
              </a:rPr>
              <a:t>УРАВНЕНИЕ:    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27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27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+4Х-8У=16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елите квадрат двучлена относительно переменной х и относительно переменной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8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Х-8У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86" name="Содержимое 3" descr="Graph7.png"/>
          <p:cNvPicPr/>
          <p:nvPr/>
        </p:nvPicPr>
        <p:blipFill>
          <a:blip r:embed="rId1"/>
          <a:stretch/>
        </p:blipFill>
        <p:spPr>
          <a:xfrm>
            <a:off x="2095560" y="171468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ая соединительная линия 7"/>
          <p:cNvSpPr/>
          <p:nvPr/>
        </p:nvSpPr>
        <p:spPr>
          <a:xfrm flipH="1">
            <a:off x="3927600" y="3201840"/>
            <a:ext cx="14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9"/>
          <p:cNvSpPr/>
          <p:nvPr/>
        </p:nvSpPr>
        <p:spPr>
          <a:xfrm>
            <a:off x="3929040" y="3214800"/>
            <a:ext cx="357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2"/>
          <p:cNvSpPr/>
          <p:nvPr/>
        </p:nvSpPr>
        <p:spPr>
          <a:xfrm>
            <a:off x="3786480" y="392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428652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8"/>
          <p:cNvSpPr/>
          <p:nvPr/>
        </p:nvSpPr>
        <p:spPr>
          <a:xfrm>
            <a:off x="185724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5692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entury Schoolbook"/>
              </a:rPr>
              <a:t>УРАВНЕНИЕ ОКРУЖНОСТИ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9d51"/>
                </a:solidFill>
                <a:latin typeface="Century Schoolbook"/>
              </a:rPr>
              <a:t>1 ЭТАП:  </a:t>
            </a: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8"/>
          <p:cNvSpPr/>
          <p:nvPr/>
        </p:nvSpPr>
        <p:spPr>
          <a:xfrm>
            <a:off x="714240" y="5857920"/>
            <a:ext cx="7572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79200" y="1000080"/>
            <a:ext cx="36388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143160" y="785880"/>
            <a:ext cx="57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9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-6480" y="1420920"/>
            <a:ext cx="30117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30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2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-6480" y="1542960"/>
            <a:ext cx="35848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30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entury Schoolbook"/>
              </a:rPr>
              <a:t>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200"/>
            </a:br>
            <a:r>
              <a:rPr b="1" i="1" lang="ru-RU" sz="32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pSp>
        <p:nvGrpSpPr>
          <p:cNvPr id="568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569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3:22:32Z</dcterms:created>
  <dc:creator>Admin</dc:creator>
  <dc:description/>
  <dc:language>en-US</dc:language>
  <cp:lastModifiedBy>Марина</cp:lastModifiedBy>
  <dcterms:modified xsi:type="dcterms:W3CDTF">2012-12-09T08:05:16Z</dcterms:modified>
  <cp:revision>33</cp:revision>
  <dc:subject/>
  <dc:title>Слайд 1</dc:title>
</cp:coreProperties>
</file>