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78C4-5CA8-417C-9C41-1259686219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5936-6FE1-45DE-901F-B0D629FBC6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9F2-130F-4070-9507-1CF8D486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6C5-5A84-4C6F-83DB-B223032A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0B8CC-CD2F-45C6-B3C3-0AC012BA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8CFBA-4D55-46D9-9FC8-7C4DF1D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E1132-8A57-44D1-91D5-15F44871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2CA16-831B-4699-8F8E-93A6362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04F78-8BB4-478B-8C47-5746894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83D95-4748-4B4F-A5F0-8DDB48CA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69ABC-379E-46EA-A602-EE6B43D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D63D9-7886-434F-9739-60924F46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C2245-3946-43D7-B942-37431030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6BFEA-9FD4-4F5D-9B5E-D8CFBB31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B88-D394-4820-AC31-2EEFB6C9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72E42-F868-4C80-8F41-E0733FF9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378C5-DF0E-4799-8D9E-9197388D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699FB-0CD4-4CF9-815F-6332B707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18285-B28A-4DAC-BE9A-A82F1383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3FD97-EDBD-4A84-B1D6-7042B5DC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CB54C-42FA-441A-A37D-D229E3E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2A22E-900B-40A5-85B8-1E7EA646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AE6FA-5390-4BEF-895B-94FEA745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355B-1054-4E95-A34A-2DBF7744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7E09D-0D4C-4152-B474-9F4BA7F6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DE9-7B83-4133-9B16-428C4F57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5483E-1645-4C9C-8CFC-ACB8CCE8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C59DD-2577-40EC-B495-7821ECEF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38E04-800A-4308-8EA4-31FE260A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6D699-4F4B-4588-AFF3-E95385D3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7C52F-67FB-4C49-9DF4-FA0DAD5D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040FD-74DC-487A-B90E-59D749FC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4E6B3-5CF0-4143-8F38-D27573E5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3CCA3-3DE5-43D4-B9DC-B110654D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671FD-DB8F-46AD-AE35-830810A9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C19D6-B5CD-4FF9-9A39-ED0A883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C69F-EE95-4EB4-BE97-81E4C6E7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FA1A2-EFD2-48B1-B3BF-DAE1D87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5438C-88C2-4486-BB5F-3C8B71E7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28556-51B4-4438-B9F4-CC17D717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93EA-6BE1-4727-98DC-4BA65B2D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793-F729-496F-9807-F09B7E3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5FE-EABA-4594-BB8D-7FD2FEDF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CEA6-9432-46DF-82F2-63DFFCDE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9047-E4E5-45AE-8FC3-F2C47035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D2E4-0940-47A7-95B6-B283084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1D8-9A4A-41F5-9C92-40648CA2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EEB3-A601-40BB-B18C-FAF98143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51B-E107-4B3C-B085-51CA7462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5594-8492-46F1-8987-15EA985C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B723-96F9-4337-917C-8D393308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366A-4C14-4549-B928-89154F0C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468CF-AF67-4C6F-B6BB-E37AFBDE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72E22-4400-4642-957B-323145A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75B1C-C742-4752-955E-F898F651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16EAA6-7CE0-4B4A-80BC-F27DA95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6B65E-0DE9-4610-92CA-88EB8DA1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A4D-D016-4F86-887A-AE48052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005F5-6F40-4CD2-8CCE-25ABB264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00ACA-4FD0-4ACB-9279-828FE79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04EC1-0692-4E94-93BA-FBE5D79B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135C0-86F3-48AD-A108-38C262C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E5890-8C94-4EF1-9256-3A8ACF87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683B8-ABC9-4F09-B6D2-A685A3A4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02515-B654-471F-9F89-72F70C4E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47C32-858C-4D6B-A9E2-248890B8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DCF9-3445-42B8-AAC1-95734F35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0372-05BD-459E-A161-C41D429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75F-6AA2-47D2-BDFB-B21616CD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1984F-007D-49B5-AEC6-4F5DF52D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AB39-A67E-4AD7-ABC7-15CA8D90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42BB-C945-42FA-8A0C-2820EF8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B929-E43E-405B-A11C-2C730D5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7B93-8994-42C3-BD26-9BD3DBA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4F8E8-623E-4D82-8DAE-E9999DBA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E4A3-CEC0-4D7B-9E83-EDDF4F36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5446A-C5C9-4153-975D-0398C5AF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4C7FD-39F6-46B0-B495-04A96967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9577A-1A85-469B-A0AB-C394C84C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F1F-CED7-4246-BDC4-4D9C8906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7C583-FDB6-4EA5-85DD-5B0177B0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DDF38-470A-4E44-8A5D-C9F6C8E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F6FCF-B487-4623-B8E1-7499F424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92DB4-1EA6-42F3-A29B-6B259662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DDCA1-7705-4CB0-BA97-4920899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C07EA6-AF89-4097-9926-99E6EE5B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D4BA0-BF96-43C1-962B-D4D6082E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23C1A-B22E-4009-A11B-68E244F0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D5FD4-DB9C-4A10-A23B-570C7A08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DAC1A-45BC-4FB4-B018-B5F6FF5B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B69-E7B5-4FC9-B7C1-656D707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81046-0533-4DCB-B863-A6EB7E7E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5B1E7-65F6-4D6E-9BB9-EEB17138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3D77C-11CE-4827-8B46-CDBEFD55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81086-F0CA-45AA-94CE-70FD83AF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E5A5B-D584-4C69-BBFF-A6EDE863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04E54-87BE-49B6-8160-12F736AD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F40C8-61D0-4605-B463-04E12EB6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08FA6C-8AAF-41BA-843A-D9CB98CC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B3255-EBF4-4C48-A191-7BCDDFF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6B954-E1FF-4E46-AED1-16212ED1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175-03B3-4EBC-9809-579FBA3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286F0-4A2E-4130-8D10-DB4A34AA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272B0C-70A3-4BBA-A5FE-E0265C2E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645A41-B7A7-4F8C-9CF6-B6385F6B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F006D-43F7-4E16-A92F-D7D10BBB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B547A-D9AD-4585-80A1-9C39F2D9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3D5F0-BF88-49DB-9EEC-890AA4D8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3B3C1-3B01-4E97-9209-16D1839F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327DA-3443-4915-80D7-07DC5C3C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FE0DA-91E8-4293-8CE5-E6F692E4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9D4D4-B803-4ED1-A051-F563AF5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5DC-A696-42EB-9831-6E3EDCA2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88B9B-8EBE-4331-B331-2B46FE2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CC0A9-E3A9-4F32-9550-B9F1E3BB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6DEA0-53CA-42F2-B9C0-FAC68B46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58DEF-4616-4A2B-8C40-4566F01C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4A1AE-0907-4CC6-9B18-4D61A2A1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545A-5F84-4A66-9747-59538321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B1FB8-0A47-4574-B5A4-BE44593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BB3DB-B67A-4129-890D-6EBC5E90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DA9F-7187-4093-BFD3-017E4F8E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B4645-AF8D-4C28-8FED-6AC071E1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D69-0E68-4031-B675-61240923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E04E-C564-419D-A1CE-5C536542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59168-C7FC-497D-9CA2-5720E5DB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5307A-D1A8-4668-9130-26688D1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14A0-C9B8-4C91-BB4D-F43E76E2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0AAC7-6C65-4481-97C7-8CE23ECB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2CE0F-A478-4D61-A5F5-8DE571AE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62F3-A5A2-4F0B-929D-A47C8A7E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2A803-D667-4268-BDE1-4A56B907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D17C3-B124-422D-9BEC-E4861D6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4626E-17B2-4E0F-B9EC-C1EC244B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0C2-5088-4B13-86B6-F80E884D7BA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2AAC-9551-44CE-8D16-315500B69F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B73D-1DE4-4619-9C0B-449F0C3FEA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0D41-70E0-45B7-9D36-74FE5B87D4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E23-8FBC-4859-8D63-7186EA62AD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C983-6A39-42B5-83D0-1D3C3E66ABE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BFF5-9929-4417-BF4A-BC06F59988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C6F7-DBA9-4B22-9EE4-E283BE96B06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6EA-31D5-4842-B02E-6813F5E0AF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6E3-E3F1-4823-ABF4-35B70D763D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1F7E-AA4C-41EF-9FD7-C89B8CD837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2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32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Прямоугольник 3" descr=""/>
          <p:cNvPicPr/>
          <p:nvPr/>
        </p:nvPicPr>
        <p:blipFill>
          <a:blip r:embed="rId1"/>
          <a:stretch/>
        </p:blipFill>
        <p:spPr>
          <a:xfrm>
            <a:off x="36360" y="1139760"/>
            <a:ext cx="96379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1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(   ;  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3" name="Picture 2" descr="C:\Documents and Settings\Admin\Рабочий стол\уравнение окружности\Безымянный1.png"/>
          <p:cNvPicPr/>
          <p:nvPr/>
        </p:nvPicPr>
        <p:blipFill>
          <a:blip r:embed="rId1"/>
          <a:stretch/>
        </p:blipFill>
        <p:spPr>
          <a:xfrm>
            <a:off x="208080" y="170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2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оординаты центра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(   ;  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равнение окружност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6" name="Picture 2" descr="C:\Documents and Settings\Admin\Рабочий стол\уравнение окружности\Безымянный6.png"/>
          <p:cNvPicPr/>
          <p:nvPr/>
        </p:nvPicPr>
        <p:blipFill>
          <a:blip r:embed="rId1"/>
          <a:stretch/>
        </p:blipFill>
        <p:spPr>
          <a:xfrm>
            <a:off x="-6480" y="1706400"/>
            <a:ext cx="36450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3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78" name="Picture 2" descr="C:\Documents and Settings\Admin\Рабочий стол\уравнение окружности\7.png"/>
          <p:cNvPicPr/>
          <p:nvPr/>
        </p:nvPicPr>
        <p:blipFill>
          <a:blip r:embed="rId1"/>
          <a:stretch/>
        </p:blipFill>
        <p:spPr>
          <a:xfrm>
            <a:off x="480960" y="1981080"/>
            <a:ext cx="4365720" cy="4157640"/>
          </a:xfrm>
          <a:prstGeom prst="rect">
            <a:avLst/>
          </a:prstGeom>
          <a:ln w="0">
            <a:noFill/>
          </a:ln>
        </p:spPr>
      </p:pic>
      <p:sp>
        <p:nvSpPr>
          <p:cNvPr id="579" name="Овал 5"/>
          <p:cNvSpPr/>
          <p:nvPr/>
        </p:nvSpPr>
        <p:spPr>
          <a:xfrm>
            <a:off x="1857240" y="3071880"/>
            <a:ext cx="71640" cy="71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lang="ru-RU" sz="2900" spc="-1" strike="noStrike">
                <a:solidFill>
                  <a:srgbClr val="008000"/>
                </a:solidFill>
                <a:latin typeface="Century Schoolbook"/>
              </a:rPr>
              <a:t>4.</a:t>
            </a:r>
            <a:r>
              <a:rPr b="0" lang="ru-RU" sz="36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СОСТАВИТЬ УРАВНЕНИЕ ОКРУЖНОСТИ.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81" name="Picture 2" descr="C:\Documents and Settings\Admin\Рабочий стол\уравнение окружности\8.png"/>
          <p:cNvPicPr/>
          <p:nvPr/>
        </p:nvPicPr>
        <p:blipFill>
          <a:blip r:embed="rId1"/>
          <a:stretch/>
        </p:blipFill>
        <p:spPr>
          <a:xfrm>
            <a:off x="633240" y="1994040"/>
            <a:ext cx="4518360" cy="4297320"/>
          </a:xfrm>
          <a:prstGeom prst="rect">
            <a:avLst/>
          </a:prstGeom>
          <a:ln w="0">
            <a:noFill/>
          </a:ln>
        </p:spPr>
      </p:pic>
      <p:sp>
        <p:nvSpPr>
          <p:cNvPr id="582" name="Овал 5"/>
          <p:cNvSpPr/>
          <p:nvPr/>
        </p:nvSpPr>
        <p:spPr>
          <a:xfrm>
            <a:off x="2286000" y="3286080"/>
            <a:ext cx="71280" cy="71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2.</a:t>
            </a:r>
            <a:r>
              <a:rPr b="0" i="1" lang="ru-RU" sz="32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ru-RU" sz="2900" spc="-1" strike="noStrike">
                <a:solidFill>
                  <a:srgbClr val="04617b"/>
                </a:solidFill>
                <a:latin typeface="Century Schoolbook"/>
              </a:rPr>
              <a:t>ПОСТРОЙТЕ В ТЕТРАДИ ОКРУЖНОСТИ, ЗАДАННЫЕ УРАВНЕНИЯМИ:</a:t>
            </a:r>
            <a:endParaRPr b="0" lang="en-US" sz="29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642760"/>
            <a:ext cx="7772400" cy="34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f6fc6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5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+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6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) 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+ 1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7)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49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85" name="TextBox 7"/>
          <p:cNvGrpSpPr/>
          <p:nvPr/>
        </p:nvGrpSpPr>
        <p:grpSpPr>
          <a:xfrm>
            <a:off x="1127160" y="5919840"/>
            <a:ext cx="5243400" cy="519480"/>
            <a:chOff x="1127160" y="5919840"/>
            <a:chExt cx="5243400" cy="519480"/>
          </a:xfrm>
        </p:grpSpPr>
        <p:pic>
          <p:nvPicPr>
            <p:cNvPr id="586" name="TextBox 7" descr=""/>
            <p:cNvPicPr/>
            <p:nvPr/>
          </p:nvPicPr>
          <p:blipFill>
            <a:blip r:embed="rId1"/>
            <a:stretch/>
          </p:blipFill>
          <p:spPr>
            <a:xfrm>
              <a:off x="1127160" y="5919840"/>
              <a:ext cx="5243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1143000" y="5929200"/>
              <a:ext cx="521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e2d700"/>
                  </a:solidFill>
                  <a:uFillTx/>
                  <a:latin typeface="Century Schoolbook"/>
                  <a:hlinkClick r:id="rId2" action="ppaction://hlinksldjump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3200" spc="-1" strike="noStrike">
                <a:solidFill>
                  <a:srgbClr val="008000"/>
                </a:solidFill>
                <a:latin typeface="Century Schoolbook"/>
              </a:rPr>
              <a:t>4</a:t>
            </a:r>
            <a:r>
              <a:rPr b="1" lang="ru-RU" sz="3200" spc="-1" strike="noStrike">
                <a:solidFill>
                  <a:srgbClr val="008000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008000"/>
                </a:solidFill>
                <a:latin typeface="Century Schoolbook"/>
              </a:rPr>
              <a:t> 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СОСТАВЬТЕ УРАВНЕНИЕ ОКРУЖНОСТИ С ЦЕНТРОМ </a:t>
            </a:r>
            <a:r>
              <a:rPr b="1" i="1" lang="ru-RU" sz="2500" spc="-1" strike="noStrike">
                <a:solidFill>
                  <a:srgbClr val="04617b"/>
                </a:solidFill>
                <a:latin typeface="Century Schoolbook"/>
              </a:rPr>
              <a:t>А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(3;2), ПРОХОДЯЩЕЙ ЧЕРЕЗ </a:t>
            </a:r>
            <a:r>
              <a:rPr b="1" i="1" lang="ru-RU" sz="2500" spc="-1" strike="noStrike">
                <a:solidFill>
                  <a:srgbClr val="04617b"/>
                </a:solidFill>
                <a:latin typeface="Century Schoolbook"/>
              </a:rPr>
              <a:t>В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(7;5).</a:t>
            </a:r>
            <a:endParaRPr b="0" lang="en-US" sz="25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89" name="Picture 5" descr=""/>
          <p:cNvPicPr/>
          <p:nvPr/>
        </p:nvPicPr>
        <p:blipFill>
          <a:blip r:embed="rId1"/>
          <a:stretch/>
        </p:blipFill>
        <p:spPr>
          <a:xfrm>
            <a:off x="341280" y="1627200"/>
            <a:ext cx="41385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9d51"/>
                </a:solidFill>
                <a:latin typeface="Century Schoolbook"/>
              </a:rPr>
              <a:t> </a:t>
            </a:r>
            <a:r>
              <a:rPr b="1" i="1" lang="ru-RU" sz="2500" spc="-1" strike="noStrike">
                <a:solidFill>
                  <a:srgbClr val="009d51"/>
                </a:solidFill>
                <a:latin typeface="Century Schoolbook"/>
              </a:rPr>
              <a:t>ГРУППА2:</a:t>
            </a:r>
            <a:r>
              <a:rPr b="0" lang="ru-RU" sz="2500" spc="-1" strike="noStrike">
                <a:solidFill>
                  <a:srgbClr val="009d51"/>
                </a:solidFill>
                <a:latin typeface="Century Schoolbook"/>
              </a:rPr>
              <a:t> </a:t>
            </a:r>
            <a:br>
              <a:rPr sz="2500"/>
            </a:br>
            <a:r>
              <a:rPr b="0" i="1" lang="ru-RU" sz="2500" spc="-1" strike="noStrike">
                <a:solidFill>
                  <a:srgbClr val="009d51"/>
                </a:solidFill>
                <a:latin typeface="Century Schoolbook"/>
              </a:rPr>
              <a:t>№1  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НАЙДИТЕ КООРДИНАТЫ ЦЕНТРА И РАДИУС, ЕСЛИ </a:t>
            </a:r>
            <a:r>
              <a:rPr b="0" i="1" lang="ru-RU" sz="2500" spc="-1" strike="noStrike">
                <a:solidFill>
                  <a:srgbClr val="04617b"/>
                </a:solidFill>
                <a:latin typeface="Century Schoolbook"/>
              </a:rPr>
              <a:t>АВ</a:t>
            </a:r>
            <a:r>
              <a:rPr b="0" lang="ru-RU" sz="2500" spc="-1" strike="noStrike">
                <a:solidFill>
                  <a:srgbClr val="04617b"/>
                </a:solidFill>
                <a:latin typeface="Century Schoolbook"/>
              </a:rPr>
              <a:t> – ДИАМЕТР ДАННОЙ ОКРУЖНОСТИ.</a:t>
            </a:r>
            <a:endParaRPr b="0" lang="en-US" sz="25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457200" y="1600200"/>
          <a:ext cx="8245440" cy="4946760"/>
        </p:xfrm>
        <a:graphic>
          <a:graphicData uri="http://schemas.openxmlformats.org/drawingml/2006/table">
            <a:tbl>
              <a:tblPr/>
              <a:tblGrid>
                <a:gridCol w="1397160"/>
                <a:gridCol w="4216320"/>
                <a:gridCol w="2631960"/>
              </a:tblGrid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инаты 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d</a:t>
                      </a:r>
                      <a:r>
                        <a:rPr b="1" i="1" lang="ru-RU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=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+ (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6600cc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Century Schoolbook"/>
                        </a:rPr>
                        <a:t>)</a:t>
                      </a:r>
                      <a:r>
                        <a:rPr b="0" lang="en-US" sz="2800" spc="-1" strike="noStrike" baseline="30000">
                          <a:solidFill>
                            <a:srgbClr val="6600cc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0; −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(0;   2)        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Century Schoolbook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  ;       )-середина А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   ;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−2;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4; 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ГРУППА1</a:t>
            </a:r>
            <a:br>
              <a:rPr sz="3200"/>
            </a:br>
            <a:r>
              <a:rPr b="0" i="1" lang="ru-RU" sz="3200" spc="-1" strike="noStrike">
                <a:solidFill>
                  <a:srgbClr val="009d51"/>
                </a:solidFill>
                <a:latin typeface="Century Schoolbook"/>
              </a:rPr>
              <a:t>№</a:t>
            </a:r>
            <a:r>
              <a:rPr b="1" i="1" lang="ru-RU" sz="3200" spc="-1" strike="noStrike">
                <a:solidFill>
                  <a:srgbClr val="009d51"/>
                </a:solidFill>
                <a:latin typeface="Century Schoolbook"/>
              </a:rPr>
              <a:t>1    ЗАПОЛНИТЕ ТАБЛИЦУ</a:t>
            </a:r>
            <a:r>
              <a:rPr b="0" lang="ru-RU" sz="3200" spc="-1" strike="noStrike">
                <a:solidFill>
                  <a:srgbClr val="009d51"/>
                </a:solidFill>
                <a:latin typeface="Century Schoolbook"/>
              </a:rPr>
              <a:t>. 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39640" y="1484280"/>
          <a:ext cx="8072640" cy="4357800"/>
        </p:xfrm>
        <a:graphic>
          <a:graphicData uri="http://schemas.openxmlformats.org/drawingml/2006/table">
            <a:tbl>
              <a:tblPr/>
              <a:tblGrid>
                <a:gridCol w="503280"/>
                <a:gridCol w="3745080"/>
                <a:gridCol w="1368360"/>
                <a:gridCol w="24559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равнение окру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ди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орд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1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+ 3)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+ у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=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;    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№</a:t>
            </a:r>
            <a:r>
              <a:rPr b="1" i="1" lang="ru-RU" sz="2800" spc="-1" strike="noStrike">
                <a:solidFill>
                  <a:srgbClr val="008000"/>
                </a:solidFill>
                <a:latin typeface="Century Schoolbook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ьте уравнение окружности с центром в точке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3;−1), проходящей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595" name="Прямоугольник 4"/>
          <p:cNvGrpSpPr/>
          <p:nvPr/>
        </p:nvGrpSpPr>
        <p:grpSpPr>
          <a:xfrm>
            <a:off x="774720" y="5919840"/>
            <a:ext cx="5954760" cy="519480"/>
            <a:chOff x="774720" y="5919840"/>
            <a:chExt cx="5954760" cy="519480"/>
          </a:xfrm>
        </p:grpSpPr>
        <p:pic>
          <p:nvPicPr>
            <p:cNvPr id="59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74720" y="5919840"/>
              <a:ext cx="5954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85880" y="5929200"/>
              <a:ext cx="592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e2d700"/>
                  </a:solidFill>
                  <a:uFillTx/>
                  <a:latin typeface="Century Schoolbook"/>
                  <a:hlinkClick r:id="rId2" action="ppaction://hlinksldjump"/>
                </a:rPr>
                <a:t>Вернуться к групповым задания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4617b"/>
                </a:solidFill>
                <a:latin typeface="Century Schoolbook"/>
              </a:rPr>
              <a:t>ПОСТАНОВКА ПРОБЛЕМЫ.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м известно, что решением уравнения с двумя переменными называют пару чисел (х;у), которая удовлетворяет этому уравн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мы изобрзаим всё множество решений некоторого уравнения на координатной плоскости, то получим график данного уравн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следующем слайде записаны уравнения. Какие фигуры они задают на плоскост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rcRect l="26902" t="30276" r="28075" b="42387"/>
          <a:stretch/>
        </p:blipFill>
        <p:spPr>
          <a:xfrm>
            <a:off x="147600" y="928800"/>
            <a:ext cx="8996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57132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х+у+9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3х+у+9)(2х-3)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х-2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(х-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=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=(х-2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х-2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(х-5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(х+4)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(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4х+4)=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8х=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у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+4х-8у=1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Блок-схема: альтернативный процесс 3"/>
          <p:cNvSpPr/>
          <p:nvPr/>
        </p:nvSpPr>
        <p:spPr>
          <a:xfrm>
            <a:off x="3527280" y="100008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entury Schoolbook"/>
                <a:hlinkClick r:id="rId1" action="ppaction://hlinksldjump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Блок-схема: альтернативный процесс 4"/>
          <p:cNvSpPr/>
          <p:nvPr/>
        </p:nvSpPr>
        <p:spPr>
          <a:xfrm>
            <a:off x="3514680" y="35712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entury Schoolbook"/>
                <a:hlinkClick r:id="rId2" action="ppaction://hlinksldjump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Блок-схема: альтернативный процесс 6"/>
          <p:cNvSpPr/>
          <p:nvPr/>
        </p:nvSpPr>
        <p:spPr>
          <a:xfrm>
            <a:off x="3527280" y="164304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Блок-схема: альтернативный процесс 7"/>
          <p:cNvSpPr/>
          <p:nvPr/>
        </p:nvSpPr>
        <p:spPr>
          <a:xfrm>
            <a:off x="3541680" y="2357280"/>
            <a:ext cx="1571760" cy="35748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Блок-схема: альтернативный процесс 9"/>
          <p:cNvSpPr/>
          <p:nvPr/>
        </p:nvSpPr>
        <p:spPr>
          <a:xfrm>
            <a:off x="3541680" y="307188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Блок-схема: альтернативный процесс 10"/>
          <p:cNvSpPr/>
          <p:nvPr/>
        </p:nvSpPr>
        <p:spPr>
          <a:xfrm>
            <a:off x="3570120" y="371484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Блок-схема: альтернативный процесс 11"/>
          <p:cNvSpPr/>
          <p:nvPr/>
        </p:nvSpPr>
        <p:spPr>
          <a:xfrm>
            <a:off x="3583080" y="4429080"/>
            <a:ext cx="157140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Блок-схема: альтернативный процесс 12"/>
          <p:cNvSpPr/>
          <p:nvPr/>
        </p:nvSpPr>
        <p:spPr>
          <a:xfrm>
            <a:off x="3597120" y="514368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Блок-схема: альтернативный процесс 13"/>
          <p:cNvSpPr/>
          <p:nvPr/>
        </p:nvSpPr>
        <p:spPr>
          <a:xfrm>
            <a:off x="3570120" y="5857920"/>
            <a:ext cx="1571760" cy="357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Блок-схема: альтернативный процесс 16"/>
          <p:cNvSpPr/>
          <p:nvPr/>
        </p:nvSpPr>
        <p:spPr>
          <a:xfrm>
            <a:off x="5929200" y="326880"/>
            <a:ext cx="1571760" cy="35748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Блок-схема: альтернативный процесс 17"/>
          <p:cNvSpPr/>
          <p:nvPr/>
        </p:nvSpPr>
        <p:spPr>
          <a:xfrm>
            <a:off x="5929200" y="985680"/>
            <a:ext cx="1571760" cy="35748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Блок-схема: альтернативный процесс 18"/>
          <p:cNvSpPr/>
          <p:nvPr/>
        </p:nvSpPr>
        <p:spPr>
          <a:xfrm>
            <a:off x="5929200" y="164160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Блок-схема: альтернативный процесс 19"/>
          <p:cNvSpPr/>
          <p:nvPr/>
        </p:nvSpPr>
        <p:spPr>
          <a:xfrm>
            <a:off x="5929200" y="234324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Блок-схема: альтернативный процесс 20"/>
          <p:cNvSpPr/>
          <p:nvPr/>
        </p:nvSpPr>
        <p:spPr>
          <a:xfrm>
            <a:off x="5929200" y="305748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Блок-схема: альтернативный процесс 21"/>
          <p:cNvSpPr/>
          <p:nvPr/>
        </p:nvSpPr>
        <p:spPr>
          <a:xfrm>
            <a:off x="5959440" y="371484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Блок-схема: альтернативный процесс 22"/>
          <p:cNvSpPr/>
          <p:nvPr/>
        </p:nvSpPr>
        <p:spPr>
          <a:xfrm>
            <a:off x="5945040" y="442908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Блок-схема: альтернативный процесс 23"/>
          <p:cNvSpPr/>
          <p:nvPr/>
        </p:nvSpPr>
        <p:spPr>
          <a:xfrm>
            <a:off x="5959440" y="5113440"/>
            <a:ext cx="1571760" cy="35712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Блок-схема: альтернативный процесс 24"/>
          <p:cNvSpPr/>
          <p:nvPr/>
        </p:nvSpPr>
        <p:spPr>
          <a:xfrm>
            <a:off x="5929200" y="5813280"/>
            <a:ext cx="1571760" cy="357480"/>
          </a:xfrm>
          <a:prstGeom prst="flowChartAlternateProcess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Скругленный прямоугольник 25"/>
          <p:cNvSpPr/>
          <p:nvPr/>
        </p:nvSpPr>
        <p:spPr>
          <a:xfrm>
            <a:off x="571680" y="6357960"/>
            <a:ext cx="30002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ы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0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6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6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6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6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5395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b5395"/>
                </a:solidFill>
                <a:latin typeface="Century Schoolbook"/>
              </a:rPr>
              <a:t>УРАВНЕНИЕ:     </a:t>
            </a: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3Х+У+9=0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 </a:t>
            </a:r>
            <a:r>
              <a:rPr b="0" lang="en-US" sz="2400" spc="-1" strike="noStrike">
                <a:solidFill>
                  <a:srgbClr val="0b5395"/>
                </a:solidFill>
                <a:latin typeface="Century Schoolbook"/>
              </a:rPr>
              <a:t>ax+by+c=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гд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,b,c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числа Называется линейным уравнением с двумя переменными х и 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a=3      b=1     c=9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фиком линейного уравнения является прям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3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5395"/>
                </a:solidFill>
                <a:latin typeface="Century Schoolbook"/>
              </a:rPr>
              <a:t>ГРАФИК УРАВНЕНИЯ:    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3Х+У+9=0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23" name="Содержимое 3" descr="1.png"/>
          <p:cNvPicPr/>
          <p:nvPr/>
        </p:nvPicPr>
        <p:blipFill>
          <a:blip r:embed="rId1"/>
          <a:stretch/>
        </p:blipFill>
        <p:spPr>
          <a:xfrm>
            <a:off x="2071800" y="1500120"/>
            <a:ext cx="4670280" cy="4645080"/>
          </a:xfrm>
          <a:prstGeom prst="rect">
            <a:avLst/>
          </a:prstGeom>
          <a:ln w="9360">
            <a:solidFill>
              <a:srgbClr val="0b5395"/>
            </a:solidFill>
            <a:miter/>
          </a:ln>
        </p:spPr>
      </p:pic>
      <p:sp>
        <p:nvSpPr>
          <p:cNvPr id="624" name="Скругленный прямоугольник 4"/>
          <p:cNvSpPr/>
          <p:nvPr/>
        </p:nvSpPr>
        <p:spPr>
          <a:xfrm>
            <a:off x="200016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3Х+У+9)(2Х-3)=0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изведение двух или нескольких множителей равно нулю, если хотя бы один из этих множителей равен нулю ,а другой при этом существу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3х+у+9)(2х-3)=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х+у+9=0    или           2х-3=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=-3х-9                           2х=-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=-1,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фик данного уравнения – две пересекающиеся прямы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5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3Х+У+9)(2Х-3)=0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4654800" cy="465444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29" name="Скругленный прямоугольник 3"/>
          <p:cNvSpPr/>
          <p:nvPr/>
        </p:nvSpPr>
        <p:spPr>
          <a:xfrm>
            <a:off x="185724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6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(y-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окружности, где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;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оординаты центра окружности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радиус окру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данного уравнения (2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- центр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R=4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:    </a:t>
            </a:r>
            <a:br>
              <a:rPr sz="3000"/>
            </a:b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6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2286000" y="1798560"/>
            <a:ext cx="4143240" cy="414360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34" name="Прямая соединительная линия 5"/>
          <p:cNvSpPr/>
          <p:nvPr/>
        </p:nvSpPr>
        <p:spPr>
          <a:xfrm>
            <a:off x="4714920" y="2857680"/>
            <a:ext cx="714240" cy="1440"/>
          </a:xfrm>
          <a:prstGeom prst="line">
            <a:avLst/>
          </a:prstGeom>
          <a:ln w="12600">
            <a:solidFill>
              <a:srgbClr val="0060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6"/>
          <p:cNvSpPr/>
          <p:nvPr/>
        </p:nvSpPr>
        <p:spPr>
          <a:xfrm>
            <a:off x="4858200" y="2500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8"/>
          <p:cNvSpPr/>
          <p:nvPr/>
        </p:nvSpPr>
        <p:spPr>
          <a:xfrm flipH="1">
            <a:off x="4714920" y="2857680"/>
            <a:ext cx="1440" cy="10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ая соединительная линия 10"/>
          <p:cNvSpPr/>
          <p:nvPr/>
        </p:nvSpPr>
        <p:spPr>
          <a:xfrm>
            <a:off x="4357800" y="2857680"/>
            <a:ext cx="357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4573440" y="392904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13"/>
          <p:cNvSpPr/>
          <p:nvPr/>
        </p:nvSpPr>
        <p:spPr>
          <a:xfrm>
            <a:off x="4144680" y="271476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кругленный прямоугольник 9"/>
          <p:cNvSpPr/>
          <p:nvPr/>
        </p:nvSpPr>
        <p:spPr>
          <a:xfrm>
            <a:off x="2000160" y="607212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У=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4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парабол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анное уравнение задаёт параболу, полученную из у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смещением на 2 единицы вправо и на 4 единицы ввер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1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5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: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У=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4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44" name="Содержимое 3" descr="Graph4.png"/>
          <p:cNvPicPr/>
          <p:nvPr/>
        </p:nvPicPr>
        <p:blipFill>
          <a:blip r:embed="rId1"/>
          <a:stretch/>
        </p:blipFill>
        <p:spPr>
          <a:xfrm>
            <a:off x="1857240" y="1571760"/>
            <a:ext cx="4584960" cy="458460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45" name="Прямая соединительная линия 5"/>
          <p:cNvSpPr/>
          <p:nvPr/>
        </p:nvSpPr>
        <p:spPr>
          <a:xfrm flipH="1">
            <a:off x="4527720" y="4071960"/>
            <a:ext cx="1440" cy="7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ая соединительная линия 7"/>
          <p:cNvSpPr/>
          <p:nvPr/>
        </p:nvSpPr>
        <p:spPr>
          <a:xfrm flipH="1" flipV="1">
            <a:off x="4142880" y="4071960"/>
            <a:ext cx="428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"/>
          <p:cNvSpPr/>
          <p:nvPr/>
        </p:nvSpPr>
        <p:spPr>
          <a:xfrm>
            <a:off x="4430160" y="4857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3858840" y="4000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ый прямоугольник 8"/>
          <p:cNvSpPr/>
          <p:nvPr/>
        </p:nvSpPr>
        <p:spPr>
          <a:xfrm>
            <a:off x="192888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6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0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(y-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окружности, где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;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оординаты центра окружности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радиус окру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данного уравнения (2;6)- центр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R=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Так как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=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 графиком является точка с (2;6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8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rcRect l="26902" t="61526" r="28075" b="23829"/>
          <a:stretch/>
        </p:blipFill>
        <p:spPr>
          <a:xfrm>
            <a:off x="0" y="1571760"/>
            <a:ext cx="9144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-2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Х-6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0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53" name="Содержимое 3" descr="Graph9.png"/>
          <p:cNvPicPr/>
          <p:nvPr/>
        </p:nvPicPr>
        <p:blipFill>
          <a:blip r:embed="rId1"/>
          <a:stretch/>
        </p:blipFill>
        <p:spPr>
          <a:xfrm>
            <a:off x="2286000" y="2143080"/>
            <a:ext cx="3809880" cy="380988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54" name="Овал 4"/>
          <p:cNvSpPr/>
          <p:nvPr/>
        </p:nvSpPr>
        <p:spPr>
          <a:xfrm>
            <a:off x="4500720" y="3071880"/>
            <a:ext cx="71280" cy="712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6"/>
          <p:cNvSpPr/>
          <p:nvPr/>
        </p:nvSpPr>
        <p:spPr>
          <a:xfrm flipH="1">
            <a:off x="4500720" y="3082320"/>
            <a:ext cx="10800" cy="9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15"/>
          <p:cNvSpPr/>
          <p:nvPr/>
        </p:nvSpPr>
        <p:spPr>
          <a:xfrm flipH="1" flipV="1">
            <a:off x="4214880" y="3071520"/>
            <a:ext cx="2966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18"/>
          <p:cNvSpPr/>
          <p:nvPr/>
        </p:nvSpPr>
        <p:spPr>
          <a:xfrm>
            <a:off x="4358880" y="4143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19"/>
          <p:cNvSpPr/>
          <p:nvPr/>
        </p:nvSpPr>
        <p:spPr>
          <a:xfrm>
            <a:off x="3858840" y="3000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кругленный прямоугольник 8"/>
          <p:cNvSpPr/>
          <p:nvPr/>
        </p:nvSpPr>
        <p:spPr>
          <a:xfrm>
            <a:off x="2000160" y="614376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5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500"/>
                            </p:stCondLst>
                            <p:childTnLst>
                              <p:par>
                                <p:cTn id="6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(y-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вляется уравнением окружности, где 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;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оординаты центра окружности,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радиус окруж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данного уравн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(0;0)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=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4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8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2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6" dur="500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=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63" name="Содержимое 3" descr="Graph2.png"/>
          <p:cNvPicPr/>
          <p:nvPr/>
        </p:nvPicPr>
        <p:blipFill>
          <a:blip r:embed="rId1"/>
          <a:stretch/>
        </p:blipFill>
        <p:spPr>
          <a:xfrm>
            <a:off x="2286000" y="1655640"/>
            <a:ext cx="4286160" cy="428652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64" name="Прямая соединительная линия 5"/>
          <p:cNvSpPr/>
          <p:nvPr/>
        </p:nvSpPr>
        <p:spPr>
          <a:xfrm flipV="1">
            <a:off x="4428360" y="3285720"/>
            <a:ext cx="50004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8"/>
          <p:cNvSpPr/>
          <p:nvPr/>
        </p:nvSpPr>
        <p:spPr>
          <a:xfrm>
            <a:off x="4501800" y="3286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Скругленный прямоугольник 6"/>
          <p:cNvSpPr/>
          <p:nvPr/>
        </p:nvSpPr>
        <p:spPr>
          <a:xfrm>
            <a:off x="2071800" y="6215040"/>
            <a:ext cx="485748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7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500"/>
                            </p:stCondLst>
                            <p:childTnLst>
                              <p:par>
                                <p:cTn id="6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5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500"/>
                            </p:stCondLst>
                            <p:childTnLst>
                              <p:par>
                                <p:cTn id="6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-4У+4)=16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ните формулу квадрата двучлена во второй скобке.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(у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-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ли уравнение окружн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центро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) и радиусом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R=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4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8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2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</a:t>
            </a:r>
            <a:br>
              <a:rPr sz="3000"/>
            </a:b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(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-4У+4)=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70" name="Содержимое 3" descr="Graph5.png"/>
          <p:cNvPicPr/>
          <p:nvPr/>
        </p:nvPicPr>
        <p:blipFill>
          <a:blip r:embed="rId1"/>
          <a:stretch/>
        </p:blipFill>
        <p:spPr>
          <a:xfrm>
            <a:off x="2286000" y="213192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671" name="Прямая соединительная линия 5"/>
          <p:cNvSpPr/>
          <p:nvPr/>
        </p:nvSpPr>
        <p:spPr>
          <a:xfrm>
            <a:off x="3571920" y="3714840"/>
            <a:ext cx="642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ая соединительная линия 7"/>
          <p:cNvSpPr/>
          <p:nvPr/>
        </p:nvSpPr>
        <p:spPr>
          <a:xfrm flipH="1">
            <a:off x="3569760" y="3716280"/>
            <a:ext cx="1800" cy="64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421524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9"/>
          <p:cNvSpPr/>
          <p:nvPr/>
        </p:nvSpPr>
        <p:spPr>
          <a:xfrm>
            <a:off x="3429360" y="4429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Скругленный прямоугольник 10"/>
          <p:cNvSpPr/>
          <p:nvPr/>
        </p:nvSpPr>
        <p:spPr>
          <a:xfrm>
            <a:off x="192888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7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6500"/>
                            </p:stCondLst>
                            <p:childTnLst>
                              <p:par>
                                <p:cTn id="7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УРАВНЕНИЕ: 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 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8Х=0</a:t>
            </a:r>
            <a:br>
              <a:rPr sz="3000"/>
            </a:b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00200"/>
            <a:ext cx="7686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Сгруппировать  относительно переменных х и 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8х)+у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Дополнить скобку до полного квадра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8х+16)+у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0+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х+4)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24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=1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entury Schoolbook"/>
              </a:rPr>
              <a:t>Получили уравнение окружност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entury Schoolbook"/>
              </a:rPr>
              <a:t>с центром(-4;0) и </a:t>
            </a:r>
            <a:r>
              <a:rPr b="0" lang="en-US" sz="2400" spc="-1" strike="noStrike">
                <a:solidFill>
                  <a:srgbClr val="0d0d0d"/>
                </a:solidFill>
                <a:latin typeface="Century Schoolbook"/>
              </a:rPr>
              <a:t>R=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2" dur="5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6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0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4" dur="50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500"/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500"/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 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8Х=0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79" name="Содержимое 3" descr="Graph6.png"/>
          <p:cNvPicPr/>
          <p:nvPr/>
        </p:nvPicPr>
        <p:blipFill>
          <a:blip r:embed="rId1"/>
          <a:stretch/>
        </p:blipFill>
        <p:spPr>
          <a:xfrm>
            <a:off x="2259000" y="1643040"/>
            <a:ext cx="4299120" cy="4299120"/>
          </a:xfrm>
          <a:prstGeom prst="rect">
            <a:avLst/>
          </a:prstGeom>
          <a:ln w="9360">
            <a:solidFill>
              <a:srgbClr val="0076a3"/>
            </a:solidFill>
            <a:miter/>
          </a:ln>
        </p:spPr>
      </p:pic>
      <p:sp>
        <p:nvSpPr>
          <p:cNvPr id="680" name="Овал 4"/>
          <p:cNvSpPr/>
          <p:nvPr/>
        </p:nvSpPr>
        <p:spPr>
          <a:xfrm flipH="1" flipV="1">
            <a:off x="3669480" y="3785400"/>
            <a:ext cx="71640" cy="716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5"/>
          <p:cNvSpPr/>
          <p:nvPr/>
        </p:nvSpPr>
        <p:spPr>
          <a:xfrm>
            <a:off x="3503160" y="39290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Скругленный прямоугольник 6"/>
          <p:cNvSpPr/>
          <p:nvPr/>
        </p:nvSpPr>
        <p:spPr>
          <a:xfrm>
            <a:off x="200016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500"/>
                            </p:stCondLst>
                            <p:childTnLst>
                              <p:par>
                                <p:cTn id="7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7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04617b"/>
                </a:solidFill>
                <a:latin typeface="Century Schoolbook"/>
              </a:rPr>
              <a:t>УРАВНЕНИЕ:    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27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27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+4Х-8У=16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делите квадрат двучлена относительно переменной х и относительно переменной 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8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entury Schoolbook"/>
              </a:rPr>
              <a:t>ГРАФИК УРАВНЕНИЯ   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У</a:t>
            </a:r>
            <a:r>
              <a:rPr b="0" lang="ru-RU" sz="30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+4Х-8У=16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pic>
        <p:nvPicPr>
          <p:cNvPr id="686" name="Содержимое 3" descr="Graph7.png"/>
          <p:cNvPicPr/>
          <p:nvPr/>
        </p:nvPicPr>
        <p:blipFill>
          <a:blip r:embed="rId1"/>
          <a:stretch/>
        </p:blipFill>
        <p:spPr>
          <a:xfrm>
            <a:off x="2095560" y="171468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ая соединительная линия 7"/>
          <p:cNvSpPr/>
          <p:nvPr/>
        </p:nvSpPr>
        <p:spPr>
          <a:xfrm flipH="1">
            <a:off x="3927600" y="3201840"/>
            <a:ext cx="1440" cy="7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9"/>
          <p:cNvSpPr/>
          <p:nvPr/>
        </p:nvSpPr>
        <p:spPr>
          <a:xfrm>
            <a:off x="3929040" y="3214800"/>
            <a:ext cx="357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2"/>
          <p:cNvSpPr/>
          <p:nvPr/>
        </p:nvSpPr>
        <p:spPr>
          <a:xfrm>
            <a:off x="3786480" y="392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3"/>
          <p:cNvSpPr/>
          <p:nvPr/>
        </p:nvSpPr>
        <p:spPr>
          <a:xfrm>
            <a:off x="4286520" y="3071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Скругленный прямоугольник 8"/>
          <p:cNvSpPr/>
          <p:nvPr/>
        </p:nvSpPr>
        <p:spPr>
          <a:xfrm>
            <a:off x="1857240" y="6286680"/>
            <a:ext cx="4857840" cy="3571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ернуться к зад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8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35692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entury Schoolbook"/>
              </a:rPr>
              <a:t>УРАВНЕНИЕ ОКРУЖНОСТИ</a:t>
            </a:r>
            <a:endParaRPr b="0" lang="en-US" sz="36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4617b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9d51"/>
                </a:solidFill>
                <a:latin typeface="Century Schoolbook"/>
              </a:rPr>
              <a:t>1 ЭТАП:  </a:t>
            </a:r>
            <a:r>
              <a:rPr b="1" i="1" lang="ru-RU" sz="30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14840" y="1571760"/>
            <a:ext cx="450036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Уравнение фигуры</a:t>
            </a:r>
            <a:r>
              <a:rPr b="0" lang="ru-RU" sz="1800" spc="-1" strike="noStrike">
                <a:solidFill>
                  <a:srgbClr val="7030a0"/>
                </a:solidFill>
                <a:latin typeface="Century Schoolbook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это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 двумя переменным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i="1" lang="ru-RU" sz="1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, котор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удовлетворяют координаты лю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точки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– точка окруж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х; у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– точка окру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Что можно сказать о взаимном расположении точек А и С на плоскости и точек А и М на плоск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Как можно сформулировать определение окружн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8"/>
          <p:cNvSpPr/>
          <p:nvPr/>
        </p:nvSpPr>
        <p:spPr>
          <a:xfrm>
            <a:off x="714240" y="5857920"/>
            <a:ext cx="7572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entury Schoolbook"/>
              </a:rPr>
              <a:t>Окружностью называется геометрическая фигура, состоящая из всех точек, расположенных на заданном расстоянии от данной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C:\Documents and Settings\Admin\Рабочий стол\уравнение окружности\4.png"/>
          <p:cNvPicPr/>
          <p:nvPr/>
        </p:nvPicPr>
        <p:blipFill>
          <a:blip r:embed="rId1"/>
          <a:stretch/>
        </p:blipFill>
        <p:spPr>
          <a:xfrm>
            <a:off x="79200" y="1000080"/>
            <a:ext cx="36388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7772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9d51"/>
                </a:solidFill>
                <a:latin typeface="Century Schoolbook"/>
              </a:rPr>
              <a:t>ВЫВОД ФОРМУЛЫ</a:t>
            </a:r>
            <a:endParaRPr b="0" lang="en-US" sz="27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143160" y="785880"/>
            <a:ext cx="57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усть дана окруж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(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х</a:t>
            </a:r>
            <a:r>
              <a:rPr b="0" i="1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) – точка окруж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йти расстояние между точкам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 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= 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можно назвать отрезок АС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С =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овательн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=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9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-6480" y="1420920"/>
            <a:ext cx="30117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3000" spc="-1" strike="noStrike">
                <a:solidFill>
                  <a:srgbClr val="009d51"/>
                </a:solidFill>
                <a:latin typeface="Century Schoolbook"/>
              </a:rPr>
              <a:t>I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окружности, гд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−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−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радиус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ординаты точки окружност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__________________________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;4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3, т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lang="ru-RU" sz="2400" spc="-1" strike="noStrike">
                <a:solidFill>
                  <a:srgbClr val="008000"/>
                </a:solidFill>
                <a:latin typeface="Century Schoolbook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2" name="Picture 2" descr="C:\Documents and Settings\Admin\Рабочий стол\уравнение окружности\Безымянный4.png"/>
          <p:cNvPicPr/>
          <p:nvPr/>
        </p:nvPicPr>
        <p:blipFill>
          <a:blip r:embed="rId1"/>
          <a:stretch/>
        </p:blipFill>
        <p:spPr>
          <a:xfrm>
            <a:off x="-6480" y="1542960"/>
            <a:ext cx="358488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9d51"/>
                </a:solidFill>
                <a:latin typeface="Century Schoolbook"/>
              </a:rPr>
              <a:t>ФОРМУЛА </a:t>
            </a:r>
            <a:r>
              <a:rPr b="1" i="1" lang="en-US" sz="3000" spc="-1" strike="noStrike">
                <a:solidFill>
                  <a:srgbClr val="009d51"/>
                </a:solidFill>
                <a:latin typeface="Century Schoolbook"/>
              </a:rPr>
              <a:t>II</a:t>
            </a:r>
            <a:endParaRPr b="0" lang="en-US" sz="3000" spc="-1" strike="noStrike">
              <a:solidFill>
                <a:srgbClr val="04617b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708000" y="162864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i="1" lang="ru-RU" sz="32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entury Schoolbook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нтр окруж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0;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+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х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+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1" lang="ru-RU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= </a:t>
            </a:r>
            <a:r>
              <a:rPr b="1" i="1" lang="en-US" sz="3200" spc="-1" strike="noStrike">
                <a:solidFill>
                  <a:srgbClr val="0000cc"/>
                </a:solidFill>
                <a:latin typeface="Century Schoolbook"/>
              </a:rPr>
              <a:t>R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en-US" sz="3200" spc="-1" strike="noStrike" baseline="30000">
                <a:solidFill>
                  <a:srgbClr val="0000cc"/>
                </a:solidFill>
                <a:latin typeface="Century Schoolbook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−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равне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кружности с центром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начале координат.      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entury Schoolbook"/>
              </a:rPr>
              <a:t>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0;0) – центр,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тог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+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1" i="1" lang="en-US" sz="2400" spc="-1" strike="noStrike">
                <a:solidFill>
                  <a:srgbClr val="008000"/>
                </a:solidFill>
                <a:latin typeface="Century Schoolbook"/>
              </a:rPr>
              <a:t>2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3635280" y="3141720"/>
            <a:ext cx="25210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C:\Documents and Settings\Admin\Рабочий стол\уравнение окружности\Безымянный5.png"/>
          <p:cNvPicPr/>
          <p:nvPr/>
        </p:nvPicPr>
        <p:blipFill>
          <a:blip r:embed="rId1"/>
          <a:stretch/>
        </p:blipFill>
        <p:spPr>
          <a:xfrm>
            <a:off x="-6480" y="1706400"/>
            <a:ext cx="35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5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9d51"/>
                </a:solidFill>
                <a:uFillTx/>
                <a:latin typeface="Century Schoolbook"/>
              </a:rPr>
              <a:t>ДЛЯ ТОГО ЧТОБЫ СОСТАВИТЬ УРАВНЕНИЕ</a:t>
            </a:r>
            <a:br>
              <a:rPr sz="3200"/>
            </a:br>
            <a:r>
              <a:rPr b="1" i="1" lang="ru-RU" sz="3200" spc="-1" strike="noStrike" u="sng">
                <a:solidFill>
                  <a:srgbClr val="009d51"/>
                </a:solidFill>
                <a:uFillTx/>
                <a:latin typeface="Century Schoolbook"/>
              </a:rPr>
              <a:t>ОКРУЖНОСТИ, НУЖНО:</a:t>
            </a:r>
            <a:endParaRPr b="0" lang="en-US" sz="3200" spc="-1" strike="noStrike">
              <a:solidFill>
                <a:srgbClr val="04617b"/>
              </a:solidFill>
              <a:latin typeface="Century Schoolbook"/>
            </a:endParaRPr>
          </a:p>
        </p:txBody>
      </p:sp>
      <p:grpSp>
        <p:nvGrpSpPr>
          <p:cNvPr id="568" name="Rectangle 3"/>
          <p:cNvGrpSpPr/>
          <p:nvPr/>
        </p:nvGrpSpPr>
        <p:grpSpPr>
          <a:xfrm>
            <a:off x="420840" y="2066760"/>
            <a:ext cx="8242200" cy="4510080"/>
            <a:chOff x="420840" y="2066760"/>
            <a:chExt cx="8242200" cy="4510080"/>
          </a:xfrm>
        </p:grpSpPr>
        <p:pic>
          <p:nvPicPr>
            <p:cNvPr id="569" name="Rectangle 3" descr=""/>
            <p:cNvPicPr/>
            <p:nvPr/>
          </p:nvPicPr>
          <p:blipFill>
            <a:blip r:embed="rId1"/>
            <a:stretch/>
          </p:blipFill>
          <p:spPr>
            <a:xfrm>
              <a:off x="420840" y="2066760"/>
              <a:ext cx="8242200" cy="45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428760" y="2071800"/>
              <a:ext cx="822960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Century Schoolbook"/>
                </a:rPr>
                <a:t>1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узнать координаты центр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Century Schoolbook"/>
                </a:rPr>
                <a:t>2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узнать длину радиус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cc"/>
                  </a:solidFill>
                  <a:latin typeface="Century Schoolbook"/>
                </a:rPr>
                <a:t>3)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подставить координаты центра 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;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40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Century Schoolbook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и длину радиуса </a:t>
              </a:r>
              <a:r>
                <a:rPr b="1" i="1" lang="en-US" sz="40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i="1" lang="ru-RU" sz="4000" spc="-1" strike="noStrike">
                  <a:solidFill>
                    <a:srgbClr val="008000"/>
                  </a:solidFill>
                  <a:latin typeface="Century Schoolbook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в уравнение окруж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 </a:t>
              </a:r>
              <a:r>
                <a:rPr b="1" i="1" lang="ru-RU" sz="3600" spc="-1" strike="noStrike">
                  <a:solidFill>
                    <a:srgbClr val="ff0000"/>
                  </a:solidFill>
                  <a:latin typeface="Century Schoolbook"/>
                </a:rPr>
                <a:t>а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+ 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(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у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 –</a:t>
              </a:r>
              <a:r>
                <a:rPr b="1" lang="en-US" sz="36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Century Schoolbook"/>
                </a:rPr>
                <a:t>b</a:t>
              </a:r>
              <a:r>
                <a:rPr b="0" lang="ru-RU" sz="3600" spc="-1" strike="noStrike">
                  <a:solidFill>
                    <a:srgbClr val="000000"/>
                  </a:solidFill>
                  <a:latin typeface="Century Schoolbook"/>
                </a:rPr>
                <a:t>)</a:t>
              </a:r>
              <a:r>
                <a:rPr b="1" lang="ru-RU" sz="3600" spc="-1" strike="noStrike" baseline="30000">
                  <a:solidFill>
                    <a:srgbClr val="000000"/>
                  </a:solidFill>
                  <a:latin typeface="Century Schoolbook"/>
                </a:rPr>
                <a:t>2 </a:t>
              </a:r>
              <a:r>
                <a:rPr b="1" i="1" lang="ru-RU" sz="3600" spc="-1" strike="noStrike">
                  <a:solidFill>
                    <a:srgbClr val="000000"/>
                  </a:solidFill>
                  <a:latin typeface="Century Schoolbook"/>
                </a:rPr>
                <a:t>= </a:t>
              </a:r>
              <a:r>
                <a:rPr b="1" i="1" lang="en-US" sz="3600" spc="-1" strike="noStrike">
                  <a:solidFill>
                    <a:srgbClr val="008000"/>
                  </a:solidFill>
                  <a:latin typeface="Century Schoolbook"/>
                </a:rPr>
                <a:t>R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Century Schoolbook"/>
                </a:rPr>
                <a:t>2</a:t>
              </a:r>
              <a:r>
                <a:rPr b="1" lang="ru-RU" sz="3600" spc="-1" strike="noStrike">
                  <a:solidFill>
                    <a:srgbClr val="000000"/>
                  </a:solidFill>
                  <a:latin typeface="Century Schoolbook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3:22:32Z</dcterms:created>
  <dc:creator>Admin</dc:creator>
  <dc:description/>
  <dc:language>en-US</dc:language>
  <cp:lastModifiedBy>Марина</cp:lastModifiedBy>
  <dcterms:modified xsi:type="dcterms:W3CDTF">2012-12-09T08:05:16Z</dcterms:modified>
  <cp:revision>33</cp:revision>
  <dc:subject/>
  <dc:title>Слайд 1</dc:title>
</cp:coreProperties>
</file>