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D87-1946-49E7-A245-6EE6C604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9E5-67B2-45A4-99DD-491AFE77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F37B-AB8E-404D-B309-A8AB0A29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753-8936-4999-87CD-F9C661C1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E53-274D-4E80-B040-173B5886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1539-9D18-49EF-8956-91FCBC7D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EE4-8CAF-4F4D-BBFB-E0BE40E1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8C1-0BC7-4C4E-96CB-B2F97360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DC1-662E-4E60-A81E-E7A27AD6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172C-CD02-43D5-AB56-C475EDE0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60A-2091-49E1-83D7-B2AD158B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2EF-B8A3-44A2-9A40-D96DBBEC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9B8B-BFA9-487D-8256-35992823C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рольно – проверочные задания по разделу: «Великие преобразования России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е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  систематизировать и закрепить знания о важных события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. Почему  время Екатерин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называют «золотым веком» дворян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воряне помогли Екатер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зойте на прест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отребовали дворя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было много золота у двор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. Какая из привилегий по вашему мнению более всего укрепляло положение дворян в российском обще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воряне получили право лично обращаться к императриц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ворянам  разрешалось нигде не служ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воряне могли лично обращаться к императр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ворянам передавалась земля в соб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. Сравните, какую помощь оказывали МЕЦЕНАТЫ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е и какую сейча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3880" y="5486400"/>
          <a:ext cx="6096240" cy="1491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iii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оящее 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.Подготовьте  сообщение по плану- вопросн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3880" y="1397160"/>
          <a:ext cx="6096240" cy="55180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проходила крестьянская войн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3 – 1775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возглавил эту войн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к Емельян Пугач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акой ПРИЧИНЕ началась войн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ыносимый крепостной  гнет  и тяжелая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принимал участие в войн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е, мордва, татары, чуваши, башкиры, калмы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УЮ территорию охватила войн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олж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ИЕ города удалось захватить восставши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 закончилась войн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ажение крестья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. Причина русско – турецких вой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урция мешала России развивать торговлю в южном направл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сора России с Турци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авно не было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ные полководцы, командовавшие в русско – турецкой вой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утузов М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уворов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Ушаков Ф.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Орлов А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умянцев П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берите лиш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При взятии какой крепости русскому полководцу ответили: «Скорее небо упадет на землю, чем сдастся .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Кронштад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Изма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ым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Какое из высказываний А.В.Суворова нам  и сейчас говор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«Чтобы победить врага, надо его удиви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«Бить не числом, а умение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«Тяжело в ученье – легко в бо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«Мы,  русские, все одолее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. Соотнесите изобретения с их созда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.И.Ползунов         - прож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емаф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рманные 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паров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л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.П.Кулибин            - суда, которые двигались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щью ко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амодвижущаяся теле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едините стре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Заполните таблицу по теме: «Развитие литературы и искусства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905120"/>
          <a:ext cx="6096240" cy="3868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искус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ющиеся деятели куль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стные произ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ПИ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УЛЬП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ТЕ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Составьте кластер по проблеме: «АРИСТОКРА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! Воспользуйтесь материалом учебника, стр.1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Составьте рассказ с помощью кластера по проблеме: «АРИСТОКРА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Какой элемент гардероба аристократ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а имеет популярность и сейч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убашка с круже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чу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ботфо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событ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а вы хотели бы принять участие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нами каких  выдающихся людей названы улицы в вашем го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иц - 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Фамилия Пе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ост Пет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Столица Российской имп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Год основания 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Земляные укре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Сражение 170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Гет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Вторая жена Пе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Титул Пе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Годы Северной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Название России после победы в Северной вой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Профессии Пе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Имя сестры Пе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ние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емляное укрепление, построенное для Полтавского с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54120" y="1600200"/>
            <a:ext cx="603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Годы Северной вой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00-1812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09-1711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00-1721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За что Пе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ил титул императ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за победу в Северной вой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за перенесение столицы в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за личные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 Найди значение слова.                Ассамблея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. Нововведения Пет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выпуск газеты «Ведом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европейская одеж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азднование Нового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ошение бо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ввоз древес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му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еа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ассамбл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рите ли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ние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смотрите обмундирование солдата петровских времен. Назовите элементы его обмундирования. Подсчитайте, сколько стоит весь комплект обмунд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шляпа =21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башмаки =86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галстук = 2,5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камзол =3 руб. 41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штаны =2 руб. 43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чулки =30,5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плащ = 3 руб.65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И.Бегунова «От кольчуги до мундир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…Армейская пехота одевалась в темно – зеленый кафтан с воротником, обшлагами, оторочкой петель и красной подкладкой, красный камзол и штаны при белых галстуке и чулках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разите свое мн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российском императоре Петр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ставив синквей (пятистрочь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т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______,_____________,_________________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акой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__________,__________,_____________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что делал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одно предложение о н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ние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отнесите понятия с их объяс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РЕЙЛИНЫ                 - дворяне, служившие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ператорском д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ДВОРНЫЕ            - личный слуга импер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ЖИ                           - личные служанки импер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едините стре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. Год основания Московского университ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185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175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172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. Первый российский ученый, академик, основатель университ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Шумах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Ломон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Шув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. «Золотой век» дворянства был пр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етр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Елизав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Екатер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ерите  правиль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1-23T17:03:4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