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1A85-AC6D-4153-AEB3-9F050941D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24CD-5DFC-4E5E-B482-3930CF8D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3A56-139A-41A7-AC90-BEEA64C1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18BB-F214-4A55-B04F-D1E1E11E2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34A7-F532-496A-B565-3A651855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A920-3504-4067-AD55-D9DE9E62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F2FD-B2D3-4CBB-8AD7-C5E972EE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F657-33D4-4BD9-8C86-BED802DC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502C-0017-44D5-8463-340C002A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EE83-0029-4DE6-B545-F431282E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93CC-F435-484F-9A24-824248CC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1E19-E0D6-4015-A9FE-BEA57AD9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7B3E-34C5-4F83-B6FE-4B436B79C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трольно – проверочные задания по разделу: «Великие преобразования России 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ек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:  систематизировать и закрепить знания о важных события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. Почему  время Екатерин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называют «золотым веком» дворянст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дворяне помогли Екатерин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зойте на прест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отребовали дворя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было много золота у дворя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ерите правильный от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. Какая из привилегий по вашему мнению более всего укрепляло положение дворян в российском обще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дворяне получили право лично обращаться к императриц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дворянам  разрешалось нигде не служи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дворяне могли лично обращаться к императр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дворянам передавалась земля в соб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. Сравните, какую помощь оказывали МЕЦЕНАТЫ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ке и какую сейчас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523880" y="5486400"/>
          <a:ext cx="6096240" cy="14918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viii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тоящее 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.Подготовьте  сообщение по плану- вопросн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523880" y="1397160"/>
          <a:ext cx="6096240" cy="55180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 проходила крестьянская войн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3 – 1775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 возглавил эту войну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зак Емельян Пугач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какой ПРИЧИНЕ началась войн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выносимый крепостной  гнет  и тяжелая жиз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 принимал участие в войн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е, мордва, татары, чуваши, башкиры, калмы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УЮ территорию охватила войн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олж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ИЕ города удалось захватить восставши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М закончилась войн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ажение крестья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. Причина русско – турецких вой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Турция мешала России развивать торговлю в южном направл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сора России с Турци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давно не было вой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ерите правильный от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дные полководцы, командовавшие в русско – турецкой вой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Кутузов М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уворов А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Ушаков Ф.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Орлов А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Румянцев П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берите лиш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. При взятии какой крепости русскому полководцу ответили: «Скорее небо упадет на землю, чем сдастся ..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Кронштад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Изма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Рым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ерите прави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. Какое из высказываний А.В.Суворова нам  и сейчас говоря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«Чтобы победить врага, надо его удиви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«Бить не числом, а умение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«Тяжело в ученье – легко в бо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«Мы,  русские, все одолее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ерите прави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. Соотнесите изобретения с их созда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.И.Ползунов         - прож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семаф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карманные ч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паровая ма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лиф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.П.Кулибин            - суда, которые двигались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мощью ко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самодвижущаяся теле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едините стре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. Заполните таблицу по теме: «Развитие литературы и искусства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ек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1905120"/>
          <a:ext cx="6096240" cy="38685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искус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ющиеся деятели куль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вестные произ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ОПИС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УЛЬП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ИТЕК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. Составьте кластер по проблеме: «АРИСТОКРА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имание! Воспользуйтесь материалом учебника, стр.1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. Составьте рассказ с помощью кластера по проблеме: «АРИСТОКРА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. Какой элемент гардероба аристократ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ка имеет популярность и сейча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рубашка с круже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чу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ботфо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ерите прави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событи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ека вы хотели бы принять участие?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енами каких  выдающихся людей названы улицы в вашем горо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лиц - иг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Фамилия Петр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Рост Пет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Столица Российской имп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Год основания Санкт-Петербу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Земляные укреп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Сражение 1709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Гет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Вторая жена Петр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Титул Петр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Годы Северной вой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Название России после победы в Северной вой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Профессии Петр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Имя сестры Петр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дание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емляное укрепление, построенное для Полтавского с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54120" y="1600200"/>
            <a:ext cx="603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. Годы Северной вой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00-1812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709-1711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700-1721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ери правильны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. За что Пет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ил титул императо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за победу в Северной вой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за перенесение столицы в 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за личные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.  Найди значение слова.                Ассамблея – э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. Нововведения Пет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выпуск газеты «Ведомо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европейская одеж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разднование Нового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ношение бор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ввоз древес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му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теа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ассамбле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берите лиш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ние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смотрите обмундирование солдата петровских времен. Назовите элементы его обмундирования. Подсчитайте, сколько стоит весь комплект обмундир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шляпа =21 ко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башмаки =86 ко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галстук = 2,5 ко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камзол =3 руб. 41 ко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штаны =2 руб. 43 ко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чулки =30,5 ко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плащ = 3 руб.65 ко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.И.Бегунова «От кольчуги до мундир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…Армейская пехота одевалась в темно – зеленый кафтан с воротником, обшлагами, оторочкой петель и красной подкладкой, красный камзол и штаны при белых галстуке и чулках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разите свое мн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российском императоре Петр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оставив синквей (пятистрочь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тр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______,_____________,_________________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какой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__________,__________,_____________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что делал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одно предложение о н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кто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ние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отнесите понятия с их объясн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РЕЙЛИНЫ                 - дворяне, служившие п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ператорском дв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ДВОРНЫЕ            - личный слуга импер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ЖИ                           - личные служанки императр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едините стре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. Год основания Московского университе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1855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1755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1725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ерите правильный от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. Первый российский ученый, академик, основатель университе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Шумах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Ломоно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Шув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ерите правильный от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. «Золотой век» дворянства был пр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етр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Елизав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Екатерин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ерите  правильный от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11-23T17:03:4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