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34A-2752-434B-B79E-303A991D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508-9941-49E7-A775-1E37601A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302E5-C1C6-476D-B5D0-5E4FBD96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BC6DB-1C41-4A14-A416-FE7B37AB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C5574-63D2-479F-8285-5D75DDB9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8BCCF-0E8D-4EA0-969E-C7A42F57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0CD5A-241D-4C0C-AF1B-D380EAAB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49B66-D7FF-4B53-9D4E-6E89C5FF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B9DD9-DC33-4503-BBEE-1C58FA92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A0CEE-A567-4BF5-9429-3AFF2E40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DB727-F9A6-4D03-85D5-238C3EA7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2D9AE-466A-4F57-BAFB-2ACBAE1B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267-B26E-43EB-AE90-1592B5ED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ACEE5-E473-4AED-B322-406C9FA5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14EA6-908A-49A8-8669-B31FCD07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4A277-52D9-4C1B-9124-DC32D3F5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07CCC-7297-448F-BC3F-E3BE3A9C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2A51C-070A-45B1-A3F7-25421A2E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24315-536B-4D64-BF77-486034BC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D09E8-B222-4AB5-81D6-9446F67E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B3DC6-D4FD-4B7C-8DE5-C54CC07C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0B19E-BDF7-43C5-9245-C0A84347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0BB60-C55E-475F-89CC-DB14F31C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977-8F8E-45E1-8CEE-EE60AEBE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71234-3C49-45CC-9FCB-2C857E90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1EAD2-E81F-42F8-BB98-5DD3551F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94568-4178-4DCB-9210-058D91C7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3279B-D1F9-44EF-80F4-851E8B44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5A0A4-6410-430A-B55C-24EDBE4F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94EAC-07C5-413B-866F-4B3F0E64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64D10-780B-475F-BB72-4F5AFEAE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6244B-57C0-43C6-8245-D28FAFF1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E2A43-1FDD-4ED1-9C6C-9B4F50A3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B6AF7-C3F8-4D9B-A491-B24F34BF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2A24-D1BC-462F-8637-FAA3E8B2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0916C-DF5F-4082-BC33-71582B29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63CE1-DA36-46EC-9C9E-1251AC4C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DDFF2-0138-45C0-9CC8-95B93442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E799D-B1E7-45AB-917B-0B304A56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5C2AC-6EE7-4AE8-949E-3399CBA3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338EC-9FA3-4390-9F9A-144281DD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7C4DF-0364-44A5-92DA-8E46D05D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5994D-03D6-430A-AC94-782DD8B9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82705-8CB5-49CA-B1FE-332AD94A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9238D-1B22-4562-9528-5E08D5F6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9A79-E6AD-4490-85A5-0C9C18D8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B340A-EE13-442D-B1DE-11CA8EDF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1EC3D-5DCB-4884-AD6C-5AB85573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9CA13-F560-4EE6-93B7-ED93A3E1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53BF9-EE13-4DA7-969B-2A8ED0CE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9F5C1-F099-4016-BC0E-E40A343D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F5839-6DC3-4725-A628-0B892639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72F71-5510-4709-90A5-3972BAD8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F01C0-A4DF-4783-9540-4F6B6103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CFAF0-2CF2-4A46-81CD-5D98E6C2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0789B-8AA8-45B7-82D5-F9BB2754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A484-65F8-4654-949F-EE39E94C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8A028-079F-4F24-8F7F-7C0B24EA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D1584-953C-40B0-B046-6224C1F0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06F65-B916-42B7-AF05-88A3A6A3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686B2-41A9-41E1-85E3-11EC3417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11CCB-449A-440E-A7BE-58EB1994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A2FEB-2D32-4983-94E6-C35CA515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20A36-E52B-4448-AF17-8DD1FE98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01F905-9657-4880-B692-B562DB93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C49E3-D948-4DC9-88A2-4F6A088F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27647-A17A-4E9A-A821-8DB836E6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CDDA-36D0-451E-94DD-4B99D38F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F37DC-EAA7-4183-907D-0FC40210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0FBEF2-3252-4F36-A1D2-50B90187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1532E-5612-410A-98BD-CAF13124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E02AD-8497-402B-BC53-B2097B67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26470-B6CB-49FD-9494-F5AB6644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3802C1-A5CF-4F6C-BBCA-FD6D4D55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9D2ED-4F0D-4952-ABD8-EE0F2B7A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6AB40-8F8E-4BF7-AAAB-BA057FB7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78BCE-90F3-442E-8E17-980B9837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D093-98A4-409A-9365-7F753D53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CA25-4E00-4978-9D3F-CF92ABE2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1C20-4F17-4B2D-A9C3-E0941202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169-600B-4712-BB93-FF1E20F4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3E7E-4BE0-40EC-BCD6-B807E2EF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4F03-2F4C-41EF-B92C-6AAAE3CB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3C3E-92DA-4F4B-8263-182446E2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C28B-1881-4A62-BAE6-E2617F32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32D8-5891-496D-98FD-D07A3D53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438D-D9BC-451A-B94D-43329D9B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4EF48-F85B-4424-A206-DC6D84EC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6F54-F82C-44B9-9C75-F00B463C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3AF7-9D1A-4FC4-8B39-9AA31FB9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D2B2D-C00E-47C2-B0BF-9FEF7752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7C3-A2C3-483A-BC86-0201C060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6055F-1095-4F13-90A6-2A4FC89A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4E461-DD23-4236-BCDC-93A61A20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9D86-FA20-4E12-9988-EB98856A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B0E87-0877-4E2A-BFD3-057B0826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CB278-C47F-4C28-84B8-5C076636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F87E-CA5C-43D5-B471-01D0E9A5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9991D-67BD-441E-B1B6-D2B02487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80D64-6871-4A88-8C42-3A62E8F7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55FFA-C53F-49C1-874E-8CFBA0DB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4913A-BF0F-4E6F-ACDB-D0F42BBC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426-1C07-4A97-A9EE-D8BD77F8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02028-4AD6-4872-BB2C-1D1D18B8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2EB8-1DF0-477B-BB7B-E999E377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6F465-4ACE-4778-B989-88C13B40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590DE-CF1F-4425-8564-7233BD4A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FA356-2F2B-4DDF-A621-0BBA1304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7852C-AA7C-428B-A0C5-80283B7B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21054-529A-4A5E-936B-3770A37C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ED44E-18E0-4C00-83A4-1FD2D65A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4E3E3-1FE5-4A23-87B5-D100FC2E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E80BD-EF0E-4256-9E3B-B7C7CD9E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F522-7B16-46DF-B6E6-2E3573B4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4B3DB-D50B-445B-AB08-9E24E4E4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65061-4509-43B5-AC92-E136F579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E4F8C-B86C-43A6-95C4-0D8BB4D0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347C5-3FB2-4646-8821-018F7CC8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99B1E-FEEE-45D7-B88D-E0F53D08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61F87-108E-42E7-A7BD-B73E3363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29FE9-1EF7-45BF-A1BE-753B94EC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7390F-AFA5-4A2A-9464-D9944594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C6878-46DF-4322-9F55-32CACBEC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B201C-5F53-482B-9DC4-E031E89E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888-EF7D-4F14-B33B-D8EF0EB2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75E3B-BEFA-4BA4-AB0F-2505ADCF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AF908-214A-4A3A-AF26-E1E81C8D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5283A-A5E2-47EB-A17C-8A36F8E6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570AD-F9A5-43E2-A967-C970DE43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A78E3-36A7-475D-8012-AA63D92B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9935C-DFBC-4AEC-AACA-0890D0E7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43E13-C488-412B-BAB9-51701857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6FAC6-DC11-41BC-8F3A-632FE744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44311-BC97-4F59-AD9E-1882D023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33DE0-C4BF-4EF2-8F0A-D4D00F60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C6EE-AFAB-429A-8352-3B64E9D1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338A7-083B-4E2C-AF13-13D3A8C9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1C0F7-9ECC-4F67-AD8C-5E4B6448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27FB6-B452-448A-9326-780A5412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56A28-286E-49B4-8AF6-0B902A72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82C99-6A45-40EF-B31B-83976EE4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ED939-FF79-45E1-AB20-14944D46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C5CED-BEF4-4334-96CF-52AAD90A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CB48C-1197-4E41-81F7-14D2798A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6A3A9-CE7D-48E0-89EA-8E253314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B776D-2A6D-49DC-8523-F125748F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7EB-2C1A-4041-9BC0-12422547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F17B0-3FE4-4C17-AF6C-71ABE03C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60533-42DE-465D-B486-D9C1B992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99132-01B7-40BC-B59F-7D24C573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50431-01FE-4173-9DB1-DFCE2F15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C4EAF-35CF-42B7-9080-3EB37976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F654A-B9E0-4627-B667-E45EF908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2C65A-6742-49BF-A120-06BEAE8D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33085-4FF6-436C-A088-150250EF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37040-9D41-4A15-B1A9-C5C2AEC1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8386D-0AAA-4A44-80DF-BBE24D50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380-DA66-440A-ADF5-FA90EBFC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CBC7F-82C8-43FC-9295-D4277821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E2888-403F-44B6-82D9-30A03C27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0A853-CC97-4859-BDF7-0E070B8D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2E583-98F9-4D44-AFAA-D48FEDD7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2A826-E7DD-44BC-A2E7-D5D87EAB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2E451-32B7-42E5-B28B-943EF9A8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91284-9F2C-490D-BCC0-72979B5D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C26E3-CBEF-4857-90CA-360DB132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C3210-D8F6-49DE-AC26-517B90B4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9BCEF-27D5-47E8-8C62-8B1B2333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F020-A375-4F93-9B2C-23718908F3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9FD6-6DD8-4C75-BF14-EFDC16F2A1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4536-F3A6-4E4C-BE6B-5D3787656A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B124-1971-4F94-B3F9-C796B6C728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2124-F650-4C91-993E-FD0DF47EEB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570C-0890-4326-B1D3-BA4D0D1E7B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ABDF-F611-4015-B1C3-36F931DDBC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90FD-E201-4F9F-B33E-FDF8981F6D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141D-F506-43F1-84E3-F986CE8A4E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E8BC-0C57-4905-B190-AE6160E04D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EDD1-7868-4AAB-AB36-950C2AAEBB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1490-64B2-4D1D-AB3B-31BA84E633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3266-FA43-43DE-B8BD-5F077A0D6C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4322-0FE5-4D06-83E5-ECC83D4FC4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</a:rPr>
              <a:t>Можно ли по анализу видового разнообразия живых организмов установить качество воды?</a:t>
            </a:r>
            <a:r>
              <a:rPr b="0" lang="ru-RU" sz="52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211280" y="3644640"/>
            <a:ext cx="4527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ект учащихс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класс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гай Юл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ынгус Оксан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лимонова Виктор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рмолаев Макси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й руководител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. А. Гвоз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900000" y="981000"/>
            <a:ext cx="7848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лисапробные воды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Характеризуются полным отсутствием кислорода, наличием в воде неразложившихся белков и значительного количества сероводорода и углекислого газа. Это самая грязная и отвратительно пахнущая вода. Однако, и в ней есть жизнь. В воде, прежде всего, можно встретить бактерий: самых крупных серных бактерий и  нитчатых бактерий сферотилус. В такой воде живут жгутиконосцы и инфузории путринум. Есть даже сувойки, но только напоминающие не ландыш, а скорее шарик на тонкой ножке. В иле развивается много червей трубочников, а по дну ползают личинки мухи-крыски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-месосапробная зона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В этой воде еще есть аммиак, вода пахнет сероводородом, но уже появляется и кислород. В такой воде присутствуют многочисленные бактерии, грибы мукор, одноклеточные водоросли. Встречаются окрашенные жгутиконосцы хламидоманады, эвглены и огромные инфузории-трубачи. Появляются в этой зоне сапробности коловратки, моллюски сфериум, рачки водяные ослики. В иле. В огромном количестве, развиваются личинки комаров хирономид, многие крупные виды которых называют мотыле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-мезосапробная зона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Вода этой зоны почти не содержит аминокислот, в ней мало сероводорода. Зато вода насыщена кислородом. Видовое разнообразие организмов-индикаторов в этой зоне выше, чем в других зонах. Из водорослей встречаются диатомовые и зеленые. Хлорелла из протококковых водорослей или спирогира из нитчатых водорослей образуют тину. В этих водах встречаются цветковые растения, ракообразные и рыб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лигосапробная зона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Зона самой чистой воды. Бактерий в такой воде мало, видов животных и растений много, но число особей каждого вида невелико. Организмами паразитами этой зоны могут быть как водоросли, так и микроскопические животные, например, сувойки-нубилиферы. Здесь встречаются дафнии - лонгиспины, у которых раковина заканчивается длинным отростком. Высшая водная растительность - полушник озерный и полушник иглистый - тоже указывает на чистоту воды в водоеме. Рыбы, обитающие в этой зоне, обычно холодолюбивые, предпочитают высокое содержание кислорода в воде. Это радужная и ручьевая форель, красноперка, сиг, рипу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402920" y="1483920"/>
            <a:ext cx="360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 исследовании водной флоры и фауны с помощью микроскопа и определителя было установлено, что из флоры присутствует ряска (трехраздельная и малая), нитчатые водоросли ( улотрикс и спирогира), вилиснерия, рдесты, роголи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4" descr=""/>
          <p:cNvPicPr/>
          <p:nvPr/>
        </p:nvPicPr>
        <p:blipFill>
          <a:blip r:embed="rId1"/>
          <a:stretch/>
        </p:blipFill>
        <p:spPr>
          <a:xfrm>
            <a:off x="6084720" y="1700280"/>
            <a:ext cx="2316240" cy="21636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" descr=""/>
          <p:cNvPicPr/>
          <p:nvPr/>
        </p:nvPicPr>
        <p:blipFill>
          <a:blip r:embed="rId2"/>
          <a:stretch/>
        </p:blipFill>
        <p:spPr>
          <a:xfrm>
            <a:off x="5148360" y="4292640"/>
            <a:ext cx="3365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971280" y="1341360"/>
            <a:ext cx="4105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 исследовании водной фауны с помощью микроскопа и определителя было установлено, что из фауны здесь присутствуют волосатики, дафнии, циклопы, эвглены зеленые, катушки (роговая и окаймленная), прудовик обыкновенный, пиявки, верховки, уклейки, плотва, караси, щуки и раки, лягушки остромордые, трито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4" descr=""/>
          <p:cNvPicPr/>
          <p:nvPr/>
        </p:nvPicPr>
        <p:blipFill>
          <a:blip r:embed="rId1"/>
          <a:stretch/>
        </p:blipFill>
        <p:spPr>
          <a:xfrm>
            <a:off x="5219640" y="1522440"/>
            <a:ext cx="1513080" cy="1146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5" descr=""/>
          <p:cNvPicPr/>
          <p:nvPr/>
        </p:nvPicPr>
        <p:blipFill>
          <a:blip r:embed="rId2"/>
          <a:srcRect l="3897" t="5156" r="3819" b="8407"/>
          <a:stretch/>
        </p:blipFill>
        <p:spPr>
          <a:xfrm>
            <a:off x="7093080" y="1484280"/>
            <a:ext cx="1726920" cy="1224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6" descr=""/>
          <p:cNvPicPr/>
          <p:nvPr/>
        </p:nvPicPr>
        <p:blipFill>
          <a:blip r:embed="rId3"/>
          <a:stretch/>
        </p:blipFill>
        <p:spPr>
          <a:xfrm>
            <a:off x="7524720" y="2924280"/>
            <a:ext cx="1214640" cy="17953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7" descr=""/>
          <p:cNvPicPr/>
          <p:nvPr/>
        </p:nvPicPr>
        <p:blipFill>
          <a:blip r:embed="rId4"/>
          <a:stretch/>
        </p:blipFill>
        <p:spPr>
          <a:xfrm>
            <a:off x="7304040" y="5013360"/>
            <a:ext cx="1655640" cy="13827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"/>
          <p:cNvPicPr/>
          <p:nvPr/>
        </p:nvPicPr>
        <p:blipFill>
          <a:blip r:embed="rId5"/>
          <a:stretch/>
        </p:blipFill>
        <p:spPr>
          <a:xfrm>
            <a:off x="5219640" y="2919240"/>
            <a:ext cx="1728720" cy="11620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9" descr=""/>
          <p:cNvPicPr/>
          <p:nvPr/>
        </p:nvPicPr>
        <p:blipFill>
          <a:blip r:embed="rId6"/>
          <a:stretch/>
        </p:blipFill>
        <p:spPr>
          <a:xfrm>
            <a:off x="5219640" y="4265640"/>
            <a:ext cx="1592280" cy="12096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0" descr=""/>
          <p:cNvPicPr/>
          <p:nvPr/>
        </p:nvPicPr>
        <p:blipFill>
          <a:blip r:embed="rId7"/>
          <a:stretch/>
        </p:blipFill>
        <p:spPr>
          <a:xfrm>
            <a:off x="5219640" y="5530680"/>
            <a:ext cx="190332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123640" y="5013000"/>
            <a:ext cx="65739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нализируя пойманные нами виды живых объектов, мы пришли к выводу, что вода в реке находится в состоянии перехода из А-мезосапробной зоны в В-мезосапробную, т.к. в ней находятся виды, встречающиеся в обеих зон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042920" y="1268280"/>
          <a:ext cx="7581960" cy="3708360"/>
        </p:xfrm>
        <a:graphic>
          <a:graphicData uri="http://schemas.openxmlformats.org/drawingml/2006/table">
            <a:tbl>
              <a:tblPr/>
              <a:tblGrid>
                <a:gridCol w="3791160"/>
                <a:gridCol w="37908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А – месосапробная зона</a:t>
                      </a:r>
                      <a:r>
                        <a:rPr b="0" lang="ru-RU" sz="2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Б – мезосапробная з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терии, грибы мукор, одноклеточные водоросли, жгутиконосцы хламидоманады, эвглены и огромные инфузории-трубачи, коловратки, моллюски сфериум, рачки водяные ослики, личинки комаров хирономид, крупные виды которых называют мотылё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оросли: диатомовые и зелёные; хлорелла из протококковых, спирогира из нитчатых. цветковые растения, ракообразные и рыб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9933"/>
                </a:solidFill>
                <a:latin typeface="Times New Roman"/>
              </a:rPr>
              <a:t>Анализ результатов исследований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 целью оптимизации гидрологического режима водоем нуждается в очистке дна от отложений ила, снижающих поступление грунтовых вод в реку, нарушающих естественные механизмы водообмен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ля уменьшения сноса почвенных частиц с берегов в водоем необходимо соблюдение режима водоохраной зоны вокруг ре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результате проведенных исследований гипотеза подтвердилас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тепень загрязненности воды влияет на количество организмов населяющих ре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Цель исследования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115640" y="1196640"/>
            <a:ext cx="777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зучить экологическое состояние  реки Пурсовка с помощью биоиндикационных метод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9933"/>
                </a:solidFill>
                <a:uFillTx/>
                <a:latin typeface="Times New Roman"/>
              </a:rPr>
              <a:t>Задачи исследования: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ать   эколого-географическую    характеристику реке Пурсов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зучить беспозвоночных и позвоночных животных исследуемой ре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пределить мутность и запах во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 помощью биоиндикационных зоологических исследований оценить экологическое состояние ре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 наличию организмов установить сапроб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делать вывод о степени загрязненности ре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Гипотеза исследования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тепень загрязненности воды влияет на количество организмов населяющих ре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Ход исследования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331640" y="1125360"/>
            <a:ext cx="7561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вели гидрофизические исследов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зучили методическую литературу, объясняющую как можно установить сапробность воды по видам-космополитам населяющим водое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помощью определителя определили выловленные организ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анализировали полученные результа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499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начале наших гидрофизических исследований мы измерили ширину и глубину реки в разных местах. Оказалось, что в настоящее время самая ее широкая часть не превышает 35 метров, а самая узкая - не более 0,5 метров. Глубокой реку тоже назвать нельзя, т.к. в самом глубоком месте глубина составила 3,20 метров, а в самом мелком- 46 сантимет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корость течения тоже неодинакова из-за того, что имеется несколько небольших плотин. В верхней части скорость течения небольшая, около 8-10 метров в минуту, а в нижней, где ширина реки меньше -30-35 метров в мину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71280" y="907560"/>
            <a:ext cx="38941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ля определения прозрачности, цвета и запаха мы набрали небольшое количество воды в стеклянную банку. При внимательном рассмотрении на свету оказалось, что ее цвет - желтовато-зеленоватый, но вода при этом относительно прозрачная. Запах же у нее не очень приятный и напоминает запах тухлятины. Когда мы дали воде отстояться, то на дне обнаружили небольшой осадок из ила и нитчатых водорос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5003640" y="1557360"/>
          <a:ext cx="3683160" cy="4573440"/>
        </p:xfrm>
        <a:graphic>
          <a:graphicData uri="http://schemas.openxmlformats.org/drawingml/2006/table">
            <a:tbl>
              <a:tblPr/>
              <a:tblGrid>
                <a:gridCol w="1841760"/>
                <a:gridCol w="184140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и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более 30 ме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луб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более 3-х ме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корость течения реки в верхней ч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– 10 м/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корость течения реки в нижней ч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– 35 м/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 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елтовато - 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Шкала запаха в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611280" y="1700280"/>
          <a:ext cx="8229600" cy="3228840"/>
        </p:xfrm>
        <a:graphic>
          <a:graphicData uri="http://schemas.openxmlformats.org/drawingml/2006/table">
            <a:tbl>
              <a:tblPr/>
              <a:tblGrid>
                <a:gridCol w="1800000"/>
                <a:gridCol w="5112000"/>
                <a:gridCol w="1317600"/>
              </a:tblGrid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запа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 появления запа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интенсив-ности запа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запа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х не ощущаетс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ень слаб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ощущается, но обнаруживается при лабораторном исследова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б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х замечается, если обратить на него 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х легко замечается и вызывает неодобрительный отзыв о в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ли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х обращает на себя 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ень си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х настолько сильный, что становится неприят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Rectangle 58"/>
          <p:cNvSpPr/>
          <p:nvPr/>
        </p:nvSpPr>
        <p:spPr>
          <a:xfrm>
            <a:off x="2700360" y="5084640"/>
            <a:ext cx="5997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 результатам анализа исследуемый запах можно отнести к 4 группе интенсив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971640" y="1125360"/>
            <a:ext cx="54007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тем мы рассмотрели рельеф реки, поделив его на западную, восточную и южную части. Западная часть правобережья Пурсовки - с характерным пологим уклоном местности на юг ( к долине Вороны) и на восток (к Пурсовке). Лишь на юго-западной окраине коренной склон круто обрывается к пойменной низине Вороны и образует уступ, изрезанный оврагами и балками. Левобережье Пурсовки (восточная часть) представляет собой довольно крутой склон долины, пересеченный оврагами и балками, а южная и западная части левобережья равнинны. Таким образом, хотя река часто петляет, в большинстве своем она протекает по равнинной местности, хотя встречаются и возвышенности, овраги и лощ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4" descr="карта Лурсовка"/>
          <p:cNvPicPr/>
          <p:nvPr/>
        </p:nvPicPr>
        <p:blipFill>
          <a:blip r:embed="rId1"/>
          <a:srcRect l="21624" t="7150" r="63810" b="24936"/>
          <a:stretch/>
        </p:blipFill>
        <p:spPr>
          <a:xfrm>
            <a:off x="6516720" y="1413000"/>
            <a:ext cx="237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в различные источники информации мы выяснили, что почти во всех пресноводных водоемах встречаются виды-космополиты, способные жить при определенном загрязнении. Это позволило создать шкалу сапробности, т.е. степени загрязненности отдельных водоемов или их зон органическими веществами, в которых способны жить определенные организмы. Мы попытались определить сапробность воды реки Пурсовка, опираясь на следующие характеристики зо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7:09:12Z</dcterms:created>
  <dc:creator>User</dc:creator>
  <dc:description/>
  <dc:language>en-US</dc:language>
  <cp:lastModifiedBy>Admin</cp:lastModifiedBy>
  <dcterms:modified xsi:type="dcterms:W3CDTF">2014-12-28T19:00:06Z</dcterms:modified>
  <cp:revision>67</cp:revision>
  <dc:subject/>
  <dc:title>Слайд 1</dc:title>
</cp:coreProperties>
</file>