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5A2-4C60-486D-ADB4-B3840FDE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638-2CC9-454A-9B2F-730E3510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3DCAC-D479-4B64-963F-5D69002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04320-3F8A-44E0-B3AB-7396F32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D9EF5-25B4-4CFB-87A7-1EAEB140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EB228-2B5B-4574-A585-C2DFC9D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8BB0D-A78D-44CA-B4DD-3FBB0BCF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23F28-C2E7-4725-9987-6054286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7BFC-FAD2-4E88-83F1-FA5EBC44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0F54-5FF4-4908-AEE3-2EFE1089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F1C5E-F697-4297-A70A-1CDA4A5E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C8107-13FA-4150-B324-E43A4D05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5FC-AD82-4840-94D8-25E8BB80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7CD1A-582C-4556-A265-F88D9034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4BC3C-4CC8-46F1-973A-828801B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6E962-4AD8-4D1D-9FFC-E9DA21AA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10873-9EEB-41DE-9E0A-348F4BC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55B13-08F8-4F73-AD75-0E4A9CB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67574-24ED-4B60-8A6F-ABC1D69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0E6D5-CA47-4AC1-B6D9-E7BBC9AA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5C517-E472-4692-A717-F355B17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C435A-3F7A-4A47-A25B-42BF0B1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27E18-CA9E-488A-95C1-9F8DFE64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472E-ED0A-40B0-B768-E691425C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D83AD-C603-4CE3-8E00-B14CA968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D3CBD-8FBA-4DAB-A1C7-386F1A1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F01E4-02C9-4741-93CD-EC986B47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A309E-80E8-439B-BBAA-B32437BF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2FFA7-1C58-42A6-9F63-82C2D5C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6135E-0CEB-4FF6-96E4-87D5A64C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1E342-F84E-4C52-BEA2-FE6EE9E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E3FC5-831A-4D29-A5B4-E05FFCB2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7B0D4-B9D2-4E36-A7A9-85D12B0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E10A3-9E92-45F3-A6D6-D08897CE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2D2D-7E27-46AC-A36B-328444F8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5D0F2-28C1-48D6-9D2D-E7E1583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2CE44-B482-4ACC-974F-4C0480F2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79430-6195-488A-945C-5871D862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9B4EC-73F2-4A79-98A1-21EC2FFF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C192C-F372-4DF0-880F-7DD6AAAB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407EA-33D0-468B-9469-3A3527E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6D261-63DE-4ED1-9E85-5EBA289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7A444-1A5D-4F71-83C7-D703FC6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A2DDA-F7BB-4197-AA5C-11C72CF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04219-3F5C-4423-B752-1092F3F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79D-9D2F-4C65-830F-292E932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24F64-A497-46CE-9C9E-80D7653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D7321-8A31-4BB4-BC1B-562DA4E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92A2B-A4BA-4091-AA1D-3BC57365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74708-0E29-41AE-B223-D1D9A984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08C2D-6171-4662-8EF3-725F4EF5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47962-C578-4E25-B43A-DFB90501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70552-138A-4BA1-9F10-6743E22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40A28-D464-498E-992B-D3012BE5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9246C-EC34-4FE8-9391-BCC6B7CA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76D36-7221-4B75-9D5B-E03D201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E164-FF2F-4678-A83C-4FB9F0E3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B0855-DBC5-48EA-8F16-7E8BF243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3E735-51F6-4470-B0FB-7B2EE71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B09A0-0F39-4D93-9D9E-B6FFF8D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B1547-DF4E-44F1-BA48-CB6A60AE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21F37-8844-4485-9DA3-C146901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FC341-A260-4A17-BCC6-095E2346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55BA4-623E-4C7E-B689-F8F8F6BB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FAAEA-670A-49FF-A726-CF227ACF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D68A3-DFA6-48D9-8F6A-E609CE50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2B1FF-EDA2-46DC-BFF5-661E0246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9FCE-158C-4945-A868-0330E37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EC50C-BE3F-4452-A1DC-F2C72BE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28BA5-2EEA-40BD-8F68-BF5BF62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9F90A-6970-435C-8E72-F4CFA1EF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F9204-D876-4C84-A9C0-D83C8147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DE683-8F11-41E9-B91B-8AC8773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CA91A-F880-4E4E-899D-431CBAB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A2F89-5D77-49C0-AE4A-38130E3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80C1D-8857-460A-900F-D9C00491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F063E-236F-4F67-95F8-A099E206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E72-E32D-4BA5-8FB7-5583E41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305-4E88-4399-BBBB-7D2BEA63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77E0-6D7D-4F68-9D3F-AB12ACEE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5D9-6131-4C2D-9340-95FC4F3E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BAC2-D3A1-4554-8628-9C35096D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C6F-1327-414E-8556-DDDB1D4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34CD-7928-440B-9846-52770321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099-FB77-4205-8144-C044462F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41DD-7DA6-4796-A13D-1B74DCE8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F5A0-B33A-44A8-AFA9-3D7E84CE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BBB2-9179-478D-8295-7655A2F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F11B-4C7E-46E2-BB9F-1B5ECD9E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24F4-8A19-4DBD-99C0-EDAEA90F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3493-9D18-4A20-825B-3FB5CDE5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EECC-3579-41C9-993D-06D3003B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280B-0133-4E74-8133-58DE57AE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0BBD-8FF5-48EF-B614-6A70D0C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BAED-6DA8-4FB7-B645-FE8F7ADE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3A78-4E24-41E2-8496-52E18F83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0E96-CB2C-4036-BB33-ADE65A5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9DDD-8901-47B8-BFEF-E68F4221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1133-EABF-41D7-BDAD-546EA3B6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BA7E-28E9-4EC7-91EC-C1395586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E914F-5F1F-4A89-89B6-0062E7C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63C1-33D3-4918-8E7E-AD605AA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8D7-C50B-4B13-B713-0DD735F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C83F-6694-4C6B-A77E-A106B30D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7C0D3-B126-468A-8AC9-5C88783C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70D8-B32C-4864-A36D-4FB47EC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0D25D-F577-4C6E-B278-950B1F0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7732-6606-49AB-BA38-F0D6A04E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42AB6-1429-4B7E-AF17-991F63E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AF14-3702-41A4-8F07-0CE52513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9F2E1-6206-4D88-A0E9-F1552C0E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FF43-31A8-455F-8E92-9CCA6862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BAB52-80EB-4CD7-9947-88169521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A02-1D42-4BFE-AA42-E91D77B8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A24F-AF1F-4FF1-A688-7312FB45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6BD73-C0A8-409C-BB16-CDFF1F1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E3CD-9CC3-4FDC-9631-B116781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C4B01-9410-416F-8331-4A09D23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F8F4-F579-4158-8FE6-31B1C78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4747-1A5D-403A-8C43-7F4C0036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E1F51-C75D-4545-998F-5A00D89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AF26-05B0-4096-B4B4-6D3ACF3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6BA2-0097-4D40-9DCE-CCB4641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4008A-DE80-4A73-86D4-3F9FD920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B03-2AB7-40E2-A6B1-BA4D9C9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BD1F-5EA5-4B44-87FF-4B3E83F0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C202-69FE-4E04-9AEE-C0C87A2D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09BA7-9810-47ED-9122-B30FEAF3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2AAD3-509C-40CA-81A3-C462D091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1879D-1291-420C-B66F-50F5FF7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245CA-4C1C-4E1B-8CF4-210DD195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9D3EF-42C5-417D-B27E-3CA1502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401D2-7929-4638-B560-0B8CB82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3966-ED10-4450-A831-70B0816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BB1E5-6146-4865-834C-6413791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E17F-4D3C-42EB-85F2-626254E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D104-2C18-4223-99A9-56DD92BB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6A616-8CAC-4650-8EA1-67823734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C7B1-6009-42BE-BC9A-F188D710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5B4C-84CD-4C46-9D17-8C7C04B0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EB789-BAD7-45B3-BD49-7534392D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0336-0346-4094-BD3E-E51392F6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6172C-B706-4DAA-B4BC-B32BB30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D95F5-4EAA-4402-B6D6-D029F548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0D01-77E6-4630-A398-3CD26BE7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D3964-5E76-4BD3-AFBA-5912DBF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7E9-B4AD-4557-97BE-FC17E74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0CBF3-8487-41AC-A974-3DEDBD8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722C-17BE-4E70-BAF0-68D4A10F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507A-76CF-4763-8A68-B5A7CE10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6BABB-8A65-4F23-90DB-33569836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38521-F3FA-4516-A71C-FCDD92E1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93860-7943-44F2-B62E-C4B6AECE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82FBE-82C4-49E5-AF50-C02B70B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60423-6137-4F74-B8B5-5A600D23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CCDDC-983B-4D1E-AF6C-8C5A254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3156-3A42-4FD4-89D0-FCF94EFE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171-03A6-4F46-9CAB-040C1367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2185-17C9-458B-8837-E2B40F57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9DAD-E943-4A79-9F02-ECE4FD8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D583E-708A-4A13-83C0-472B8CF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715EE-26C1-4DBC-AD9F-6F0104C3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6274-8813-46A6-AD36-D832A78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02821-6D4B-44F1-A705-4688801D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6985-F272-4341-AB49-1B8986A9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B4D16-18E6-4866-9B28-E2CA7153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57544-76A3-4135-A4AD-122ED75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D0888-C6FD-445D-9249-A9488497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0A38-BD5C-48BF-A80F-B3FA9E2270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10B-5A29-45D8-832B-953B86AC1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47F0-8E03-4E4A-B93F-EE86937193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12A-7D7E-4991-97B2-383FFD0D9C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A221-D636-4D2F-9ED7-A5EC0B6EE7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CEE-1E2A-4124-8071-C6719FFEFF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EA96-7E1B-4A94-B64E-F15CC522E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4361-664C-4CC5-B753-D193C03FC6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457D-9F31-4836-9962-66AD07EED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1C8E-4C28-405D-AE20-41403AE44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0099-BC28-472D-AE5A-1515860279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00F3-B214-4B0F-BDEE-BEB99786D6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F59-C8C5-4A1C-B0BA-CAC310B576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BF54-3A62-4003-8F3D-39A1430A9F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</a:rPr>
              <a:t>Можно ли по анализу видового разнообразия живых организмов установить качество воды?</a:t>
            </a:r>
            <a:r>
              <a:rPr b="0" lang="ru-RU" sz="52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211280" y="3644640"/>
            <a:ext cx="4527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ект учащихс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класс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ай Юл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ынгус Окс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илимонова Виктор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рмолаев Макси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й руководител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. А. Гвоз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00000" y="981000"/>
            <a:ext cx="78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лисапробные воды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Характеризуются полным отсутствием кислорода, наличием в воде неразложившихся белков и значительного количества сероводорода и углекислого газа. Это самая грязная и отвратительно пахнущая вода. Однако, и в ней есть жизнь. В воде, прежде всего, можно встретить бактерий: самых крупных серных бактерий и  нитчатых бактерий сферотилус. В такой воде живут жгутиконосцы и инфузории путринум. Есть даже сувойки, но только напоминающие не ландыш, а скорее шарик на тонкой ножке. В иле развивается много червей трубочников, а по дну ползают личинки мухи-крыски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-мес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 этой воде еще есть аммиак, вода пахнет сероводородом, но уже появляется и кислород. В такой воде присутствуют многочисленные бактерии, грибы мукор, одноклеточные водоросли. Встречаются окрашенные жгутиконосцы хламидоманады, эвглены и огромные инфузории-трубачи. Появляются в этой зоне сапробности коловратки, моллюски сфериум, рачки водяные ослики. В иле. В огромном количестве, развиваются личинки комаров хирономид, многие крупные виды которых называют мотыл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-мез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Вода этой зоны почти не содержит аминокислот, в ней мало сероводорода. Зато вода насыщена кислородом. Видовое разнообразие организмов-индикаторов в этой зоне выше, чем в других зонах. Из водорослей встречаются диатомовые и зеленые. Хлорелла из протококковых водорослей или спирогира из нитчатых водорослей образуют тину. В этих водах встречаются цветковые растения, ракообразные и рыб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лигосапробная зона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Зона самой чистой воды. Бактерий в такой воде мало, видов животных и растений много, но число особей каждого вида невелико. Организмами паразитами этой зоны могут быть как водоросли, так и микроскопические животные, например, сувойки-нубилиферы. Здесь встречаются дафнии - лонгиспины, у которых раковина заканчивается длинным отростком. Высшая водная растительность - полушник озерный и полушник иглистый - тоже указывает на чистоту воды в водоеме. Рыбы, обитающие в этой зоне, обычно холодолюбивые, предпочитают высокое содержание кислорода в воде. Это радужная и ручьевая форель, красноперка, сиг, рипу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02920" y="1483920"/>
            <a:ext cx="360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исследовании водной флоры и фауны с помощью микроскопа и определителя было установлено, что из флоры присутствует ряска (трехраздельная и малая), нитчатые водоросли ( улотрикс и спирогира), вилиснерия, рдесты, роголи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4" descr=""/>
          <p:cNvPicPr/>
          <p:nvPr/>
        </p:nvPicPr>
        <p:blipFill>
          <a:blip r:embed="rId1"/>
          <a:stretch/>
        </p:blipFill>
        <p:spPr>
          <a:xfrm>
            <a:off x="6084720" y="1700280"/>
            <a:ext cx="2316240" cy="2163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3365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71280" y="1341360"/>
            <a:ext cx="410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 исследовании водной фауны с помощью микроскопа и определителя было установлено, что из фауны здесь присутствуют волосатики, дафнии, циклопы, эвглены зеленые, катушки (роговая и окаймленная), прудовик обыкновенный, пиявки, верховки, уклейки, плотва, караси, щуки и раки, лягушки остромордые, трит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4" descr=""/>
          <p:cNvPicPr/>
          <p:nvPr/>
        </p:nvPicPr>
        <p:blipFill>
          <a:blip r:embed="rId1"/>
          <a:stretch/>
        </p:blipFill>
        <p:spPr>
          <a:xfrm>
            <a:off x="5219640" y="1522440"/>
            <a:ext cx="1513080" cy="1146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5" descr=""/>
          <p:cNvPicPr/>
          <p:nvPr/>
        </p:nvPicPr>
        <p:blipFill>
          <a:blip r:embed="rId2"/>
          <a:srcRect l="3897" t="5156" r="3819" b="8407"/>
          <a:stretch/>
        </p:blipFill>
        <p:spPr>
          <a:xfrm>
            <a:off x="7093080" y="148428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6" descr=""/>
          <p:cNvPicPr/>
          <p:nvPr/>
        </p:nvPicPr>
        <p:blipFill>
          <a:blip r:embed="rId3"/>
          <a:stretch/>
        </p:blipFill>
        <p:spPr>
          <a:xfrm>
            <a:off x="7524720" y="2924280"/>
            <a:ext cx="1214640" cy="1795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"/>
          <p:cNvPicPr/>
          <p:nvPr/>
        </p:nvPicPr>
        <p:blipFill>
          <a:blip r:embed="rId4"/>
          <a:stretch/>
        </p:blipFill>
        <p:spPr>
          <a:xfrm>
            <a:off x="7304040" y="5013360"/>
            <a:ext cx="1655640" cy="13827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5"/>
          <a:stretch/>
        </p:blipFill>
        <p:spPr>
          <a:xfrm>
            <a:off x="5219640" y="2919240"/>
            <a:ext cx="1728720" cy="11620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9" descr=""/>
          <p:cNvPicPr/>
          <p:nvPr/>
        </p:nvPicPr>
        <p:blipFill>
          <a:blip r:embed="rId6"/>
          <a:stretch/>
        </p:blipFill>
        <p:spPr>
          <a:xfrm>
            <a:off x="5219640" y="4265640"/>
            <a:ext cx="1592280" cy="12096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0" descr=""/>
          <p:cNvPicPr/>
          <p:nvPr/>
        </p:nvPicPr>
        <p:blipFill>
          <a:blip r:embed="rId7"/>
          <a:stretch/>
        </p:blipFill>
        <p:spPr>
          <a:xfrm>
            <a:off x="5219640" y="5530680"/>
            <a:ext cx="190332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123640" y="5013000"/>
            <a:ext cx="65739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нализируя пойманные нами виды живых объектов, мы пришли к выводу, что вода в реке находится в состоянии перехода из А-мезосапробной зоны в В-мезосапробную, т.к. в ней находятся виды, встречающиеся в обеих зон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042920" y="1268280"/>
          <a:ext cx="7581960" cy="3708360"/>
        </p:xfrm>
        <a:graphic>
          <a:graphicData uri="http://schemas.openxmlformats.org/drawingml/2006/table">
            <a:tbl>
              <a:tblPr/>
              <a:tblGrid>
                <a:gridCol w="3791160"/>
                <a:gridCol w="3790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А – месосапробная зона</a:t>
                      </a:r>
                      <a:r>
                        <a:rPr b="0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Б – мезосапробная з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, грибы мукор, одноклеточные водоросли, жгутиконосцы хламидоманады, эвглены и огромные инфузории-трубачи, коловратки, моллюски сфериум, рачки водяные ослики, личинки комаров хирономид, крупные виды которых называют мотылё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оросли: диатомовые и зелёные; хлорелла из протококковых, спирогира из нитчатых. цветковые растения, ракообразные и рыб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9933"/>
                </a:solidFill>
                <a:latin typeface="Times New Roman"/>
              </a:rPr>
              <a:t>Анализ результатов исследовани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целью оптимизации гидрологического режима водоем нуждается в очистке дна от отложений ила, снижающих поступление грунтовых вод в реку, нарушающих естественные механизмы водообме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меньшения сноса почвенных частиц с берегов в водоем необходимо соблюдение режима водоохраной зоны вокруг ре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результате проведенных исследований гипотеза подтвердилас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епень загрязненности воды влияет на количество организмов населяющих р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Цель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115640" y="119664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зучить экологическое состояние  реки Пурсовка с помощью биоиндикационных мето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9933"/>
                </a:solidFill>
                <a:uFillTx/>
                <a:latin typeface="Times New Roman"/>
              </a:rPr>
              <a:t>Задачи исследования:</a:t>
            </a:r>
            <a:r>
              <a:rPr b="0" i="1" lang="ru-RU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ть   эколого-географическую    характеристику реке Пурсов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учить беспозвоночных и позвоночных животных исследуемой ре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ределить мутность и запах во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помощью биоиндикационных зоологических исследований оценить экологическое состояние ре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 наличию организмов установить сапроб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делать вывод о степени загрязненности р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Гипотеза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епень загрязненности воды влияет на количество организмов населяющих р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Ход исследования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331640" y="1125360"/>
            <a:ext cx="7561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вели гидрофизические исслед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учили методическую литературу, объясняющую как можно установить сапробность воды по видам-космополитам населяющим водо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помощью определителя определили выловленные организ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анализировали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499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начале наших гидрофизических исследований мы измерили ширину и глубину реки в разных местах. Оказалось, что в настоящее время самая ее широкая часть не превышает 35 метров, а самая узкая - не более 0,5 метров. Глубокой реку тоже назвать нельзя, т.к. в самом глубоком месте глубина составила 3,20 метров, а в самом мелком- 46 санти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орость течения тоже неодинакова из-за того, что имеется несколько небольших плотин. В верхней части скорость течения небольшая, около 8-10 метров в минуту, а в нижней, где ширина реки меньше -30-35 метров в мину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71280" y="907560"/>
            <a:ext cx="38941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определения прозрачности, цвета и запаха мы набрали небольшое количество воды в стеклянную банку. При внимательном рассмотрении на свету оказалось, что ее цвет - желтовато-зеленоватый, но вода при этом относительно прозрачная. Запах же у нее не очень приятный и напоминает запах тухлятины. Когда мы дали воде отстояться, то на дне обнаружили небольшой осадок из ила и нитчатых водоросл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003640" y="1557360"/>
          <a:ext cx="3683160" cy="4573440"/>
        </p:xfrm>
        <a:graphic>
          <a:graphicData uri="http://schemas.openxmlformats.org/drawingml/2006/table">
            <a:tbl>
              <a:tblPr/>
              <a:tblGrid>
                <a:gridCol w="1841760"/>
                <a:gridCol w="184140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и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более 30 ме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уб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более 3-х ме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рость течения реки в верхней 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– 10 м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корость течения реки в нижней ч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– 35 м/м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вет 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елтовато - 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кала запаха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11280" y="1700280"/>
          <a:ext cx="8229600" cy="3228840"/>
        </p:xfrm>
        <a:graphic>
          <a:graphicData uri="http://schemas.openxmlformats.org/drawingml/2006/table">
            <a:tbl>
              <a:tblPr/>
              <a:tblGrid>
                <a:gridCol w="1800000"/>
                <a:gridCol w="5112000"/>
                <a:gridCol w="1317600"/>
              </a:tblGrid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ость запа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 появления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интенсив-ности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запа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не ощущаетс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щущается, но обнаруживается при лабораторном исслед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замечается, если обратить на него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легко замечается и вызывает неодобрительный отзыв о в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л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обращает на себя вним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 си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 настолько сильный, что становится неприят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Rectangle 58"/>
          <p:cNvSpPr/>
          <p:nvPr/>
        </p:nvSpPr>
        <p:spPr>
          <a:xfrm>
            <a:off x="2700360" y="5084640"/>
            <a:ext cx="5997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 результатам анализа исследуемый запах можно отнести к 4 группе интенсив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971640" y="1125360"/>
            <a:ext cx="5400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тем мы рассмотрели рельеф реки, поделив его на западную, восточную и южную части. Западная часть правобережья Пурсовки - с характерным пологим уклоном местности на юг ( к долине Вороны) и на восток (к Пурсовке). Лишь на юго-западной окраине коренной склон круто обрывается к пойменной низине Вороны и образует уступ, изрезанный оврагами и балками. Левобережье Пурсовки (восточная часть) представляет собой довольно крутой склон долины, пересеченный оврагами и балками, а южная и западная части левобережья равнинны. Таким образом, хотя река часто петляет, в большинстве своем она протекает по равнинной местности, хотя встречаются и возвышенности, овраги и лощ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карта Лурсовка"/>
          <p:cNvPicPr/>
          <p:nvPr/>
        </p:nvPicPr>
        <p:blipFill>
          <a:blip r:embed="rId1"/>
          <a:srcRect l="21624" t="7150" r="63810" b="24936"/>
          <a:stretch/>
        </p:blipFill>
        <p:spPr>
          <a:xfrm>
            <a:off x="6516720" y="1413000"/>
            <a:ext cx="237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33"/>
                </a:solidFill>
                <a:latin typeface="Times New Roman"/>
              </a:rPr>
              <a:t>Результаты исследовани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в различные источники информации мы выяснили, что почти во всех пресноводных водоемах встречаются виды-космополиты, способные жить при определенном загрязнении. Это позволило создать шкалу сапробности, т.е. степени загрязненности отдельных водоемов или их зон органическими веществами, в которых способны жить определенные организмы. Мы попытались определить сапробность воды реки Пурсовка, опираясь на следующие характеристики зо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09:12Z</dcterms:created>
  <dc:creator>User</dc:creator>
  <dc:description/>
  <dc:language>en-US</dc:language>
  <cp:lastModifiedBy>Admin</cp:lastModifiedBy>
  <dcterms:modified xsi:type="dcterms:W3CDTF">2014-12-28T19:00:06Z</dcterms:modified>
  <cp:revision>67</cp:revision>
  <dc:subject/>
  <dc:title>Слайд 1</dc:title>
</cp:coreProperties>
</file>