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2300-4F84-4EC0-9362-A812C6F4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8820-6410-4528-BB96-2BB3BDAD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623A-CD7A-4AD1-99CA-CCDD64FA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FF0A-E4D4-4157-9FF1-EE1949ED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D02F-1AB6-4D8A-9F0F-E472E1FA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9B18-6F7E-4562-B2EA-0EF8A477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8B83-1C31-42B4-86B6-28DAA8C7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78E0-D389-48AF-88D8-06C76AB7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E588-0C76-4685-802B-A183B94A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6C7D-1D84-4DEE-8B00-05FF65A0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D4C4-1A0E-42D5-9FB3-2251F60D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B6B1-8BCA-45E6-9AF9-FEEEB58D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C7BF-0534-4465-BE04-BA55BF26C7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Gif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895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95280" y="301680"/>
            <a:ext cx="8497800" cy="67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идактическое пособие для детей дошкольного воз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Веселые черепаш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риллова Светлана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кторовна-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0 г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Gif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468360" y="3209760"/>
            <a:ext cx="81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Фото0102"/>
          <p:cNvPicPr/>
          <p:nvPr/>
        </p:nvPicPr>
        <p:blipFill>
          <a:blip r:embed="rId2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Gif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дидактическое пособие используется в различных видах деятельности детей дошкольного возраст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формирование математических представлений, в развитие речи,экологии,в ИЗО деятельности,аппликации,лепке,в самостоятельной деятельности детей (в играх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Gif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555480"/>
            <a:ext cx="90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формирвании математических представлений дети осваивают (величину, форму, счет,цвет, прстранственные отнош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8" descr="Фото0173"/>
          <p:cNvPicPr/>
          <p:nvPr/>
        </p:nvPicPr>
        <p:blipFill>
          <a:blip r:embed="rId2"/>
          <a:stretch/>
        </p:blipFill>
        <p:spPr>
          <a:xfrm>
            <a:off x="1835280" y="2205000"/>
            <a:ext cx="561636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Gif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684360" y="261576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Фото0152"/>
          <p:cNvPicPr/>
          <p:nvPr/>
        </p:nvPicPr>
        <p:blipFill>
          <a:blip r:embed="rId2"/>
          <a:stretch/>
        </p:blipFill>
        <p:spPr>
          <a:xfrm>
            <a:off x="1908000" y="1125360"/>
            <a:ext cx="5328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57214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Gif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Фото0178"/>
          <p:cNvPicPr/>
          <p:nvPr/>
        </p:nvPicPr>
        <p:blipFill>
          <a:blip r:embed="rId2"/>
          <a:stretch/>
        </p:blipFill>
        <p:spPr>
          <a:xfrm>
            <a:off x="1332000" y="836640"/>
            <a:ext cx="6624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Gif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Фото0177"/>
          <p:cNvPicPr/>
          <p:nvPr/>
        </p:nvPicPr>
        <p:blipFill>
          <a:blip r:embed="rId2"/>
          <a:stretch/>
        </p:blipFill>
        <p:spPr>
          <a:xfrm>
            <a:off x="1403280" y="1052640"/>
            <a:ext cx="61930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Gif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4508640" y="318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36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стоятельная деятельность детей дошкольного возраст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 играх дет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Фото0155"/>
          <p:cNvPicPr/>
          <p:nvPr/>
        </p:nvPicPr>
        <p:blipFill>
          <a:blip r:embed="rId2"/>
          <a:stretch/>
        </p:blipFill>
        <p:spPr>
          <a:xfrm>
            <a:off x="1476360" y="1413000"/>
            <a:ext cx="6480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9:06:08Z</dcterms:created>
  <dc:creator>Loner-XP</dc:creator>
  <dc:description/>
  <dc:language>en-US</dc:language>
  <cp:lastModifiedBy>Директор</cp:lastModifiedBy>
  <dcterms:modified xsi:type="dcterms:W3CDTF">2014-12-28T16:07:30Z</dcterms:modified>
  <cp:revision>7</cp:revision>
  <dc:subject/>
  <dc:title>Слайд 1</dc:title>
</cp:coreProperties>
</file>