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9F0-0B1A-4934-9063-B0C3714B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E2C-58D9-4063-96B8-7CC0AF9B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054-FBA1-4DBA-B31A-976D9774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659-7833-4655-8DB6-B8B17BD8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E2A-7DE8-466E-84C0-D6B581C3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EBC-0A2F-471B-9BDF-8AC1C332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AFD-FD25-4F60-B600-8BEFAF76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2CD-A9BF-43DE-BB2A-86294BF5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F30-B9B6-49C3-B114-22F5530F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055-B42F-4A8C-8045-D2F89C3A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C66-5C28-4177-BD68-EE110435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EE2-C5DF-4230-91BD-886E748A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9E87-DB7C-4355-A0E9-F7905FE26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895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95280" y="301680"/>
            <a:ext cx="849780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идактическое пособие для детей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Веселые черепаш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лова Светлана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овна-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68360" y="3209760"/>
            <a:ext cx="81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Фото0102"/>
          <p:cNvPicPr/>
          <p:nvPr/>
        </p:nvPicPr>
        <p:blipFill>
          <a:blip r:embed="rId2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дидактическое пособие используется в различных видах деятельности детей дошкольного возраст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формирование математических представлений, в развитие речи,экологии,в ИЗО деятельности,аппликации,лепке,в самостоятельной деятельности детей (в играх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55480"/>
            <a:ext cx="90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формирвании математических представлений дети осваивают (величину, форму, счет,цвет, прстранственные отнош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8" descr="Фото0173"/>
          <p:cNvPicPr/>
          <p:nvPr/>
        </p:nvPicPr>
        <p:blipFill>
          <a:blip r:embed="rId2"/>
          <a:stretch/>
        </p:blipFill>
        <p:spPr>
          <a:xfrm>
            <a:off x="1835280" y="2205000"/>
            <a:ext cx="5616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84360" y="26157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Фото0152"/>
          <p:cNvPicPr/>
          <p:nvPr/>
        </p:nvPicPr>
        <p:blipFill>
          <a:blip r:embed="rId2"/>
          <a:stretch/>
        </p:blipFill>
        <p:spPr>
          <a:xfrm>
            <a:off x="1908000" y="1125360"/>
            <a:ext cx="5328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57214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Фото0178"/>
          <p:cNvPicPr/>
          <p:nvPr/>
        </p:nvPicPr>
        <p:blipFill>
          <a:blip r:embed="rId2"/>
          <a:stretch/>
        </p:blipFill>
        <p:spPr>
          <a:xfrm>
            <a:off x="1332000" y="83664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0177"/>
          <p:cNvPicPr/>
          <p:nvPr/>
        </p:nvPicPr>
        <p:blipFill>
          <a:blip r:embed="rId2"/>
          <a:stretch/>
        </p:blipFill>
        <p:spPr>
          <a:xfrm>
            <a:off x="1403280" y="1052640"/>
            <a:ext cx="6193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Gift_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4508640" y="318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ая деятельность детей дошкольного возрас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играх дет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Фото0155"/>
          <p:cNvPicPr/>
          <p:nvPr/>
        </p:nvPicPr>
        <p:blipFill>
          <a:blip r:embed="rId2"/>
          <a:stretch/>
        </p:blipFill>
        <p:spPr>
          <a:xfrm>
            <a:off x="1476360" y="1413000"/>
            <a:ext cx="648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9:06:08Z</dcterms:created>
  <dc:creator>Loner-XP</dc:creator>
  <dc:description/>
  <dc:language>en-US</dc:language>
  <cp:lastModifiedBy>Директор</cp:lastModifiedBy>
  <dcterms:modified xsi:type="dcterms:W3CDTF">2014-12-28T16:07:30Z</dcterms:modified>
  <cp:revision>7</cp:revision>
  <dc:subject/>
  <dc:title>Слайд 1</dc:title>
</cp:coreProperties>
</file>