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107-B1FE-443F-8ADA-FEF90BC1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CDE-AACE-4CD4-ABA2-1C819AA2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37D-E917-426F-A513-3CF44E5F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203-220D-42D0-993A-A5194418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A8C-884E-4A13-A11E-A59CDCC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598-D9D3-4C02-B0C6-A41A91D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395-896F-44FF-A556-C5FB230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6A7-A95E-45BB-89A8-BE6825F0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898-D92E-4CD6-BB82-8084CBBA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E06-39F9-4616-AB8B-6066098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098-E479-4E37-8595-F63E283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188-6816-4B0D-9E86-501C17F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9E3E-14EE-462E-BF45-248F5038D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6880" y="6500880"/>
            <a:ext cx="167184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6978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Развитие творческих способностей дошкольного возраста по средствам нетрадиционной аппл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539640" y="10288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ппликация имеет большое значение для обучения и воспитания детей дошкольного возраста. Она способствует формированию и развитию многих личностных качеств личности, ее психических и эстетических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спользуя в своей работе нетрадиционные техники аппликации, мы усиливаем интерес ребёнка к данной деятельности. В процессе работы дети планируют свою деятельность, проявляют высокую активность и вариативность, самостоятельность, оригинальность и твор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0920" y="1268280"/>
            <a:ext cx="7705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стоки способностей и дарования детей - на кончика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ёнок   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А. Сухомлин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4140360" y="214200"/>
            <a:ext cx="457200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дни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з наиболее близких и естественных для ребёнка видов деятельности, является художественная деятель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249120" y="2192400"/>
            <a:ext cx="410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ем разнообразнее буд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словия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текает художественная деятельность, содержание, формы, методы и приемы работы с детьми, а также материалы, с которыми они действуют, тем интенсивнее станут развиваться детские художественные способ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"/>
          <p:cNvPicPr/>
          <p:nvPr/>
        </p:nvPicPr>
        <p:blipFill>
          <a:blip r:embed="rId1"/>
          <a:stretch/>
        </p:blipFill>
        <p:spPr>
          <a:xfrm>
            <a:off x="611280" y="108000"/>
            <a:ext cx="3260520" cy="244620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"/>
          <p:cNvPicPr/>
          <p:nvPr/>
        </p:nvPicPr>
        <p:blipFill>
          <a:blip r:embed="rId2"/>
          <a:stretch/>
        </p:blipFill>
        <p:spPr>
          <a:xfrm>
            <a:off x="5543640" y="4175280"/>
            <a:ext cx="3349440" cy="25113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6" descr=""/>
          <p:cNvPicPr/>
          <p:nvPr/>
        </p:nvPicPr>
        <p:blipFill>
          <a:blip r:embed="rId3"/>
          <a:stretch/>
        </p:blipFill>
        <p:spPr>
          <a:xfrm>
            <a:off x="4356000" y="1604880"/>
            <a:ext cx="320544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5665680" y="2698920"/>
            <a:ext cx="310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традиционные техники аппликации – это толчок к развитию воображения, творчества, проявлению самостоятельности, инициативы, выражения индивидуа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60200" y="133200"/>
            <a:ext cx="462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ппликация важна для развития мелкой моторики пальцев рук, их мускулатуры, координации движений, а в частности аппликация влияет на всестороннее развитие и воспитание дошколь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4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333504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"/>
          <p:cNvPicPr/>
          <p:nvPr/>
        </p:nvPicPr>
        <p:blipFill>
          <a:blip r:embed="rId2"/>
          <a:stretch/>
        </p:blipFill>
        <p:spPr>
          <a:xfrm>
            <a:off x="160200" y="4197240"/>
            <a:ext cx="4140360" cy="23274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7" descr=""/>
          <p:cNvPicPr/>
          <p:nvPr/>
        </p:nvPicPr>
        <p:blipFill>
          <a:blip r:embed="rId3"/>
          <a:stretch/>
        </p:blipFill>
        <p:spPr>
          <a:xfrm>
            <a:off x="5270400" y="115920"/>
            <a:ext cx="3694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119160" y="1317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108000" y="200160"/>
            <a:ext cx="871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традиционная  техника  может  быть  различной. Большой интерес у детей вызывает работа с волокнистыми материалами (вата, нитки, ткань, шнурки, шпага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емительную популярность приобрели такие техники как квиллинг – скрученные длинные и узкие полоски бумаги в спиральки и составление из полученных деталей объёмные и плоскостные композиции, торцевание - изделие создаётся из кусочков бумаги, которым придают форму конуса и приклеивают на поверх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ttp://www.quilledcreations.com/quillinggallery/data/505/medium/20315quilling_015.jpg"/>
          <p:cNvPicPr/>
          <p:nvPr/>
        </p:nvPicPr>
        <p:blipFill>
          <a:blip r:embed="rId1"/>
          <a:stretch/>
        </p:blipFill>
        <p:spPr>
          <a:xfrm>
            <a:off x="210960" y="2781360"/>
            <a:ext cx="3140280" cy="2354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"/>
          <p:cNvPicPr/>
          <p:nvPr/>
        </p:nvPicPr>
        <p:blipFill>
          <a:blip r:embed="rId2"/>
          <a:stretch/>
        </p:blipFill>
        <p:spPr>
          <a:xfrm>
            <a:off x="3492360" y="284796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bigpapa.com.ua/blog/wp-content/plugins/wp-o-matic/cache/c48bb_torcev10.jpg"/>
          <p:cNvPicPr/>
          <p:nvPr/>
        </p:nvPicPr>
        <p:blipFill>
          <a:blip r:embed="rId3"/>
          <a:stretch/>
        </p:blipFill>
        <p:spPr>
          <a:xfrm>
            <a:off x="6912000" y="2833560"/>
            <a:ext cx="1908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0" y="18900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вать творчество детей можно различными путями, в том числе  используя различные материалы — ткань, бумага, крупа, природный материа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тери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3532320" y="15127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школьники могут конструировать поделки из природного и использованного, так называемого брос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3" descr=""/>
          <p:cNvPicPr/>
          <p:nvPr/>
        </p:nvPicPr>
        <p:blipFill>
          <a:blip r:embed="rId1"/>
          <a:stretch/>
        </p:blipFill>
        <p:spPr>
          <a:xfrm>
            <a:off x="95400" y="1228680"/>
            <a:ext cx="3436920" cy="25765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"/>
          <p:cNvPicPr/>
          <p:nvPr/>
        </p:nvPicPr>
        <p:blipFill>
          <a:blip r:embed="rId2"/>
          <a:stretch/>
        </p:blipFill>
        <p:spPr>
          <a:xfrm>
            <a:off x="6275520" y="189000"/>
            <a:ext cx="2735280" cy="30589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7" descr=""/>
          <p:cNvPicPr/>
          <p:nvPr/>
        </p:nvPicPr>
        <p:blipFill>
          <a:blip r:embed="rId3"/>
          <a:stretch/>
        </p:blipFill>
        <p:spPr>
          <a:xfrm>
            <a:off x="5218200" y="3495600"/>
            <a:ext cx="3751200" cy="28130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8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179280" y="2286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бота с разными материалами позволяет педагогам развивать трудовые навыки и умения. Дети проявляют интерес к занятиям с нетрадиционными материалами, что является основой положительного отношения к труд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741240" y="1611360"/>
            <a:ext cx="3375000" cy="2530440"/>
          </a:xfrm>
          <a:prstGeom prst="rect">
            <a:avLst/>
          </a:prstGeom>
          <a:ln w="0">
            <a:noFill/>
          </a:ln>
        </p:spPr>
      </p:pic>
      <p:pic>
        <p:nvPicPr>
          <p:cNvPr id="398" name="Объект 3" descr=""/>
          <p:cNvPicPr/>
          <p:nvPr/>
        </p:nvPicPr>
        <p:blipFill>
          <a:blip r:embed="rId2"/>
          <a:stretch/>
        </p:blipFill>
        <p:spPr>
          <a:xfrm>
            <a:off x="4932360" y="1635120"/>
            <a:ext cx="3314880" cy="250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Рисунок 4" descr=""/>
          <p:cNvPicPr/>
          <p:nvPr/>
        </p:nvPicPr>
        <p:blipFill>
          <a:blip r:embed="rId3"/>
          <a:stretch/>
        </p:blipFill>
        <p:spPr>
          <a:xfrm>
            <a:off x="2916360" y="4387680"/>
            <a:ext cx="3133440" cy="226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2" descr=""/>
          <p:cNvPicPr/>
          <p:nvPr/>
        </p:nvPicPr>
        <p:blipFill>
          <a:blip r:embed="rId4"/>
          <a:stretch/>
        </p:blipFill>
        <p:spPr>
          <a:xfrm>
            <a:off x="6548400" y="4387680"/>
            <a:ext cx="1698840" cy="22640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"/>
          <p:cNvPicPr/>
          <p:nvPr/>
        </p:nvPicPr>
        <p:blipFill>
          <a:blip r:embed="rId5"/>
          <a:stretch/>
        </p:blipFill>
        <p:spPr>
          <a:xfrm>
            <a:off x="741240" y="4387680"/>
            <a:ext cx="1698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700360" y="57240"/>
            <a:ext cx="3868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оздавая красивые аппликации своими руками, видя результат своей работы, дети испытывают положительные эмоции. Работа с бумагой и другими материалами даёт возможность детям проявить терпение, упорство, фантазию и вкус. Детям приятно украшать групповую комнату своими работами, дарить их родителям и друзь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3" descr=""/>
          <p:cNvPicPr/>
          <p:nvPr/>
        </p:nvPicPr>
        <p:blipFill>
          <a:blip r:embed="rId1"/>
          <a:stretch/>
        </p:blipFill>
        <p:spPr>
          <a:xfrm>
            <a:off x="173160" y="1951200"/>
            <a:ext cx="2392200" cy="20304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"/>
          <p:cNvPicPr/>
          <p:nvPr/>
        </p:nvPicPr>
        <p:blipFill>
          <a:blip r:embed="rId2"/>
          <a:stretch/>
        </p:blipFill>
        <p:spPr>
          <a:xfrm>
            <a:off x="6568920" y="3095640"/>
            <a:ext cx="2324160" cy="3392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"/>
          <p:cNvPicPr/>
          <p:nvPr/>
        </p:nvPicPr>
        <p:blipFill>
          <a:blip r:embed="rId3"/>
          <a:stretch/>
        </p:blipFill>
        <p:spPr>
          <a:xfrm>
            <a:off x="6659640" y="71280"/>
            <a:ext cx="2355840" cy="27972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"/>
          <p:cNvPicPr/>
          <p:nvPr/>
        </p:nvPicPr>
        <p:blipFill>
          <a:blip r:embed="rId4"/>
          <a:stretch/>
        </p:blipFill>
        <p:spPr>
          <a:xfrm>
            <a:off x="2700360" y="3976560"/>
            <a:ext cx="3348000" cy="25117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2" descr=""/>
          <p:cNvPicPr/>
          <p:nvPr/>
        </p:nvPicPr>
        <p:blipFill>
          <a:blip r:embed="rId5"/>
          <a:stretch/>
        </p:blipFill>
        <p:spPr>
          <a:xfrm>
            <a:off x="173160" y="57240"/>
            <a:ext cx="2392200" cy="17953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3" descr=""/>
          <p:cNvPicPr/>
          <p:nvPr/>
        </p:nvPicPr>
        <p:blipFill>
          <a:blip r:embed="rId6"/>
          <a:stretch/>
        </p:blipFill>
        <p:spPr>
          <a:xfrm>
            <a:off x="324000" y="4132440"/>
            <a:ext cx="1809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2730600" y="235080"/>
            <a:ext cx="3527280" cy="28224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"/>
          <p:cNvPicPr/>
          <p:nvPr/>
        </p:nvPicPr>
        <p:blipFill>
          <a:blip r:embed="rId2"/>
          <a:stretch/>
        </p:blipFill>
        <p:spPr>
          <a:xfrm>
            <a:off x="2406600" y="3676680"/>
            <a:ext cx="2087640" cy="2879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3"/>
          <a:stretch/>
        </p:blipFill>
        <p:spPr>
          <a:xfrm>
            <a:off x="6875640" y="3645000"/>
            <a:ext cx="2033280" cy="28796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4"/>
          <a:stretch/>
        </p:blipFill>
        <p:spPr>
          <a:xfrm>
            <a:off x="6585120" y="219240"/>
            <a:ext cx="2323800" cy="28558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5"/>
          <a:stretch/>
        </p:blipFill>
        <p:spPr>
          <a:xfrm>
            <a:off x="4608360" y="3676680"/>
            <a:ext cx="2122560" cy="28303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"/>
          <p:cNvPicPr/>
          <p:nvPr/>
        </p:nvPicPr>
        <p:blipFill>
          <a:blip r:embed="rId6"/>
          <a:stretch/>
        </p:blipFill>
        <p:spPr>
          <a:xfrm>
            <a:off x="14400" y="3627360"/>
            <a:ext cx="2181240" cy="28796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"/>
          <p:cNvPicPr/>
          <p:nvPr/>
        </p:nvPicPr>
        <p:blipFill>
          <a:blip r:embed="rId7"/>
          <a:stretch/>
        </p:blipFill>
        <p:spPr>
          <a:xfrm>
            <a:off x="230040" y="235080"/>
            <a:ext cx="21765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DNA7 X86</cp:lastModifiedBy>
  <dcterms:modified xsi:type="dcterms:W3CDTF">2014-12-27T23:54:46Z</dcterms:modified>
  <cp:revision>39</cp:revision>
  <dc:subject/>
  <dc:title>Слайд 1</dc:title>
</cp:coreProperties>
</file>