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DD7F5-D7A5-4325-B02F-18C2825FA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C5C0-F7B5-4945-ACE8-73826B1424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93447-14FB-4574-87A0-C6A885595A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DDD93-2255-4152-97B2-917278159E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0F725-0A5F-48C3-8A1C-F3815A1FC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ECF2D-244B-4BAE-978B-55BE34FF9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580F9-06EB-4371-BDB1-946DD3DCB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A317C-8280-439F-AF84-9DE6F3B17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E5EEE-57E4-4A5F-9F49-C87E30049B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F237-0CE2-40BF-8CCA-6AEF0DF05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3132-D114-4F7C-A7B9-30C83E921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875F8-3B6A-4E67-9A4C-568182111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C6567-D5E8-41C4-8E9A-657CAE8A6BA6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Таблицы по музыке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898989"/>
                </a:solidFill>
                <a:latin typeface="Calibri"/>
              </a:rPr>
              <a:t>1 часть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1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6776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72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20240" cy="68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0" y="-17640"/>
            <a:ext cx="9144000" cy="687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2-28T20:39:30Z</dcterms:created>
  <dc:creator>маман</dc:creator>
  <dc:description/>
  <dc:language>en-US</dc:language>
  <cp:lastModifiedBy>маман</cp:lastModifiedBy>
  <dcterms:modified xsi:type="dcterms:W3CDTF">2014-12-28T20:40:30Z</dcterms:modified>
  <cp:revision>1</cp:revision>
  <dc:subject/>
  <dc:title>Таблицы по музыке </dc:title>
</cp:coreProperties>
</file>