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3D86-04E4-47D6-B42E-A9392EC8E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3FCD-EF8D-45B6-A63B-F312966DD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C379-9906-481C-A22B-2673912D4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CB4-3141-4E43-A09A-699DE17C8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F14A-C94F-4075-9574-4572DE6E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5285-72BE-42B4-B51C-343B30A3B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A1EE-E74A-4A44-A233-8CBAC77B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97E2-CD6E-42C2-BF4F-E11E8731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83B0-B87C-4340-AC43-5C3EE3C86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AE5-5462-429A-8707-727F07323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00F61-C765-436E-9971-8E95EE73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AE22-C49E-4EF8-AD05-BEFF61872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3C71E-C518-4FAF-BED2-08BE5C6465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ы по музык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1 ча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20:39:30Z</dcterms:created>
  <dc:creator>маман</dc:creator>
  <dc:description/>
  <dc:language>en-US</dc:language>
  <cp:lastModifiedBy>маман</cp:lastModifiedBy>
  <dcterms:modified xsi:type="dcterms:W3CDTF">2014-12-28T20:40:30Z</dcterms:modified>
  <cp:revision>1</cp:revision>
  <dc:subject/>
  <dc:title>Таблицы по музыке </dc:title>
</cp:coreProperties>
</file>