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75A3A-A4E1-4D03-A57B-2202ACA4CA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9B77B-352B-4115-BA29-6F80B5280D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B4138-3C3A-4A33-9AB2-228CB89849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FC546-DBB7-49DE-83DD-399CA0CF5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E9D90-7D83-4DB0-B4F1-A743392F60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366DB-E81B-4C7E-9CAD-E12AF5F26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A7B3-8A24-4B3A-AA14-3201FE714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7BBFF-8D94-459E-AB05-66FB53123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3F266-7116-457C-BC5E-F78208D24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45554-735A-4E0B-BC36-CD6448377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2EE2-F13C-4B65-804F-1F5FBCB380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F4FDD-2882-48AA-A06C-AB58BDF25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59E76-6565-4080-848E-A3B01564783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аблицы по музык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2 ча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2024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2024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2024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3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9360"/>
            <a:ext cx="9144000" cy="683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-61920"/>
            <a:ext cx="9144000" cy="691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0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2024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2024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67760" cy="68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2024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8T20:41:03Z</dcterms:created>
  <dc:creator>маман</dc:creator>
  <dc:description/>
  <dc:language>en-US</dc:language>
  <cp:lastModifiedBy>маман</cp:lastModifiedBy>
  <dcterms:modified xsi:type="dcterms:W3CDTF">2014-12-28T20:41:47Z</dcterms:modified>
  <cp:revision>1</cp:revision>
  <dc:subject/>
  <dc:title>Таблицы по музыке</dc:title>
</cp:coreProperties>
</file>