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2901C-C390-4149-B4CE-7B8C31B25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F4134-DA7E-4D01-8E95-EC8BF6B23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B8CA9-A92A-4742-9A50-F935FE5EC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69AAA-6929-499E-86C3-A2FC8EC93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28344-1FF7-4CF5-996D-316F82F6B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98379-B72E-4E5E-8F34-90F9B5F19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EF759-8DE4-4FBD-9AEC-6525A1253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7385F-DEAC-4691-ADC0-BF5092E35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21606-7855-4BDE-88B6-4CFA2EF02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DE1E9-F334-40F6-B175-7FF1D685E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E021B-71B1-43FB-831D-A933D51DA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6E476-AB19-46F6-9F67-385EFA771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0737B-6676-4B95-AD75-1B93639E406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Таблицы по музык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2 част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20240" cy="68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20240" cy="68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20240" cy="68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0" y="9360"/>
            <a:ext cx="9144000" cy="683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0" y="9360"/>
            <a:ext cx="9144000" cy="683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0" y="-61920"/>
            <a:ext cx="9144000" cy="69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02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20240" cy="68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20240" cy="68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67760" cy="687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20240" cy="68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28T20:41:03Z</dcterms:created>
  <dc:creator>маман</dc:creator>
  <dc:description/>
  <dc:language>en-US</dc:language>
  <cp:lastModifiedBy>маман</cp:lastModifiedBy>
  <dcterms:modified xsi:type="dcterms:W3CDTF">2014-12-28T20:41:47Z</dcterms:modified>
  <cp:revision>1</cp:revision>
  <dc:subject/>
  <dc:title>Таблицы по музыке</dc:title>
</cp:coreProperties>
</file>