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9B9E-7A7D-485E-AC7D-8064DCE66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7B458-7B03-465D-94C8-41BE6E273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A920-3E0D-463A-9ACB-90F77873C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CFE0-A677-4ACD-980E-3D33FFA8FE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44E94-5CE3-44FA-9C0C-FE24C838C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ADA8-918E-4B63-A100-AF7870CC70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782C-AB7E-457C-83BE-EE27EB094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C67DF-C251-4A36-A283-C71961C4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1CD06-E10A-4CE3-85BD-376F74131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6381-587A-49ED-9767-6F41C1FD6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9B41-134C-43DB-A774-2BFB905DC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4E40-ABD2-4F60-8D0C-59999B1CE6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F17191-BE2A-44FB-BD56-04F2454BBAB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блицы по музыке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3 ча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244440"/>
            <a:ext cx="914400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3" descr="D:\341950-d27cd8cb27c90a6a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20:42:05Z</dcterms:created>
  <dc:creator>маман</dc:creator>
  <dc:description/>
  <dc:language>en-US</dc:language>
  <cp:lastModifiedBy>маман</cp:lastModifiedBy>
  <dcterms:modified xsi:type="dcterms:W3CDTF">2014-12-28T20:49:02Z</dcterms:modified>
  <cp:revision>2</cp:revision>
  <dc:subject/>
  <dc:title>Таблицы по музыке</dc:title>
</cp:coreProperties>
</file>