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FC66-A968-4274-93A2-D42369A5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70D5-CFD3-47FA-BB7B-3DCAC76EC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CE4-32A2-4335-A3EA-FB62C336A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4ACD-BEBF-4A01-AED3-E4D4FCA26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9748-0CB0-4C85-9A11-97CA1331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D09-60D5-4507-8171-6CE9DDAFE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93A7-0D35-4149-928B-E2B901F6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FA5A-0D9B-4511-934F-C681A94B0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C0BF-FBF8-4E3B-8959-B3AD42D04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5137-B20F-4B40-A22E-4410910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49A-7E2C-449B-8D84-4BD7EB1F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874F-353B-455F-B36A-8035264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43B-9886-4AEF-96F0-5567D929528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3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D:\341950-d27cd8cb27c90a6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42:05Z</dcterms:created>
  <dc:creator>маман</dc:creator>
  <dc:description/>
  <dc:language>en-US</dc:language>
  <cp:lastModifiedBy>маман</cp:lastModifiedBy>
  <dcterms:modified xsi:type="dcterms:W3CDTF">2014-12-28T20:49:02Z</dcterms:modified>
  <cp:revision>2</cp:revision>
  <dc:subject/>
  <dc:title>Таблицы по музыке</dc:title>
</cp:coreProperties>
</file>