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2AE-3630-4792-83C5-0EFF22E3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037-040B-40D9-8997-97553045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A6A-B94A-4743-9067-39175B9F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DEB-9A04-4BDF-B47C-4FDECB6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6B6-00CF-43CA-98E7-BE255D7B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14F-2EC0-4F95-A795-7464DFD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B56-60CF-4096-BB50-E66AA8A9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63F-5ACA-485B-B2AE-AB12C60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3A9-C0FE-459B-80F4-DC44335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392-D5B3-4147-9803-1EB574C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98C-77B9-47EE-8A97-03ECEEE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F94-61EF-4DD1-AED7-6D95117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CC4-D9FE-452F-84D1-3B210D85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1123920" cy="149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1057320" cy="1343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35120" cy="217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40720" y="5493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788000" y="33336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164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71640" y="2060640"/>
            <a:ext cx="11142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219640" y="1773360"/>
            <a:ext cx="130176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156360" y="333360"/>
            <a:ext cx="15541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020000" y="2060640"/>
            <a:ext cx="110484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08000" y="4005360"/>
            <a:ext cx="139212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04880" y="3959280"/>
            <a:ext cx="138132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132000" y="4005360"/>
            <a:ext cx="131616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905600" y="4365720"/>
            <a:ext cx="123840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372360" y="4437000"/>
            <a:ext cx="1220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59280" y="4365720"/>
            <a:ext cx="119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7451640" y="5143680"/>
            <a:ext cx="113688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340000" y="54100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867280" y="5143680"/>
            <a:ext cx="11462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995640" y="1989000"/>
            <a:ext cx="1123920" cy="143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84360" y="5295960"/>
            <a:ext cx="1104840" cy="156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3708360" y="5143680"/>
            <a:ext cx="1292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4:28:56Z</dcterms:created>
  <dc:creator>Дмитрий</dc:creator>
  <dc:description/>
  <dc:language>en-US</dc:language>
  <cp:lastModifiedBy>Дмитрий</cp:lastModifiedBy>
  <dcterms:modified xsi:type="dcterms:W3CDTF">2014-12-28T14:30:27Z</dcterms:modified>
  <cp:revision>2</cp:revision>
  <dc:subject/>
  <dc:title>Слайд 1</dc:title>
</cp:coreProperties>
</file>