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D17-AABE-474E-BD9B-419A273A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F42-B9FE-4453-8E2C-B74B54BC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D9C-F890-42CF-9F93-541B9DE1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764-35DD-4EBF-9DF3-ACB39B75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B072-2C85-46EA-8252-BB1718D6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805-46EE-439B-8B78-ABFF4819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BD94-DC20-42A5-ADE7-BD493D7A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41A-E84C-4E18-9FFF-79C5D50B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57C-77DB-438A-AC65-336ADF2A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85B-01D5-4510-9F82-6209C13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2C47-B98F-4360-8A10-3FFBDAB5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8B5-7BC5-4A68-8368-5D97DABE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38CF-A370-420B-BBA8-F4937D42A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image" Target="../media/image22.jpe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1123920" cy="1495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1057320" cy="1343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35120" cy="217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740720" y="5493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788000" y="33336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059280" y="260280"/>
            <a:ext cx="164304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971640" y="2060640"/>
            <a:ext cx="111420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219640" y="1773360"/>
            <a:ext cx="130176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156360" y="333360"/>
            <a:ext cx="1554120" cy="1943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7020000" y="2060640"/>
            <a:ext cx="1104840" cy="1419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108000" y="4005360"/>
            <a:ext cx="1392120" cy="1942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1604880" y="3959280"/>
            <a:ext cx="1381320" cy="1942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132000" y="4005360"/>
            <a:ext cx="131616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7905600" y="4365720"/>
            <a:ext cx="1238400" cy="184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6372360" y="4437000"/>
            <a:ext cx="1220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4859280" y="4365720"/>
            <a:ext cx="1198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7451640" y="5143680"/>
            <a:ext cx="1136880" cy="171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8"/>
          <a:stretch/>
        </p:blipFill>
        <p:spPr>
          <a:xfrm>
            <a:off x="2340000" y="5410080"/>
            <a:ext cx="1066680" cy="1447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9"/>
          <a:stretch/>
        </p:blipFill>
        <p:spPr>
          <a:xfrm>
            <a:off x="5867280" y="5143680"/>
            <a:ext cx="1146240" cy="171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0"/>
          <a:stretch/>
        </p:blipFill>
        <p:spPr>
          <a:xfrm>
            <a:off x="3995640" y="1989000"/>
            <a:ext cx="1123920" cy="1438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1"/>
          <a:stretch/>
        </p:blipFill>
        <p:spPr>
          <a:xfrm>
            <a:off x="684360" y="5295960"/>
            <a:ext cx="1104840" cy="1562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2"/>
          <a:stretch/>
        </p:blipFill>
        <p:spPr>
          <a:xfrm>
            <a:off x="3708360" y="5143680"/>
            <a:ext cx="1292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4:28:56Z</dcterms:created>
  <dc:creator>Дмитрий</dc:creator>
  <dc:description/>
  <dc:language>en-US</dc:language>
  <cp:lastModifiedBy>Дмитрий</cp:lastModifiedBy>
  <dcterms:modified xsi:type="dcterms:W3CDTF">2014-12-28T14:30:27Z</dcterms:modified>
  <cp:revision>2</cp:revision>
  <dc:subject/>
  <dc:title>Слайд 1</dc:title>
</cp:coreProperties>
</file>