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358-7599-403D-BD78-40E57853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EC5-B32A-4EE2-A3A3-CFB19626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2D6-865A-4460-8432-63684E0A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D9F4-2DCD-4156-B15F-9A16B667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D72-63BC-4D21-9B00-7B41FE5F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106-2B23-48B4-BC93-EADAA387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E21-E2FD-437C-A42D-00BFAC7B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9B7B-D2C1-4ED5-BF15-0D5F638B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2C1-BEFD-422F-947F-0E75437F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405-4B7B-49B7-A5A0-C71E647B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C0D-0AB3-4981-A58C-AC70BB22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054-87A5-46E1-9815-D2A4508D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14B7-E78F-41C1-99CC-625067641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1123920" cy="1495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1057320" cy="1343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635120" cy="2171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740720" y="549360"/>
            <a:ext cx="110484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788000" y="33336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059280" y="260280"/>
            <a:ext cx="164304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971640" y="2060640"/>
            <a:ext cx="1114200" cy="144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219640" y="1773360"/>
            <a:ext cx="1301760" cy="17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156360" y="333360"/>
            <a:ext cx="15541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020000" y="2060640"/>
            <a:ext cx="1104840" cy="141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08000" y="4005360"/>
            <a:ext cx="1392120" cy="194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604880" y="3959280"/>
            <a:ext cx="1381320" cy="194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132000" y="4005360"/>
            <a:ext cx="131616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905600" y="4365720"/>
            <a:ext cx="123840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372360" y="4437000"/>
            <a:ext cx="122076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4859280" y="4365720"/>
            <a:ext cx="119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7451640" y="5143680"/>
            <a:ext cx="1136880" cy="1714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2340000" y="54100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5867280" y="5143680"/>
            <a:ext cx="114624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995640" y="1989000"/>
            <a:ext cx="1123920" cy="1438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684360" y="5295960"/>
            <a:ext cx="1104840" cy="1562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3708360" y="5143680"/>
            <a:ext cx="1292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14:28:56Z</dcterms:created>
  <dc:creator>Дмитрий</dc:creator>
  <dc:description/>
  <dc:language>en-US</dc:language>
  <cp:lastModifiedBy>Дмитрий</cp:lastModifiedBy>
  <dcterms:modified xsi:type="dcterms:W3CDTF">2014-12-28T14:30:27Z</dcterms:modified>
  <cp:revision>2</cp:revision>
  <dc:subject/>
  <dc:title>Слайд 1</dc:title>
</cp:coreProperties>
</file>