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CEF0-5FEA-4369-BC2B-8553874B3A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9F1D-77E7-4144-8E8C-A4FC52EBBD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484B-C967-4D42-BEA8-A5595F9158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481-A935-48C0-A863-516E01B9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02D-A9DD-46B5-BA44-42464E4B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F90-FB5C-4B6F-AF97-AD9E8BB9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15B8-E08C-4DE1-A10F-3782F830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2D05-8AAC-4EF8-8773-9677C028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FE7C-BE28-4890-BED1-8CC9C4BA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8E4F-BA2A-46DF-A0F4-C237A6BF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554E-0E36-4FAC-87DF-84BFC390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CEF4-E758-4B33-8615-E85F1508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8B06-5D86-46D2-A95D-BC4A81E9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D301-C98A-4D34-A33A-8D164EEA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CCF-1882-4DEA-BDAC-4EE4BC9A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2ED9-3CD8-4F97-A1C2-8855C889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C29F-89D7-4185-8998-50A4CA9D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4E7C-FA37-4320-91AB-CBCCF492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09FE-7172-474E-8906-42490B32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1769-3997-427D-AA4F-AB1E4489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7216-B4A1-4E07-803E-ABFCFE6D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F400-F4CE-433B-9F95-21275C10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14ABE-F6DD-44FD-8F46-8C1F35E9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F46B-58FB-48B4-AF03-5F7E48F0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5682-1364-46A7-85D4-FA3F6E9F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C4F-05D3-463E-8233-2838617C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89B4-6CA4-4FB1-AC27-621C0253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2666-1028-48AD-8A27-DDAE56FE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D9AB5-E10E-4CD3-9213-578BCBBF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34B2-F262-418F-8239-AF631825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AC4F2-691F-4ECE-9266-C9C7E575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4493C-0468-456B-82A1-B48BA8B5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174B-B9CD-4E70-8B53-A774F7C6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E6662-0E27-4D76-B7BC-28BED344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28F68-45DC-4CF7-8283-4E011455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11194-DBE5-495B-A69A-E5AB6F1F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5E6-0C84-43FE-A353-8DB2DF0F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09E12-6E1C-4817-A819-EB7BF141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F0955-E67C-40B2-8F3A-B8F5AF69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39CAD-10D3-4190-A220-0ABDE155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A6ACA-4DD9-4129-A06B-D194B454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0C939-702A-41BB-AD0C-29B9D810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B2897-1747-4B7B-B077-1574B930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59971-57C7-4587-B843-D53D033E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2FFA-F654-4FD6-B7F9-D7A2AC01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935E-83D5-41AE-869A-5AEAAB5D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70B9-A205-4229-BDF8-2AAF0BAB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E69-F0FA-4FFD-8BEC-72AEAF19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ABA-B60A-492A-899C-02A1ED9E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341-E53F-44C9-9D3A-47FF1F45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150-F75B-47C7-BD66-8E142826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32B9-1067-4942-A4FD-0C8D797E026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8EED-5A52-4818-B8C9-8ED60577E56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5701-23C1-430A-8355-FFD57B64265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40DB-0C3B-4D41-9A6B-B893435AD40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3"/>
          <p:cNvSpPr/>
          <p:nvPr/>
        </p:nvSpPr>
        <p:spPr>
          <a:xfrm>
            <a:off x="1486080" y="630360"/>
            <a:ext cx="28699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4 + 5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932360" y="685800"/>
            <a:ext cx="13827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4240"/>
                </a:solidFill>
                <a:latin typeface="Arial"/>
              </a:rPr>
              <a:t> </a:t>
            </a:r>
            <a:r>
              <a:rPr b="1" lang="en-US" sz="5500" spc="-1" strike="noStrike">
                <a:solidFill>
                  <a:srgbClr val="004240"/>
                </a:solidFill>
                <a:latin typeface="Arial"/>
              </a:rPr>
              <a:t>=  9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1295280" y="1592280"/>
            <a:ext cx="505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H="1" flipV="1">
            <a:off x="4212720" y="1530360"/>
            <a:ext cx="2876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H="1" flipV="1">
            <a:off x="6200280" y="1530360"/>
            <a:ext cx="79236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324000" y="2565360"/>
            <a:ext cx="244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4240"/>
                </a:solidFill>
                <a:latin typeface="Arial"/>
              </a:rPr>
              <a:t>слагаемо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3060720" y="2565360"/>
            <a:ext cx="244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4240"/>
                </a:solidFill>
                <a:latin typeface="Arial"/>
              </a:rPr>
              <a:t>слагаемо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5580000" y="2384280"/>
            <a:ext cx="338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сумм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880920" y="4797360"/>
            <a:ext cx="7417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Числовое равенств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1123920" y="3573360"/>
            <a:ext cx="3959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мма чис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Прямая соединительная линия 3" descr=""/>
          <p:cNvPicPr/>
          <p:nvPr/>
        </p:nvPicPr>
        <p:blipFill>
          <a:blip r:embed="rId1"/>
          <a:stretch/>
        </p:blipFill>
        <p:spPr>
          <a:xfrm>
            <a:off x="1566720" y="1285920"/>
            <a:ext cx="2846520" cy="135000"/>
          </a:xfrm>
          <a:prstGeom prst="rect">
            <a:avLst/>
          </a:prstGeom>
          <a:ln w="0">
            <a:noFill/>
          </a:ln>
        </p:spPr>
      </p:pic>
      <p:sp>
        <p:nvSpPr>
          <p:cNvPr id="232" name="Line 18"/>
          <p:cNvSpPr/>
          <p:nvPr/>
        </p:nvSpPr>
        <p:spPr>
          <a:xfrm>
            <a:off x="2987640" y="1592280"/>
            <a:ext cx="73080" cy="20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755640" y="18900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лгоритм решения числов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1619280" y="3213000"/>
            <a:ext cx="792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2627280" y="3213000"/>
            <a:ext cx="792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5724360" y="3213000"/>
            <a:ext cx="792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3635280" y="3213000"/>
            <a:ext cx="792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1"/>
          <p:cNvSpPr/>
          <p:nvPr/>
        </p:nvSpPr>
        <p:spPr>
          <a:xfrm>
            <a:off x="395280" y="2475000"/>
            <a:ext cx="2448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755640" y="247500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иши выра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авь знак равен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йди и запиши результат с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826920" y="731880"/>
            <a:ext cx="756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4:34:44Z</dcterms:created>
  <dc:creator>Лена</dc:creator>
  <dc:description/>
  <dc:language>en-US</dc:language>
  <cp:lastModifiedBy>Сергеенко</cp:lastModifiedBy>
  <dcterms:modified xsi:type="dcterms:W3CDTF">2014-11-27T19:14:32Z</dcterms:modified>
  <cp:revision>45</cp:revision>
  <dc:subject/>
  <dc:title>Слайд 1</dc:title>
</cp:coreProperties>
</file>