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593C-5B34-454C-9901-AE0AF400F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1506-A8FA-49DE-8D9B-B925AC6AB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B909-AE7E-438C-9BC1-BBC888864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7CF-5A5C-42A1-910B-A4662971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4E8-23D2-4AEF-B1BD-762A182F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E8C-D0FA-4FAA-ABE3-526E8C84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179-EE6E-4178-BA61-3E86F28E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7E56-185A-4F77-A213-49748F92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5B54-B6C3-4C4B-9689-4AAABBCF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F307-9D13-4FD4-BD27-02BF9F40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365E-56FC-47BD-94B1-09F5CF17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23E1-08D0-4B86-A61C-9733A2EE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CE30-87D6-42ED-8742-991D3118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4337-BCD8-43D6-A831-D9409C35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B53-9CAB-4236-A5A0-A50C49F2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0718-B499-48EB-98BF-9B8052BB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21A7-0597-4114-A815-23B22963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B80E-2ECC-4FDD-BAD0-D043AC2A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641C-BE98-428F-A803-7A745664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A709-3E76-4507-A155-18673945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D5673-D9E9-42EC-8295-AB70D38C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7679D-6949-4B2C-9082-17516F67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B4A98-F468-4690-BF47-84EC8998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871A5-AF7B-4EF5-B0DA-28CA11A9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930D6-8171-47CC-BAD1-E27073CE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76B-BB48-4BA3-A58E-EE24D9E6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D9CE5-79FD-480F-B89E-0F314D8A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1B276-289F-4961-95D2-791BDADB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537B1-D216-4A19-8F48-973A96B1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81CD4-19CF-4CF0-940B-CA408F0B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4A4A5-12E9-4681-8F1E-9D1B9187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2760E-9AAC-4552-86D0-F9AA1C66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294E9-BAD5-4919-8538-51C86BE6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6B74F-58B4-4E77-8FCD-DBBDB4EF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3FA53-AA93-4CE3-9274-8E49EFF3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A6699-3DCD-41D4-A0C4-08474100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C19-AAD4-4E92-8499-FD20D69C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F3BE5-2825-47A1-ACE4-8E15AF80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85FEF-044F-4230-B7BB-9F873C80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3C42E-6711-4810-8498-62DFA0A7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A6692-38E3-4D83-B10E-5752F119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01A10-51FB-4B56-8716-49E01775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44C0-0A39-4C2C-B2D2-DEC74A26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787AD-4C00-4C71-897B-B9F9D9F8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DA129-CC0F-47C1-819C-58547307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C7E53-2A66-4BB1-A2BB-C3A12795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6D7A-48C7-4C05-8F1A-B5B93BF3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45DA-5799-4EE2-9872-B5153CAE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9B7-4CC4-4F3D-88F0-81ED03E1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80D-1AA1-4B09-98DA-19D28F35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3D0-6118-4D89-913D-0A8F5329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3C00-34BA-4EF0-A070-4F60BDCEDB4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B464-F946-475D-BC65-A3A3CDB00AC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755A-A4F3-4067-9501-CBB308FAF83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A91B-B2B5-4D6A-B631-AA162076C90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3"/>
          <p:cNvSpPr/>
          <p:nvPr/>
        </p:nvSpPr>
        <p:spPr>
          <a:xfrm>
            <a:off x="1486080" y="630360"/>
            <a:ext cx="28699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4 + 5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932360" y="685800"/>
            <a:ext cx="13827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4240"/>
                </a:solidFill>
                <a:latin typeface="Arial"/>
              </a:rPr>
              <a:t> </a:t>
            </a:r>
            <a:r>
              <a:rPr b="1" lang="en-US" sz="5500" spc="-1" strike="noStrike">
                <a:solidFill>
                  <a:srgbClr val="004240"/>
                </a:solidFill>
                <a:latin typeface="Arial"/>
              </a:rPr>
              <a:t>=  9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V="1">
            <a:off x="1295280" y="1592280"/>
            <a:ext cx="5050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 flipH="1" flipV="1">
            <a:off x="4212720" y="1530360"/>
            <a:ext cx="287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H="1" flipV="1">
            <a:off x="6200280" y="1530360"/>
            <a:ext cx="79236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324000" y="2565360"/>
            <a:ext cx="244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4240"/>
                </a:solidFill>
                <a:latin typeface="Arial"/>
              </a:rPr>
              <a:t>слагаемо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3060720" y="2565360"/>
            <a:ext cx="244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4240"/>
                </a:solidFill>
                <a:latin typeface="Arial"/>
              </a:rPr>
              <a:t>слагаемо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3"/>
          <p:cNvSpPr/>
          <p:nvPr/>
        </p:nvSpPr>
        <p:spPr>
          <a:xfrm>
            <a:off x="5580000" y="2384280"/>
            <a:ext cx="338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сумм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880920" y="4797360"/>
            <a:ext cx="7417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Arial"/>
              </a:rPr>
              <a:t>Числовое равенств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1123920" y="3573360"/>
            <a:ext cx="3959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умма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1566720" y="1285920"/>
            <a:ext cx="2846520" cy="135000"/>
          </a:xfrm>
          <a:prstGeom prst="rect">
            <a:avLst/>
          </a:prstGeom>
          <a:ln w="0">
            <a:noFill/>
          </a:ln>
        </p:spPr>
      </p:pic>
      <p:sp>
        <p:nvSpPr>
          <p:cNvPr id="232" name="Line 18"/>
          <p:cNvSpPr/>
          <p:nvPr/>
        </p:nvSpPr>
        <p:spPr>
          <a:xfrm>
            <a:off x="2987640" y="1592280"/>
            <a:ext cx="73080" cy="20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755640" y="189000"/>
            <a:ext cx="7632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лгоритм решения числов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1619280" y="3213000"/>
            <a:ext cx="792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2627280" y="3213000"/>
            <a:ext cx="792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5724360" y="3213000"/>
            <a:ext cx="792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3635280" y="3213000"/>
            <a:ext cx="792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1"/>
          <p:cNvSpPr/>
          <p:nvPr/>
        </p:nvSpPr>
        <p:spPr>
          <a:xfrm>
            <a:off x="395280" y="2475000"/>
            <a:ext cx="244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"/>
          <p:cNvSpPr/>
          <p:nvPr/>
        </p:nvSpPr>
        <p:spPr>
          <a:xfrm>
            <a:off x="755640" y="247500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иши выра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тавь знак равен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йди и запиши результат с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826920" y="731880"/>
            <a:ext cx="7561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4:34:44Z</dcterms:created>
  <dc:creator>Лена</dc:creator>
  <dc:description/>
  <dc:language>en-US</dc:language>
  <cp:lastModifiedBy>Сергеенко</cp:lastModifiedBy>
  <dcterms:modified xsi:type="dcterms:W3CDTF">2014-11-27T19:14:32Z</dcterms:modified>
  <cp:revision>45</cp:revision>
  <dc:subject/>
  <dc:title>Слайд 1</dc:title>
</cp:coreProperties>
</file>