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6B6-D3F3-4398-B6B2-E86669DD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1D9-0C4D-4037-BE7E-E31E96D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C95-2251-43DF-BF08-E8EB3B67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912-3E5D-4721-AD80-8F181B7D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93DF-1951-4155-A8BF-207ED78C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745-5074-46C1-A705-ED35966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941B-D6CC-4C4D-A9C7-7F8F3A8D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5C3C-D7EF-4B0F-8AF4-592CF031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C9E-F8A8-4ECF-942B-643F2064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954-F2FD-4DA3-8FBF-2C90581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223B-1A05-4581-A61C-0F4B818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4E8-0482-4FAE-B60C-B2A2730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4C91-B8CC-48A8-BF82-D01FDF5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9C71-E83F-4C07-9CB8-839F927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6FE8-E737-42ED-AABF-5265CCC9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E6FF-6BBA-4E0F-8B08-AFC789CD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FE28-568F-46A6-AE25-04EAF0D6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57D5-D093-464C-BEA4-6E2F968F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73A2-204C-4096-85C5-CA83A42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B9FF-E6CF-4DFC-B325-01584A7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8F73-2995-487B-BD5B-E0D5D9E2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413D-94FC-4E48-B3AD-D6BEA7DC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442-190A-40E1-BB28-3273AC54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25BD-C994-4299-A136-BC8F232A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FC22-AAF4-4303-8823-08A5203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DB36-1467-4B37-9BC8-FABE163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2F6B-5561-462C-9523-3A907E40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E817-1B94-4E6B-8827-5F3105A1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C057-8238-41C4-94DC-947BF20B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49AD-24E6-4E58-82FD-1E7FEF14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1F5-F718-4DD0-967F-6E041893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31D-1813-4FC7-8534-1BAFC38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4C7-7AB8-48FE-BFA8-8842F480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0A1-81E4-4F32-AAA9-18CCB1C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15B-C4FF-4E2E-AAD5-536AD56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9BD7-A168-466B-9683-7D4EB3E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0EC7-BC40-45AB-B5BE-A1F95697B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4127-9A96-4BF9-8D47-475F2C69E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455D-6187-43A5-A678-2216467058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Исследование содержания углекислоты в газированных напитках и выявление её влияния 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211280" y="4437000"/>
            <a:ext cx="49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Ученица 9</a:t>
            </a: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Гриднева Ю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Руководитель:  учитель химии Е. А. Гвоз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24360" y="1599840"/>
            <a:ext cx="496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следовали рН сильногазированных лимонадов: опыт №1 - «Буратино», опыт №2 - «Персик», опыт №3 - «Coca-Cola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ыт №4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» и опыт №5 - липецкой минеральной воды «Эдельвейс». Бутылки открываются в начале 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Photo-0011"/>
          <p:cNvPicPr/>
          <p:nvPr/>
        </p:nvPicPr>
        <p:blipFill>
          <a:blip r:embed="rId1"/>
          <a:stretch/>
        </p:blipFill>
        <p:spPr>
          <a:xfrm>
            <a:off x="324000" y="1916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WHICHB"/>
          <p:cNvPicPr/>
          <p:nvPr/>
        </p:nvPicPr>
        <p:blipFill>
          <a:blip r:embed="rId2"/>
          <a:stretch/>
        </p:blipFill>
        <p:spPr>
          <a:xfrm>
            <a:off x="468360" y="54936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1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Буратино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1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Буратино» равна 5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2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Персик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2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Персик» равна 3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3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Coca-Cola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3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</a:t>
            </a:r>
            <a:r>
              <a:rPr b="0" i="1" lang="ru-RU" sz="1600" spc="-1" strike="noStrike">
                <a:solidFill>
                  <a:srgbClr val="8f8fb5"/>
                </a:solidFill>
                <a:latin typeface="Arial"/>
              </a:rPr>
              <a:t>Coca-Cola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» равна 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WHICHB"/>
          <p:cNvPicPr/>
          <p:nvPr/>
        </p:nvPicPr>
        <p:blipFill>
          <a:blip r:embed="rId1"/>
          <a:stretch/>
        </p:blipFill>
        <p:spPr>
          <a:xfrm>
            <a:off x="611280" y="26028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ff"/>
                </a:solidFill>
                <a:latin typeface="Tahoma"/>
              </a:rPr>
              <a:t>Опыт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4 с показателями эталонной шкалы для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лимонада «</a:t>
            </a:r>
            <a:r>
              <a:rPr b="0" i="1" lang="en-US" sz="1400" spc="-1" strike="noStrike">
                <a:solidFill>
                  <a:srgbClr val="8f8fb5"/>
                </a:solidFill>
                <a:latin typeface="Arial"/>
              </a:rPr>
              <a:t>Sprit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» равна 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ff"/>
                </a:solidFill>
                <a:latin typeface="Tahoma"/>
              </a:rPr>
              <a:t>Опыт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ткрыла пробку газированной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ипецкой минеральной воды «Эдельвейс»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5 с показателями эталонной шкалы для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400" spc="-1" strike="noStrike">
                <a:solidFill>
                  <a:srgbClr val="8f8fb5"/>
                </a:solidFill>
                <a:latin typeface="Arial"/>
              </a:rPr>
              <a:t>липецкой минеральной воды «Эдельвейс». 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равна 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WHICHB"/>
          <p:cNvPicPr/>
          <p:nvPr/>
        </p:nvPicPr>
        <p:blipFill>
          <a:blip r:embed="rId1"/>
          <a:stretch/>
        </p:blipFill>
        <p:spPr>
          <a:xfrm>
            <a:off x="539640" y="260280"/>
            <a:ext cx="1041480" cy="628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Photo-0010_e1"/>
          <p:cNvPicPr/>
          <p:nvPr/>
        </p:nvPicPr>
        <p:blipFill>
          <a:blip r:embed="rId2"/>
          <a:stretch/>
        </p:blipFill>
        <p:spPr>
          <a:xfrm>
            <a:off x="1187280" y="4221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hoto-0009"/>
          <p:cNvPicPr/>
          <p:nvPr/>
        </p:nvPicPr>
        <p:blipFill>
          <a:blip r:embed="rId3"/>
          <a:stretch/>
        </p:blipFill>
        <p:spPr>
          <a:xfrm>
            <a:off x="5148360" y="422424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результатам исследования построила диаграм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пыт №1 - «Буратино», опыт №2 - «Персик», опыт №3 - «Coca-Cola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пыт №4 - №4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» и опыт №5 - липецкой минеральной воды «Эдельвей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12"/>
          <p:cNvGraphicFramePr/>
          <p:nvPr/>
        </p:nvGraphicFramePr>
        <p:xfrm>
          <a:off x="0" y="3584520"/>
          <a:ext cx="914400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4520"/>
                    <a:ext cx="91440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Влияние на здоровь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резмерное увлечение сладкой газировкой может увеличить вероятность ожирения или сахарного диабета. В некоторых странах уже введён запрет на торговлю сладкими газированными напитками на территориях начальны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f8fb5"/>
                </a:solidFill>
                <a:latin typeface="Arial"/>
              </a:rPr>
              <a:t>Так чем же вредны газированные напит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630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рвое, что вызывает подозрение - диоксида углерода, или обычная углекислота, дающая пузырьки при открывании бутылки. Сам по себе он безвреден (его используют для лучшей сохранности напитка), но его присутствие в воде возбуждает желудочную секрецию, повышает кислотность желудочного сока и провоцирует метеоризм - обильное выделение газ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лее идет лимонная кислота, возможна также яблочная реже ортофосфорная кислота. Иногда вместо названия кислоты пишут цифровой код. Кислота лимонная - Е330, ортофосфорная - Е33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пулярное вещество в газировках – кофеин. Он относиться к мягким стимуляторам нервной системы. Дети, потребляющие много кофеина, более беспокойны, плохо засыпают, часто страдают от головных болей. У них может нарушаться способность концентрировать внимание. Кроме того, кофеин увеличивает потери кальция с моч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з красителей чаще всего в газированных напитках применяют краситель «желтый-5». Он может вызывать различные аллергические реакции - от бронхиальной астмы до крапивницы и рини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амый опасный ингредиент – сахар. Сахар - это чистый углевод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659850_1086685939"/>
          <p:cNvPicPr/>
          <p:nvPr/>
        </p:nvPicPr>
        <p:blipFill>
          <a:blip r:embed="rId1"/>
          <a:stretch/>
        </p:blipFill>
        <p:spPr>
          <a:xfrm>
            <a:off x="6732720" y="458136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ink"/>
          <p:cNvPicPr/>
          <p:nvPr/>
        </p:nvPicPr>
        <p:blipFill>
          <a:blip r:embed="rId2"/>
          <a:srcRect l="5569" t="0" r="8323" b="0"/>
          <a:stretch/>
        </p:blipFill>
        <p:spPr>
          <a:xfrm>
            <a:off x="6732720" y="333360"/>
            <a:ext cx="2016000" cy="175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83df624f1f7a"/>
          <p:cNvPicPr/>
          <p:nvPr/>
        </p:nvPicPr>
        <p:blipFill>
          <a:blip r:embed="rId3"/>
          <a:srcRect l="0" t="23720" r="0" b="5224"/>
          <a:stretch/>
        </p:blipFill>
        <p:spPr>
          <a:xfrm>
            <a:off x="6732720" y="2349360"/>
            <a:ext cx="21081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азированные напитки имеют более низкую pH и большую титруемую кислотность. В опытах газированные напитк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риводят к более высокой степени эрозирования эмали по сравнению с негазированными напитками, а поражение дентина происходит даже сильнее, чем при контакте зубов с апельсиновым соком. Следовательно, эрозивность напитка может быть снижена за счет уменьшения степени газирования. Кислота, сахар или подсластители в буквальном смысле разъедают зубную эмаль,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вызывая кариес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Так, разрушительный потенциал колы (причем продающейся как под брендом Coca-Cola, так и под товарной маркой Pepsi) в десять раз выше, чем у фруктового сока, подтвердили исследования американских уче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употреблением газировки связывают так же и состояние, когда кости становятся хрупкими. Нет, не потому, что газировка как-то влияет на костную ткань, просто некоторые люди - молоко (источник кальция) пьют реже, чем газированные напитки. Это в основном подростки. А ведь у них как раз с 9 до 18 лет идет активное накопление кальция. Потом, в течение всей жизни он будет только тратиться. Получается, если к 18 годам кальция будет недостаточно, то уже в зрелом возрасте очень высока вероятность развития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остеопороза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рачи, которые назначают почечным больным диету, обязательно отмечают, что газированные напитки им строго противопоказаны. Медики предполологают, что в образова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камней в почк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иновата фосфорная кислота, используемая как подкислит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633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ываю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заболевания мускульной систем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бостряю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заболевания желудочно-кишечного тракт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В состав “шипучки” входят лимонная кислота и сода (щелочь), а они негативно влияют на слизистую желудка. Да и сам продукт бурной реакции щелочи с кислотой — углекислота (газ) не лучшим образом ведет себя, попадая в организм.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 Кишечни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а грози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метеоризм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вздутием),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желудку— обострением язвенной болезни, поджелудочной железе — панкреатитом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Газированные напитки и содовая вода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провоцируют изжогу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из-за того, что содержащиеся в них газы вызывают расширение желудка, и кислота начинает подниматься в пище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Число pH  7,5-7,7"/>
          <p:cNvPicPr/>
          <p:nvPr/>
        </p:nvPicPr>
        <p:blipFill>
          <a:blip r:embed="rId1"/>
          <a:srcRect l="24125" t="27211" r="27664" b="0"/>
          <a:stretch/>
        </p:blipFill>
        <p:spPr>
          <a:xfrm>
            <a:off x="7812000" y="3933720"/>
            <a:ext cx="863640" cy="1662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D1"/>
          <p:cNvPicPr/>
          <p:nvPr/>
        </p:nvPicPr>
        <p:blipFill>
          <a:blip r:embed="rId2"/>
          <a:stretch/>
        </p:blipFill>
        <p:spPr>
          <a:xfrm>
            <a:off x="6516720" y="1628640"/>
            <a:ext cx="2282760" cy="1552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2601_00301"/>
          <p:cNvPicPr/>
          <p:nvPr/>
        </p:nvPicPr>
        <p:blipFill>
          <a:blip r:embed="rId3"/>
          <a:srcRect l="0" t="0" r="23175" b="0"/>
          <a:stretch/>
        </p:blipFill>
        <p:spPr>
          <a:xfrm>
            <a:off x="6588000" y="3933720"/>
            <a:ext cx="936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28083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дям с хроническими заболеваниями (аллергия, избыточный вес, гастрит, язвенная болезнь, колит и др.), газированные сладкие напитки употреблять в больших количествах не рекоменду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тям младше 3 лет желательно сладкие газированные напитки не да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емлемым решением, было бы снижение потребление газированных напитков до разумных пределов, в особенности для подростков, с тем чтобы снизить риск наступления, вышеперечисленных заболеван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Photo-0007"/>
          <p:cNvPicPr/>
          <p:nvPr/>
        </p:nvPicPr>
        <p:blipFill>
          <a:blip r:embed="rId1"/>
          <a:stretch/>
        </p:blipFill>
        <p:spPr>
          <a:xfrm>
            <a:off x="6300720" y="4545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611280" y="5157720"/>
            <a:ext cx="51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f8fb5"/>
                </a:solidFill>
                <a:latin typeface="Arial"/>
              </a:rPr>
              <a:t>Не увлекайтесь газировк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исследовать 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pH </a:t>
            </a: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газированных напитков и их влияние на здоровье человека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следовать состав газированных напит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отреть влияние газированных напитков на здоровье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формить результаты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27236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УГЛЕКИСЛОТА ЖИДКАЯ</a:t>
            </a:r>
            <a:br>
              <a:rPr sz="3600"/>
            </a:b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ТЕХНИЧЕСКИЕ ТРЕБОВАНИЯ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ота (двуокись углерода) жидкая должна изготовляться в соответствии с требованиями ГОСТ 8050-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ота всех сортов применяется: для создания защитной среды при сварке металлов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для пищевых целей в производстве газированных напитков,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ухого льда, для охлаждения, замораживания и хранения пищевых продуктов при прямом и косвенном контакте с ними; для сушки литейных форм; для пожаротушения и других целей во всех отраслях промышл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ормула СО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лекулярная масса (по международным массам 1977 г.) - 44,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WHICHB"/>
          <p:cNvPicPr/>
          <p:nvPr/>
        </p:nvPicPr>
        <p:blipFill>
          <a:blip r:embed="rId1"/>
          <a:stretch/>
        </p:blipFill>
        <p:spPr>
          <a:xfrm>
            <a:off x="611280" y="62064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Газиро́ванная вода́ (газировка)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194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хладительный напиток из минеральной или обычной ароматизированной воды, насыщенной углекислым газом. Различают слабо-, среднe- и сильногазированную в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ированная вода. Это питьевая вода, насыщенная углекислотой, оптимальное содержание которой составляет около 0,4% ма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83df624f1f7a"/>
          <p:cNvPicPr/>
          <p:nvPr/>
        </p:nvPicPr>
        <p:blipFill>
          <a:blip r:embed="rId1"/>
          <a:stretch/>
        </p:blipFill>
        <p:spPr>
          <a:xfrm>
            <a:off x="6084720" y="2276640"/>
            <a:ext cx="26654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75128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История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723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ная газированная вода с газом известна с древнейших времён и использовалась в лечебных целях (Гиппократ посвятил этой воде целую главу своего труда и велел больным не только пить её, но и купаться в ней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же были предприняты попытки искусственно загазировать в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ому создать газированную воду удалось английскому химику Джозефу Пристли в 1767 году. Это удалось ему после экспериментов с газом, выделяющимся при брожении в чанах пивоваренного завода. Далее швед Тоберн Бергман в 1770 году сконструировал аппарат, позволяющий под давлением, с помощью насоса, насыщать воду углекислыми пузырьками и назвал его сатуратором (лат. saturo — насыщать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ым промышленное производство газированной воды начал Якоб Швепп. Он в 1783 году усовершенствовал сатуратор и создал промышленную установку для выпуска газированной воды. В начале XIX века Швепп для удешевления производства стал применять для газирования обычную пищевую соду и газированную воду стали называть „содовая“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винка быстро распространилась по Англии (такой водой стали разбавлять крепкие алкогольные напитки) и её колониям, позволив Швеппу основать компанию «Schwepp &amp; Co», от которой пошла торговая марка Schwep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отличие от США, где газировка в основном продавалась разлитой в бутылки, в других странах было принято потреблять её из перезаправляемых сифонов — как маленьких домашних, так и больших, устанавливаемых в кафе и барах. Позже появились и уличные автоматы по продаже газированной воды. В дореволюционной России бутылочная вода считалась напитком «господским», её называли зельтерской (сельтерской), по названию напитка (взятого от немецкого минерального источника Нидерзельтерс), производимого петербургским ресторатором Иваном Излером в 30-х годах XIX ве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180px-Автомат_газированной_воды"/>
          <p:cNvPicPr/>
          <p:nvPr/>
        </p:nvPicPr>
        <p:blipFill>
          <a:blip r:embed="rId1"/>
          <a:stretch/>
        </p:blipFill>
        <p:spPr>
          <a:xfrm>
            <a:off x="7740720" y="549360"/>
            <a:ext cx="1149120" cy="1871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0091"/>
          <p:cNvPicPr/>
          <p:nvPr/>
        </p:nvPicPr>
        <p:blipFill>
          <a:blip r:embed="rId2"/>
          <a:stretch/>
        </p:blipFill>
        <p:spPr>
          <a:xfrm>
            <a:off x="7956720" y="422100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epsi"/>
          <p:cNvPicPr/>
          <p:nvPr/>
        </p:nvPicPr>
        <p:blipFill>
          <a:blip r:embed="rId3"/>
          <a:srcRect l="22608" t="0" r="18413" b="0"/>
          <a:stretch/>
        </p:blipFill>
        <p:spPr>
          <a:xfrm>
            <a:off x="8028000" y="2637000"/>
            <a:ext cx="936720" cy="1269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1229417917_index_img_08"/>
          <p:cNvPicPr/>
          <p:nvPr/>
        </p:nvPicPr>
        <p:blipFill>
          <a:blip r:embed="rId4"/>
          <a:srcRect l="7217" t="0" r="10007" b="0"/>
          <a:stretch/>
        </p:blipFill>
        <p:spPr>
          <a:xfrm>
            <a:off x="7308720" y="5516640"/>
            <a:ext cx="1656000" cy="1047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WHICHB"/>
          <p:cNvPicPr/>
          <p:nvPr/>
        </p:nvPicPr>
        <p:blipFill>
          <a:blip r:embed="rId5"/>
          <a:stretch/>
        </p:blipFill>
        <p:spPr>
          <a:xfrm>
            <a:off x="324000" y="0"/>
            <a:ext cx="104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Arial"/>
              </a:rPr>
              <a:t>Крупнейшие произв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Dr. Pepper Snapple Group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The Coca-Cola Company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PepsiCo, Incorporated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Arial"/>
              </a:rPr>
              <a:t>Популярные ма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ка-кола (США) — с 188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анта (США) — с 194х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прайт (США) — с 196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пси-кола (США) — c 189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7 Up (США) — c 1929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рхун (Россия) — с 188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йкал (СССР) — с 197х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ратино (ССС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SD1"/>
          <p:cNvPicPr/>
          <p:nvPr/>
        </p:nvPicPr>
        <p:blipFill>
          <a:blip r:embed="rId1"/>
          <a:stretch/>
        </p:blipFill>
        <p:spPr>
          <a:xfrm>
            <a:off x="5724360" y="191628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Газация происходит двумя способ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ханическим — введение и насыщение жидкости диоксидом углерода: фруктовые и минеральные воды, газированные или шипучие вина и вода. При этом напитки газируются в специальных аппаратах — сифонах, сатураторах, акратофорах или металлических танках под давлением, предварительно охлаждая и выводя из жидкости воздух. Обычно напитки насыщают до 5—10 г/л. Газирование воды углекислым газом не обеззараживает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Химическим — напиток газируется углекислотой при брожении: пиво, бутылочное и акратофорное шампанское, игристые вина, сидр, хлебный квас, либо при взаимодействии кислоты и питьевой соды — зельтерская вода (она же «содовая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WHICHB"/>
          <p:cNvPicPr/>
          <p:nvPr/>
        </p:nvPicPr>
        <p:blipFill>
          <a:blip r:embed="rId1"/>
          <a:stretch/>
        </p:blipFill>
        <p:spPr>
          <a:xfrm>
            <a:off x="684360" y="404640"/>
            <a:ext cx="104112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Свойства углекислого газа в составе газированной воды.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ый газ достаточно хорошо растворяется в воде, также как и другие газы, вступающие с ней в химическое взаимодействие: сероводород, диоксид серы, аммиак и др. Другие газы менее растворимы в воде. Углекислый газ используется как консервант и обозначается на упаковке под кодом Е29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гласно одним источникам, газированная вода хуже утоляет жажду и вызывает неприятные ощущения во рту за счёт механического воздействия пузырьков. Согласно другим источникам, утоляет жажду и вызывает приятные ощущения во 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Влияет ли углекислота на</a:t>
            </a:r>
            <a:r>
              <a:rPr b="1" i="1" lang="en-US" sz="2000" spc="-1" strike="noStrike">
                <a:solidFill>
                  <a:srgbClr val="8f8fb5"/>
                </a:solidFill>
                <a:latin typeface="Arial"/>
              </a:rPr>
              <a:t> pH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газированных напитк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Что бы ответить на этот вопрос необходимо провести следующее исслед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я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87280" y="1599840"/>
            <a:ext cx="569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ля эксперимента были взяты  газированные напитки  популярных российских и иностранных производителей, которые наиболее часто употребляют школьн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Photo-0008_e1"/>
          <p:cNvPicPr/>
          <p:nvPr/>
        </p:nvPicPr>
        <p:blipFill>
          <a:blip r:embed="rId1"/>
          <a:stretch/>
        </p:blipFill>
        <p:spPr>
          <a:xfrm>
            <a:off x="684360" y="1628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WHICHB"/>
          <p:cNvPicPr/>
          <p:nvPr/>
        </p:nvPicPr>
        <p:blipFill>
          <a:blip r:embed="rId2"/>
          <a:stretch/>
        </p:blipFill>
        <p:spPr>
          <a:xfrm>
            <a:off x="684360" y="549360"/>
            <a:ext cx="104112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beer-8[1]"/>
          <p:cNvPicPr/>
          <p:nvPr/>
        </p:nvPicPr>
        <p:blipFill>
          <a:blip r:embed="rId3"/>
          <a:stretch/>
        </p:blipFill>
        <p:spPr>
          <a:xfrm>
            <a:off x="755640" y="3789360"/>
            <a:ext cx="1652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10:56Z</dcterms:created>
  <dc:creator>Пользователь</dc:creator>
  <dc:description/>
  <dc:language>en-US</dc:language>
  <cp:lastModifiedBy>Admin</cp:lastModifiedBy>
  <dcterms:modified xsi:type="dcterms:W3CDTF">2014-12-29T18:36:22Z</dcterms:modified>
  <cp:revision>169</cp:revision>
  <dc:subject/>
  <dc:title>Слайд 1</dc:title>
</cp:coreProperties>
</file>