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2B3-760B-4C47-B37D-E253EC4C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CC0-E9DB-4B52-85A9-C70C14CA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DE5-2394-46BF-B97D-AAFD9AA8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79B-47A7-46D8-B2E2-0F0A8C0A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145-6C30-43CD-B6B4-53F84889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8E40-4061-43C6-B535-06974B86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C090-FB9C-480A-89C2-24B6941E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82A5-DB25-4827-90A0-F80F7B12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3B12-056C-40A3-A01A-E3ABB5D1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C9AD-E8E6-40E8-9F2C-AE003A1A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8E63-AE05-4887-A282-A23A7742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A2F-47D0-412D-A12C-F16E6B48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EF19-6E1E-45A8-9299-A79287E2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F289-A22B-4567-B4BF-A8669281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7CAE-BA6A-460C-BFA4-29E4536B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CCA8-5585-4306-BD4A-7A48B43A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FA86-16A8-433A-B62F-1795864F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2001-C360-4FA6-BF1C-32D9CBD1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C7D0E-788E-49FA-B124-8FAB24C9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28B0-8E36-4315-9C78-0ECC06D7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05CF-BB9C-4FCC-9CEC-B35DD09C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AE7D1-DD90-4BF2-9724-9D75A344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B25-BCBF-4C31-A3E0-7F5BC968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4C76-D1EC-4600-B771-526FC0F1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6CDC-515F-4603-919C-AF5F2B94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2D6A-813A-4BCF-9112-B1B320A2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CBA1-A231-4765-8E8D-A4AB28D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5ADF-79EF-47CA-9891-A270729D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B7191-B7A9-4A98-B31F-D49987A2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5B72-E341-4DAA-82DF-45DEDEA0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E3D-D13D-4744-9A9F-B4272577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1CD-AC5B-47A7-ABC0-9881F0E0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DFD-B867-47D5-B276-DACE9976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5D3-2D7E-463B-AAA1-437AF951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067-29AF-48F2-9389-82D30261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F20-BE22-4105-8D2B-43AB5BDF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633F-C00E-49CE-92D2-B5AD725C7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7BDC-73BC-4646-A5D8-42B3D71CC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71A0-E3F1-45D3-B698-E55D16F1D9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08720" cy="31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ff"/>
                </a:solidFill>
                <a:latin typeface="Arial"/>
              </a:rPr>
              <a:t>Исследование содержания углекислоты в газированных напитках и выявление её влияния на здоровье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211280" y="4437000"/>
            <a:ext cx="4932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Ученица 9</a:t>
            </a:r>
            <a:r>
              <a:rPr b="1" i="1" lang="en-US" sz="2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в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Гриднева Ю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Руководитель:  учитель химии Е. А. Гвозд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Ход исследований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24360" y="1599840"/>
            <a:ext cx="4968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следовали рН сильногазированных лимонадов: опыт №1 - «Буратино», опыт №2 - «Персик», опыт №3 - «Coca-Cola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»,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пыт №4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rit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» и опыт №5 - липецкой минеральной воды «Эдельвейс». Бутылки открываются в начале опы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4" descr="Photo-0011"/>
          <p:cNvPicPr/>
          <p:nvPr/>
        </p:nvPicPr>
        <p:blipFill>
          <a:blip r:embed="rId1"/>
          <a:stretch/>
        </p:blipFill>
        <p:spPr>
          <a:xfrm>
            <a:off x="324000" y="191628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WHICHB"/>
          <p:cNvPicPr/>
          <p:nvPr/>
        </p:nvPicPr>
        <p:blipFill>
          <a:blip r:embed="rId2"/>
          <a:stretch/>
        </p:blipFill>
        <p:spPr>
          <a:xfrm>
            <a:off x="468360" y="549360"/>
            <a:ext cx="10414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Ход исследований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99ff"/>
                </a:solidFill>
                <a:latin typeface="Tahoma"/>
              </a:rPr>
              <a:t>Опыт 1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Открыла пробку сильногазированной воды «Буратино»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Полоску «Универсальной Индикаторной бумаги» обмакнула в содержимое бутылки и поместила полоску на белую непромокаемую подложку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Быстро сравнила окраску полоски с показателями эталонной шкалы для 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При сравнении результата опыта №1 с показателями эталонной шкалы для </a:t>
            </a:r>
            <a:r>
              <a:rPr b="0" i="1" lang="en-US" sz="1700" spc="-1" strike="noStrike">
                <a:solidFill>
                  <a:srgbClr val="8f8fb5"/>
                </a:solidFill>
                <a:latin typeface="Tahoma"/>
              </a:rPr>
              <a:t>pH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 выяснила, что </a:t>
            </a:r>
            <a:r>
              <a:rPr b="0" i="1" lang="en-US" sz="1700" spc="-1" strike="noStrike">
                <a:solidFill>
                  <a:srgbClr val="8f8fb5"/>
                </a:solidFill>
                <a:latin typeface="Tahoma"/>
              </a:rPr>
              <a:t>pH 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лимонада «Буратино» равна 5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99ff"/>
                </a:solidFill>
                <a:latin typeface="Tahoma"/>
              </a:rPr>
              <a:t>Опыт 2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Открыла пробку сильногазированной воды «Персик»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Полоску «Универсальной Индикаторной бумаги» обмакнула в содержимое бутылки и поместила полоску на белую непромокаемую подложку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Быстро сравнила окраску полоски с показателями эталонной шкалы для 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При сравнении результата опыта №2 с показателями эталонной шкалы для </a:t>
            </a:r>
            <a:r>
              <a:rPr b="0" i="1" lang="en-US" sz="1700" spc="-1" strike="noStrike">
                <a:solidFill>
                  <a:srgbClr val="8f8fb5"/>
                </a:solidFill>
                <a:latin typeface="Tahoma"/>
              </a:rPr>
              <a:t>pH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 выяснила, что </a:t>
            </a:r>
            <a:r>
              <a:rPr b="0" i="1" lang="en-US" sz="1700" spc="-1" strike="noStrike">
                <a:solidFill>
                  <a:srgbClr val="8f8fb5"/>
                </a:solidFill>
                <a:latin typeface="Tahoma"/>
              </a:rPr>
              <a:t>pH 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лимонада «Персик» равна 3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99ff"/>
                </a:solidFill>
                <a:latin typeface="Tahoma"/>
              </a:rPr>
              <a:t>Опыт 3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Открыла пробку сильногазированной воды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Coca-Cola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»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Полоску «Универсальной Индикаторной бумаги» обмакнула в содержимое бутылки и поместила полоску на белую непромокаемую подложку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Быстро сравнила окраску полоски с показателями эталонной шкалы для </a:t>
            </a: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i="1" lang="ru-RU" sz="1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При сравнении результата опыта №3 с показателями эталонной шкалы для </a:t>
            </a:r>
            <a:r>
              <a:rPr b="0" i="1" lang="en-US" sz="1700" spc="-1" strike="noStrike">
                <a:solidFill>
                  <a:srgbClr val="8f8fb5"/>
                </a:solidFill>
                <a:latin typeface="Tahoma"/>
              </a:rPr>
              <a:t>pH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 выяснила, что </a:t>
            </a:r>
            <a:r>
              <a:rPr b="0" i="1" lang="en-US" sz="1700" spc="-1" strike="noStrike">
                <a:solidFill>
                  <a:srgbClr val="8f8fb5"/>
                </a:solidFill>
                <a:latin typeface="Tahoma"/>
              </a:rPr>
              <a:t>pH 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лимонада «</a:t>
            </a:r>
            <a:r>
              <a:rPr b="0" i="1" lang="ru-RU" sz="1600" spc="-1" strike="noStrike">
                <a:solidFill>
                  <a:srgbClr val="8f8fb5"/>
                </a:solidFill>
                <a:latin typeface="Arial"/>
              </a:rPr>
              <a:t>Coca-Cola</a:t>
            </a:r>
            <a:r>
              <a:rPr b="0" i="1" lang="ru-RU" sz="1700" spc="-1" strike="noStrike">
                <a:solidFill>
                  <a:srgbClr val="8f8fb5"/>
                </a:solidFill>
                <a:latin typeface="Tahoma"/>
              </a:rPr>
              <a:t>» равна 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WHICHB"/>
          <p:cNvPicPr/>
          <p:nvPr/>
        </p:nvPicPr>
        <p:blipFill>
          <a:blip r:embed="rId1"/>
          <a:stretch/>
        </p:blipFill>
        <p:spPr>
          <a:xfrm>
            <a:off x="611280" y="260280"/>
            <a:ext cx="10414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Ход исследований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ff"/>
                </a:solidFill>
                <a:latin typeface="Tahoma"/>
              </a:rPr>
              <a:t>Опыт 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Открыла пробку сильногазированной воды «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prit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олоску «Универсальной Индикаторной бумаги» обмакнула в содержимое бутылки и поместила полоску на белую непромокаемую подлож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ыстро сравнила окраску полоски с показателями эталонной шкалы для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При сравнении результата опыта №4 с показателями эталонной шкалы для </a:t>
            </a:r>
            <a:r>
              <a:rPr b="0" i="1" lang="en-US" sz="1500" spc="-1" strike="noStrike">
                <a:solidFill>
                  <a:srgbClr val="8f8fb5"/>
                </a:solidFill>
                <a:latin typeface="Tahoma"/>
              </a:rPr>
              <a:t>pH</a:t>
            </a: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 выяснила, что </a:t>
            </a:r>
            <a:r>
              <a:rPr b="0" i="1" lang="en-US" sz="1500" spc="-1" strike="noStrike">
                <a:solidFill>
                  <a:srgbClr val="8f8fb5"/>
                </a:solidFill>
                <a:latin typeface="Tahoma"/>
              </a:rPr>
              <a:t>pH </a:t>
            </a: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лимонада «</a:t>
            </a:r>
            <a:r>
              <a:rPr b="0" i="1" lang="en-US" sz="1400" spc="-1" strike="noStrike">
                <a:solidFill>
                  <a:srgbClr val="8f8fb5"/>
                </a:solidFill>
                <a:latin typeface="Arial"/>
              </a:rPr>
              <a:t>Sprit</a:t>
            </a: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» равна 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ff"/>
                </a:solidFill>
                <a:latin typeface="Tahoma"/>
              </a:rPr>
              <a:t>Опыт 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Открыла пробку газированной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липецкой минеральной воды «Эдельвейс».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олоску «Универсальной Индикаторной бумаги» обмакнула в содержимое бутылки и поместила полоску на белую непромокаемую подлож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ыстро сравнила окраску полоски с показателями эталонной шкалы для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pH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При сравнении результата опыта №5 с показателями эталонной шкалы для </a:t>
            </a:r>
            <a:r>
              <a:rPr b="0" i="1" lang="en-US" sz="1500" spc="-1" strike="noStrike">
                <a:solidFill>
                  <a:srgbClr val="8f8fb5"/>
                </a:solidFill>
                <a:latin typeface="Tahoma"/>
              </a:rPr>
              <a:t>pH</a:t>
            </a: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 выяснила, что </a:t>
            </a:r>
            <a:r>
              <a:rPr b="0" i="1" lang="en-US" sz="1500" spc="-1" strike="noStrike">
                <a:solidFill>
                  <a:srgbClr val="8f8fb5"/>
                </a:solidFill>
                <a:latin typeface="Tahoma"/>
              </a:rPr>
              <a:t>pH </a:t>
            </a:r>
            <a:r>
              <a:rPr b="0" i="1" lang="ru-RU" sz="1400" spc="-1" strike="noStrike">
                <a:solidFill>
                  <a:srgbClr val="8f8fb5"/>
                </a:solidFill>
                <a:latin typeface="Arial"/>
              </a:rPr>
              <a:t>липецкой минеральной воды «Эдельвейс». </a:t>
            </a:r>
            <a:r>
              <a:rPr b="0" i="1" lang="ru-RU" sz="1500" spc="-1" strike="noStrike">
                <a:solidFill>
                  <a:srgbClr val="8f8fb5"/>
                </a:solidFill>
                <a:latin typeface="Tahoma"/>
              </a:rPr>
              <a:t>равна 6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WHICHB"/>
          <p:cNvPicPr/>
          <p:nvPr/>
        </p:nvPicPr>
        <p:blipFill>
          <a:blip r:embed="rId1"/>
          <a:stretch/>
        </p:blipFill>
        <p:spPr>
          <a:xfrm>
            <a:off x="539640" y="260280"/>
            <a:ext cx="1041480" cy="628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Photo-0010_e1"/>
          <p:cNvPicPr/>
          <p:nvPr/>
        </p:nvPicPr>
        <p:blipFill>
          <a:blip r:embed="rId2"/>
          <a:stretch/>
        </p:blipFill>
        <p:spPr>
          <a:xfrm>
            <a:off x="1187280" y="422100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Photo-0009"/>
          <p:cNvPicPr/>
          <p:nvPr/>
        </p:nvPicPr>
        <p:blipFill>
          <a:blip r:embed="rId3"/>
          <a:stretch/>
        </p:blipFill>
        <p:spPr>
          <a:xfrm>
            <a:off x="5148360" y="4224240"/>
            <a:ext cx="25192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Ход исследований.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 результатам исследования построила диаграм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пыт №1 - «Буратино», опыт №2 - «Персик», опыт №3 - «Coca-Cola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»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пыт №4 - №4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pri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» и опыт №5 - липецкой минеральной воды «Эдельвейс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Object 12"/>
          <p:cNvGraphicFramePr/>
          <p:nvPr/>
        </p:nvGraphicFramePr>
        <p:xfrm>
          <a:off x="0" y="3584520"/>
          <a:ext cx="9144000" cy="32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84520"/>
                    <a:ext cx="914400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Влияние на здоровь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Чрезмерное увлечение сладкой газировкой может увеличить вероятность ожирения или сахарного диабета. В некоторых странах уже введён запрет на торговлю сладкими газированными напитками на территориях начальных учебных заве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f8fb5"/>
                </a:solidFill>
                <a:latin typeface="Arial"/>
              </a:rPr>
              <a:t>Так чем же вредны газированные напитк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6300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ервое, что вызывает подозрение - диоксида углерода, или обычная углекислота, дающая пузырьки при открывании бутылки. Сам по себе он безвреден (его используют для лучшей сохранности напитка), но его присутствие в воде возбуждает желудочную секрецию, повышает кислотность желудочного сока и провоцирует метеоризм - обильное выделение газ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алее идет лимонная кислота, возможна также яблочная реже ортофосфорная кислота. Иногда вместо названия кислоты пишут цифровой код. Кислота лимонная - Е330, ортофосфорная - Е338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пулярное вещество в газировках – кофеин. Он относиться к мягким стимуляторам нервной системы. Дети, потребляющие много кофеина, более беспокойны, плохо засыпают, часто страдают от головных болей. У них может нарушаться способность концентрировать внимание. Кроме того, кофеин увеличивает потери кальция с моч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з красителей чаще всего в газированных напитках применяют краситель «желтый-5». Он может вызывать различные аллергические реакции - от бронхиальной астмы до крапивницы и рини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амый опасный ингредиент – сахар. Сахар - это чистый углевод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659850_1086685939"/>
          <p:cNvPicPr/>
          <p:nvPr/>
        </p:nvPicPr>
        <p:blipFill>
          <a:blip r:embed="rId1"/>
          <a:stretch/>
        </p:blipFill>
        <p:spPr>
          <a:xfrm>
            <a:off x="6732720" y="4581360"/>
            <a:ext cx="2087280" cy="1565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ink"/>
          <p:cNvPicPr/>
          <p:nvPr/>
        </p:nvPicPr>
        <p:blipFill>
          <a:blip r:embed="rId2"/>
          <a:srcRect l="5569" t="0" r="8323" b="0"/>
          <a:stretch/>
        </p:blipFill>
        <p:spPr>
          <a:xfrm>
            <a:off x="6732720" y="333360"/>
            <a:ext cx="2016000" cy="1757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83df624f1f7a"/>
          <p:cNvPicPr/>
          <p:nvPr/>
        </p:nvPicPr>
        <p:blipFill>
          <a:blip r:embed="rId3"/>
          <a:srcRect l="0" t="23720" r="0" b="5224"/>
          <a:stretch/>
        </p:blipFill>
        <p:spPr>
          <a:xfrm>
            <a:off x="6732720" y="2349360"/>
            <a:ext cx="210816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Arial"/>
              </a:rPr>
              <a:t>Какие заболевания могут спровоцировать сладкие газированные напитки?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азированные напитки имеют более низкую pH и большую титруемую кислотность. В опытах газированные напитк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приводят к более высокой степени эрозирования эмали по сравнению с негазированными напитками, а поражение дентина происходит даже сильнее, чем при контакте зубов с апельсиновым соком. Следовательно, эрозивность напитка может быть снижена за счет уменьшения степени газирования. Кислота, сахар или подсластители в буквальном смысле разъедают зубную эмаль, </a:t>
            </a:r>
            <a:r>
              <a:rPr b="1" i="1" lang="ru-RU" sz="2400" spc="-1" strike="noStrike">
                <a:solidFill>
                  <a:srgbClr val="8f8fb5"/>
                </a:solidFill>
                <a:latin typeface="Arial"/>
              </a:rPr>
              <a:t>вызывая кариес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Так, разрушительный потенциал колы (причем продающейся как под брендом Coca-Cola, так и под товарной маркой Pepsi) в десять раз выше, чем у фруктового сока, подтвердили исследования американских уче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Arial"/>
              </a:rPr>
              <a:t>Какие заболевания могут спровоцировать сладкие газированные напитки?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 употреблением газировки связывают так же и состояние, когда кости становятся хрупкими. Нет, не потому, что газировка как-то влияет на костную ткань, просто некоторые люди - молоко (источник кальция) пьют реже, чем газированные напитки. Это в основном подростки. А ведь у них как раз с 9 до 18 лет идет активное накопление кальция. Потом, в течение всей жизни он будет только тратиться. Получается, если к 18 годам кальция будет недостаточно, то уже в зрелом возрасте очень высока вероятность развития </a:t>
            </a:r>
            <a:r>
              <a:rPr b="1" i="1" lang="ru-RU" sz="2400" spc="-1" strike="noStrike">
                <a:solidFill>
                  <a:srgbClr val="8f8fb5"/>
                </a:solidFill>
                <a:latin typeface="Arial"/>
              </a:rPr>
              <a:t>остеопороза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рачи, которые назначают почечным больным диету, обязательно отмечают, что газированные напитки им строго противопоказаны. Медики предполологают, что в образован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f8fb5"/>
                </a:solidFill>
                <a:latin typeface="Arial"/>
              </a:rPr>
              <a:t>камней в почк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иновата фосфорная кислота, используемая как подкислите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ff"/>
                </a:solidFill>
                <a:latin typeface="Arial"/>
              </a:rPr>
              <a:t>Какие заболевания могут спровоцировать сладкие газированные напитки?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6337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зывают 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заболевания мускульной системы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бостряют 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заболевания желудочно-кишечного тракт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 В состав “шипучки” входят лимонная кислота и сода (щелочь), а они негативно влияют на слизистую желудка. Да и сам продукт бурной реакции щелочи с кислотой — углекислота (газ) не лучшим образом ведет себя, попадая в организм.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 Кишечнику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на грозит 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метеоризмом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вздутием), 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желудку— обострением язвенной болезни, поджелудочной железе — панкреатитом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 Газированные напитки и содовая вода 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провоцируют изжогу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из-за того, что содержащиеся в них газы вызывают расширение желудка, и кислота начинает подниматься в пищев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4" descr="Число pH  7,5-7,7"/>
          <p:cNvPicPr/>
          <p:nvPr/>
        </p:nvPicPr>
        <p:blipFill>
          <a:blip r:embed="rId1"/>
          <a:srcRect l="24125" t="27211" r="27664" b="0"/>
          <a:stretch/>
        </p:blipFill>
        <p:spPr>
          <a:xfrm>
            <a:off x="7812000" y="3933720"/>
            <a:ext cx="863640" cy="1662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SD1"/>
          <p:cNvPicPr/>
          <p:nvPr/>
        </p:nvPicPr>
        <p:blipFill>
          <a:blip r:embed="rId2"/>
          <a:stretch/>
        </p:blipFill>
        <p:spPr>
          <a:xfrm>
            <a:off x="6516720" y="1628640"/>
            <a:ext cx="2282760" cy="1552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2601_00301"/>
          <p:cNvPicPr/>
          <p:nvPr/>
        </p:nvPicPr>
        <p:blipFill>
          <a:blip r:embed="rId3"/>
          <a:srcRect l="0" t="0" r="23175" b="0"/>
          <a:stretch/>
        </p:blipFill>
        <p:spPr>
          <a:xfrm>
            <a:off x="6588000" y="3933720"/>
            <a:ext cx="9367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28083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Людям с хроническими заболеваниями (аллергия, избыточный вес, гастрит, язвенная болезнь, колит и др.), газированные сладкие напитки употреблять в больших количествах не рекомендуе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тям младше 3 лет желательно сладкие газированные напитки не да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емлемым решением, было бы снижение потребление газированных напитков до разумных пределов, в особенности для подростков, с тем чтобы снизить риск наступления, вышеперечисленных заболевани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4" descr="Photo-0007"/>
          <p:cNvPicPr/>
          <p:nvPr/>
        </p:nvPicPr>
        <p:blipFill>
          <a:blip r:embed="rId1"/>
          <a:stretch/>
        </p:blipFill>
        <p:spPr>
          <a:xfrm>
            <a:off x="6300720" y="4545000"/>
            <a:ext cx="2590920" cy="194472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611280" y="5157720"/>
            <a:ext cx="51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f8fb5"/>
                </a:solidFill>
                <a:latin typeface="Arial"/>
              </a:rPr>
              <a:t>Не увлекайтесь газировк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5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Цель:</a:t>
            </a:r>
            <a:r>
              <a:rPr b="0" i="1" lang="ru-RU" sz="32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99ff"/>
                </a:solidFill>
                <a:latin typeface="Arial"/>
              </a:rPr>
              <a:t>исследовать </a:t>
            </a:r>
            <a:r>
              <a:rPr b="1" i="1" lang="en-US" sz="3200" spc="-1" strike="noStrike">
                <a:solidFill>
                  <a:srgbClr val="0099ff"/>
                </a:solidFill>
                <a:latin typeface="Arial"/>
              </a:rPr>
              <a:t>pH </a:t>
            </a:r>
            <a:r>
              <a:rPr b="1" i="1" lang="ru-RU" sz="3200" spc="-1" strike="noStrike">
                <a:solidFill>
                  <a:srgbClr val="0099ff"/>
                </a:solidFill>
                <a:latin typeface="Arial"/>
              </a:rPr>
              <a:t>газированных напитков и их влияние на здоровье человека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сследовать состав газированных напит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смотреть влияние газированных напитков на здоровье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формить результаты исслед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27236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УГЛЕКИСЛОТА ЖИДКАЯ</a:t>
            </a:r>
            <a:br>
              <a:rPr sz="3600"/>
            </a:b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ТЕХНИЧЕСКИЕ ТРЕБОВАНИЯ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глекислота (двуокись углерода) жидкая должна изготовляться в соответствии с требованиями ГОСТ 8050-8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глекислота всех сортов применяется: для создания защитной среды при сварке металлов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для пищевых целей в производстве газированных напитков,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сухого льда, для охлаждения, замораживания и хранения пищевых продуктов при прямом и косвенном контакте с ними; для сушки литейных форм; для пожаротушения и других целей во всех отраслях промышле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ормула СО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олекулярная масса (по международным массам 1977 г.) - 44,00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WHICHB"/>
          <p:cNvPicPr/>
          <p:nvPr/>
        </p:nvPicPr>
        <p:blipFill>
          <a:blip r:embed="rId1"/>
          <a:stretch/>
        </p:blipFill>
        <p:spPr>
          <a:xfrm>
            <a:off x="611280" y="620640"/>
            <a:ext cx="10414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ff"/>
                </a:solidFill>
                <a:latin typeface="Arial"/>
              </a:rPr>
              <a:t>Газиро́ванная вода́ (газировка)</a:t>
            </a: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5194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хладительный напиток из минеральной или обычной ароматизированной воды, насыщенной углекислым газом. Различают слабо-, среднe- и сильногазированную в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зированная вода. Это питьевая вода, насыщенная углекислотой, оптимальное содержание которой составляет около 0,4% ма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83df624f1f7a"/>
          <p:cNvPicPr/>
          <p:nvPr/>
        </p:nvPicPr>
        <p:blipFill>
          <a:blip r:embed="rId1"/>
          <a:stretch/>
        </p:blipFill>
        <p:spPr>
          <a:xfrm>
            <a:off x="6084720" y="2276640"/>
            <a:ext cx="266544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75128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ff"/>
                </a:solidFill>
                <a:latin typeface="Arial"/>
              </a:rPr>
              <a:t>История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7236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родная газированная вода с газом известна с древнейших времён и использовалась в лечебных целях (Гиппократ посвятил этой воде целую главу своего труда и велел больным не только пить её, но и купаться в ней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зже были предприняты попытки искусственно загазировать вод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вому создать газированную воду удалось английскому химику Джозефу Пристли в 1767 году. Это удалось ему после экспериментов с газом, выделяющимся при брожении в чанах пивоваренного завода. Далее швед Тоберн Бергман в 1770 году сконструировал аппарат, позволяющий под давлением, с помощью насоса, насыщать воду углекислыми пузырьками и назвал его сатуратором (лат. saturo — насыщать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вым промышленное производство газированной воды начал Якоб Швепп. Он в 1783 году усовершенствовал сатуратор и создал промышленную установку для выпуска газированной воды. В начале XIX века Швепп для удешевления производства стал применять для газирования обычную пищевую соду и газированную воду стали называть „содовая“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овинка быстро распространилась по Англии (такой водой стали разбавлять крепкие алкогольные напитки) и её колониям, позволив Швеппу основать компанию «Schwepp &amp; Co», от которой пошла торговая марка Schwepp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отличие от США, где газировка в основном продавалась разлитой в бутылки, в других странах было принято потреблять её из перезаправляемых сифонов — как маленьких домашних, так и больших, устанавливаемых в кафе и барах. Позже появились и уличные автоматы по продаже газированной воды. В дореволюционной России бутылочная вода считалась напитком «господским», её называли зельтерской (сельтерской), по названию напитка (взятого от немецкого минерального источника Нидерзельтерс), производимого петербургским ресторатором Иваном Излером в 30-х годах XIX ве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180px-Автомат_газированной_воды"/>
          <p:cNvPicPr/>
          <p:nvPr/>
        </p:nvPicPr>
        <p:blipFill>
          <a:blip r:embed="rId1"/>
          <a:stretch/>
        </p:blipFill>
        <p:spPr>
          <a:xfrm>
            <a:off x="7740720" y="549360"/>
            <a:ext cx="1149120" cy="1871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0091"/>
          <p:cNvPicPr/>
          <p:nvPr/>
        </p:nvPicPr>
        <p:blipFill>
          <a:blip r:embed="rId2"/>
          <a:stretch/>
        </p:blipFill>
        <p:spPr>
          <a:xfrm>
            <a:off x="7956720" y="4221000"/>
            <a:ext cx="1019160" cy="1152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pepsi"/>
          <p:cNvPicPr/>
          <p:nvPr/>
        </p:nvPicPr>
        <p:blipFill>
          <a:blip r:embed="rId3"/>
          <a:srcRect l="22608" t="0" r="18413" b="0"/>
          <a:stretch/>
        </p:blipFill>
        <p:spPr>
          <a:xfrm>
            <a:off x="8028000" y="2637000"/>
            <a:ext cx="936720" cy="1269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1229417917_index_img_08"/>
          <p:cNvPicPr/>
          <p:nvPr/>
        </p:nvPicPr>
        <p:blipFill>
          <a:blip r:embed="rId4"/>
          <a:srcRect l="7217" t="0" r="10007" b="0"/>
          <a:stretch/>
        </p:blipFill>
        <p:spPr>
          <a:xfrm>
            <a:off x="7308720" y="5516640"/>
            <a:ext cx="1656000" cy="1047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WHICHB"/>
          <p:cNvPicPr/>
          <p:nvPr/>
        </p:nvPicPr>
        <p:blipFill>
          <a:blip r:embed="rId5"/>
          <a:stretch/>
        </p:blipFill>
        <p:spPr>
          <a:xfrm>
            <a:off x="324000" y="0"/>
            <a:ext cx="10411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ff"/>
                </a:solidFill>
                <a:latin typeface="Arial"/>
              </a:rPr>
              <a:t>Крупнейшие производит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Dr. Pepper Snapple Group (СШ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The Coca-Cola Company (СШ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PepsiCo, Incorporated (СШ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ff"/>
                </a:solidFill>
                <a:latin typeface="Arial"/>
              </a:rPr>
              <a:t>Популярные ма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ка-кола (США) — с 188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Фанта (США) — с 194х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прайт (США) — с 1961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епси-кола (США) — c 1898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7 Up (США) — c 1929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рхун (Россия) — с 1887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айкал (СССР) — с 197х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уратино (ССС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SD1"/>
          <p:cNvPicPr/>
          <p:nvPr/>
        </p:nvPicPr>
        <p:blipFill>
          <a:blip r:embed="rId1"/>
          <a:stretch/>
        </p:blipFill>
        <p:spPr>
          <a:xfrm>
            <a:off x="5724360" y="1916280"/>
            <a:ext cx="28576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Производство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Газация происходит двумя способа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еханическим — введение и насыщение жидкости диоксидом углерода: фруктовые и минеральные воды, газированные или шипучие вина и вода. При этом напитки газируются в специальных аппаратах — сифонах, сатураторах, акратофорах или металлических танках под давлением, предварительно охлаждая и выводя из жидкости воздух. Обычно напитки насыщают до 5—10 г/л. Газирование воды углекислым газом не обеззараживает её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Химическим — напиток газируется углекислотой при брожении: пиво, бутылочное и акратофорное шампанское, игристые вина, сидр, хлебный квас, либо при взаимодействии кислоты и питьевой соды — зельтерская вода (она же «содовая»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WHICHB"/>
          <p:cNvPicPr/>
          <p:nvPr/>
        </p:nvPicPr>
        <p:blipFill>
          <a:blip r:embed="rId1"/>
          <a:stretch/>
        </p:blipFill>
        <p:spPr>
          <a:xfrm>
            <a:off x="684360" y="404640"/>
            <a:ext cx="104112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ff"/>
                </a:solidFill>
                <a:latin typeface="Arial"/>
              </a:rPr>
              <a:t>Свойства углекислого газа в составе газированной воды.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глекислый газ достаточно хорошо растворяется в воде, также как и другие газы, вступающие с ней в химическое взаимодействие: сероводород, диоксид серы, аммиак и др. Другие газы менее растворимы в воде. Углекислый газ используется как консервант и обозначается на упаковке под кодом Е29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огласно одним источникам, газированная вода хуже утоляет жажду и вызывает неприятные ощущения во рту за счёт механического воздействия пузырьков. Согласно другим источникам, утоляет жажду и вызывает приятные ощущения во р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Влияет ли углекислота на</a:t>
            </a:r>
            <a:r>
              <a:rPr b="1" i="1" lang="en-US" sz="2000" spc="-1" strike="noStrike">
                <a:solidFill>
                  <a:srgbClr val="8f8fb5"/>
                </a:solidFill>
                <a:latin typeface="Arial"/>
              </a:rPr>
              <a:t> pH </a:t>
            </a: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газированных напитк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f8fb5"/>
                </a:solidFill>
                <a:latin typeface="Arial"/>
              </a:rPr>
              <a:t>Что бы ответить на этот вопрос необходимо провести следующее исследо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ff"/>
                </a:solidFill>
                <a:latin typeface="Arial"/>
              </a:rPr>
              <a:t>Ход исследования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987280" y="1599840"/>
            <a:ext cx="569916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ля эксперимента были взяты  газированные напитки  популярных российских и иностранных производителей, которые наиболее часто употребляют школьн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Photo-0008_e1"/>
          <p:cNvPicPr/>
          <p:nvPr/>
        </p:nvPicPr>
        <p:blipFill>
          <a:blip r:embed="rId1"/>
          <a:stretch/>
        </p:blipFill>
        <p:spPr>
          <a:xfrm>
            <a:off x="684360" y="162864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WHICHB"/>
          <p:cNvPicPr/>
          <p:nvPr/>
        </p:nvPicPr>
        <p:blipFill>
          <a:blip r:embed="rId2"/>
          <a:stretch/>
        </p:blipFill>
        <p:spPr>
          <a:xfrm>
            <a:off x="684360" y="549360"/>
            <a:ext cx="104112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beer-8[1]"/>
          <p:cNvPicPr/>
          <p:nvPr/>
        </p:nvPicPr>
        <p:blipFill>
          <a:blip r:embed="rId3"/>
          <a:stretch/>
        </p:blipFill>
        <p:spPr>
          <a:xfrm>
            <a:off x="755640" y="3789360"/>
            <a:ext cx="16527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8:10:56Z</dcterms:created>
  <dc:creator>Пользователь</dc:creator>
  <dc:description/>
  <dc:language>en-US</dc:language>
  <cp:lastModifiedBy>Admin</cp:lastModifiedBy>
  <dcterms:modified xsi:type="dcterms:W3CDTF">2014-12-29T18:36:22Z</dcterms:modified>
  <cp:revision>169</cp:revision>
  <dc:subject/>
  <dc:title>Слайд 1</dc:title>
</cp:coreProperties>
</file>