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42.wmf" ContentType="image/x-wmf"/>
  <Override PartName="/ppt/media/image19.jpeg" ContentType="image/jpeg"/>
  <Override PartName="/ppt/media/image18.gif" ContentType="image/gif"/>
  <Override PartName="/ppt/media/image17.jpeg" ContentType="image/jpeg"/>
  <Override PartName="/ppt/media/image16.gif" ContentType="image/gif"/>
  <Override PartName="/ppt/media/image14.gif" ContentType="image/gif"/>
  <Override PartName="/ppt/media/image13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38.wmf" ContentType="image/x-wmf"/>
  <Override PartName="/ppt/media/image30.gif" ContentType="image/gif"/>
  <Override PartName="/ppt/media/image33.wmf" ContentType="image/x-wmf"/>
  <Override PartName="/ppt/media/image37.gif" ContentType="image/gif"/>
  <Override PartName="/ppt/media/image34.gif" ContentType="image/gif"/>
  <Override PartName="/ppt/media/image35.wmf" ContentType="image/x-wmf"/>
  <Override PartName="/ppt/media/image36.wmf" ContentType="image/x-wmf"/>
  <Override PartName="/ppt/media/image20.jpeg" ContentType="image/jpeg"/>
  <Override PartName="/ppt/media/image40.wmf" ContentType="image/x-wmf"/>
  <Override PartName="/ppt/media/image28.jpeg" ContentType="image/jpeg"/>
  <Override PartName="/ppt/media/image43.gif" ContentType="image/gif"/>
  <Override PartName="/ppt/media/image7.jpeg" ContentType="image/jpeg"/>
  <Override PartName="/ppt/media/image31.wmf" ContentType="image/x-wmf"/>
  <Override PartName="/ppt/media/image29.gif" ContentType="image/gif"/>
  <Override PartName="/ppt/media/image44.png" ContentType="image/png"/>
  <Override PartName="/ppt/media/image45.png" ContentType="image/png"/>
  <Override PartName="/ppt/media/image27.jpeg" ContentType="image/jpeg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5.gif" ContentType="image/gif"/>
  <Override PartName="/ppt/media/image9.jpeg" ContentType="image/jpeg"/>
  <Override PartName="/ppt/media/image26.jpeg" ContentType="image/jpeg"/>
  <Override PartName="/ppt/media/image15.gif" ContentType="image/gif"/>
  <Override PartName="/ppt/media/image5.jpeg" ContentType="image/jpeg"/>
  <Override PartName="/ppt/media/camera.wav" ContentType="audio/x-wav"/>
  <Override PartName="/ppt/media/image3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124-0D99-4665-A217-313141AC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5FA-540E-435E-9BD2-E8AC295B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42D-F999-4587-B325-5BE49D10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D2C-B0F5-4089-8B56-9B5706CD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56F3-92FC-445E-B8DF-B0FD3DE4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2C7-FDEA-4A7A-BF5B-FCE5A69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1C1A-C144-4DED-8793-B63C46BC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035D-D82E-4440-BA25-0CDAB6FC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F41B-846A-4993-AA38-32C12079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0B31-3CED-4465-AB51-F71380DF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8E6C-5B77-4BB4-A991-6A1470D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8C1-BCA3-4000-A867-D712CAF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DFB9-9A65-4DD8-8ADC-6256FF36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07C-C46B-4460-8356-0D1B824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A23D-9072-469F-9FBF-F232CF25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1EC4-5266-4AAE-83B8-67B7F4E4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D9DA-9545-4380-8FC4-7228E7D0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109-DF04-4212-B8B5-097D32F9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E0C-2F12-47BC-8CF6-92440DDD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6CE-2E8D-48A8-9B25-DFC6E0B0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D22-D72B-49AF-8B96-F4BFE0C4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AEA-B14E-4A40-82E9-0950D63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F29-0BEF-4767-8E23-C6779E7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673-06EA-46BC-8DA7-70AC3845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F9F-024E-4464-9550-50B49FFDB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6446880" y="3071880"/>
              <a:ext cx="639720" cy="1892160"/>
            </a:xfrm>
            <a:prstGeom prst="pi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960A-BFF3-4D5F-B7D8-2EEBB18F4A84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p-akhmetov.com/foto.gif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gif"/><Relationship Id="rId5" Type="http://schemas.openxmlformats.org/officeDocument/2006/relationships/image" Target="../media/image4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zuma.org/business/images/weld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people022"/>
          <p:cNvPicPr/>
          <p:nvPr/>
        </p:nvPicPr>
        <p:blipFill>
          <a:blip r:embed="rId1"/>
          <a:stretch/>
        </p:blipFill>
        <p:spPr>
          <a:xfrm>
            <a:off x="228600" y="2286000"/>
            <a:ext cx="5832360" cy="3897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ff"/>
                </a:solidFill>
                <a:latin typeface="Arial Black"/>
              </a:rPr>
              <a:t>Классный час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57400" y="5181480"/>
            <a:ext cx="6850080" cy="83520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00"/>
                </a:solidFill>
                <a:latin typeface="Arial"/>
              </a:rPr>
              <a:t>Я – СВАРЩИК!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9" name="сварка.mp3" descr=""/>
          <p:cNvPicPr/>
          <p:nvPr/>
        </p:nvPicPr>
        <p:blipFill>
          <a:blip r:embed="rId2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152280" y="0"/>
            <a:ext cx="2183040" cy="1752480"/>
          </a:xfrm>
          <a:prstGeom prst="bevel">
            <a:avLst>
              <a:gd name="adj" fmla="val 3088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1" name="Picture 4" descr="Профессия сварщика связана с риском потери обоняния"/>
          <p:cNvPicPr/>
          <p:nvPr/>
        </p:nvPicPr>
        <p:blipFill>
          <a:blip r:embed="rId4"/>
          <a:stretch/>
        </p:blipFill>
        <p:spPr>
          <a:xfrm>
            <a:off x="7170840" y="0"/>
            <a:ext cx="197316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Для получения варочного катета хорошей формы необходимо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826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еремещать электрод с правильной скоростью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держать электрод вертикаль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больше наклонять электрод в направлении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8" name="Picture 8" descr="Картинка 22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419720"/>
            <a:ext cx="3505320" cy="2209680"/>
          </a:xfrm>
          <a:prstGeom prst="rect">
            <a:avLst/>
          </a:prstGeom>
          <a:ln w="0">
            <a:noFill/>
          </a:ln>
        </p:spPr>
      </p:pic>
      <p:pic>
        <p:nvPicPr>
          <p:cNvPr id="149" name="MS900074325[1].mid" descr=""/>
          <p:cNvPicPr/>
          <p:nvPr/>
        </p:nvPicPr>
        <p:blipFill>
          <a:blip r:embed="rId3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290520" y="87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1" name="Sting - Fragile.mp3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3151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ак связаны между собой стороны прямоугольного треугольника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Квадрат катета равен квадратам гипотенузы и катет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Квадрат гипотенузы равен сумме квадратов катето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Катет равен разности гипотенузы и другого катет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4" name="Picture 4" descr="MM900205402[1]"/>
          <p:cNvPicPr/>
          <p:nvPr/>
        </p:nvPicPr>
        <p:blipFill>
          <a:blip r:embed="rId1"/>
          <a:stretch/>
        </p:blipFill>
        <p:spPr>
          <a:xfrm>
            <a:off x="7467480" y="556272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MM900223770[1]"/>
          <p:cNvPicPr/>
          <p:nvPr/>
        </p:nvPicPr>
        <p:blipFill>
          <a:blip r:embed="rId2"/>
          <a:stretch/>
        </p:blipFill>
        <p:spPr>
          <a:xfrm>
            <a:off x="533520" y="5334120"/>
            <a:ext cx="1419120" cy="1238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MM900356713[1]"/>
          <p:cNvPicPr/>
          <p:nvPr/>
        </p:nvPicPr>
        <p:blipFill>
          <a:blip r:embed="rId3"/>
          <a:stretch/>
        </p:blipFill>
        <p:spPr>
          <a:xfrm>
            <a:off x="3048120" y="5105520"/>
            <a:ext cx="1828800" cy="1554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8" name="ДиДюЛя - Arabica.mp3" descr=""/>
          <p:cNvPicPr/>
          <p:nvPr/>
        </p:nvPicPr>
        <p:blipFill>
          <a:blip r:embed="rId4"/>
          <a:stretch/>
        </p:blipFill>
        <p:spPr>
          <a:xfrm>
            <a:off x="701028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3758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 изменяется скорость плавления электрода в зависимости от полярности?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ри обратной полярности выше, чем при прямо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олярность не влияет на скорость плавления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при прямой полярности скорость плавления выше, чем при обратно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не изменяетс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2" name="Sting - Fragile.mp3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3151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 зависит уровень подготовки студента к профессии от его усерд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братно пропорциональ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рямо пропорциональ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Совсем не завис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Зависимость дает возрастающая показательная функци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5" name="Picture 4" descr="MM900356713[1]"/>
          <p:cNvPicPr/>
          <p:nvPr/>
        </p:nvPicPr>
        <p:blipFill>
          <a:blip r:embed="rId1"/>
          <a:stretch/>
        </p:blipFill>
        <p:spPr>
          <a:xfrm>
            <a:off x="3048120" y="5105520"/>
            <a:ext cx="1828800" cy="1554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7" name="Sting - Fragile.mp3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3151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16080"/>
            <a:ext cx="8458200" cy="204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 обслуживанию сварочного генератора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допускаются лица, знающие устройство и работу генератора, достигшие возрас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26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16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18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20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22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0" name="Picture 4" descr="MM900315816[1]"/>
          <p:cNvPicPr/>
          <p:nvPr/>
        </p:nvPicPr>
        <p:blipFill>
          <a:blip r:embed="rId1"/>
          <a:stretch/>
        </p:blipFill>
        <p:spPr>
          <a:xfrm>
            <a:off x="6248520" y="35812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?id=8db24a719537526de116729a7665b394-141-144&amp;n=21"/>
          <p:cNvPicPr/>
          <p:nvPr/>
        </p:nvPicPr>
        <p:blipFill>
          <a:blip r:embed="rId2"/>
          <a:stretch/>
        </p:blipFill>
        <p:spPr>
          <a:xfrm>
            <a:off x="4495680" y="51814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408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Sting - Fragile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23151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 отличаются по величине сварочные токи при прихватке и сварке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Ток должен быть больш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а 15-20 % сварочного то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Ток должен быть больш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а 20-30 % сварочного то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Ток должен быть меньш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а 20-30 %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Ток остается неизменным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6" name="Picture 4" descr="MM900282766[1]"/>
          <p:cNvPicPr/>
          <p:nvPr/>
        </p:nvPicPr>
        <p:blipFill>
          <a:blip r:embed="rId1"/>
          <a:stretch/>
        </p:blipFill>
        <p:spPr>
          <a:xfrm>
            <a:off x="7467480" y="51814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38240" y="-11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Sting - Fragile.mp3" descr=""/>
          <p:cNvPicPr/>
          <p:nvPr/>
        </p:nvPicPr>
        <p:blipFill>
          <a:blip r:embed="rId2"/>
          <a:stretch/>
        </p:blipFill>
        <p:spPr>
          <a:xfrm>
            <a:off x="86104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231512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06000" y="316080"/>
            <a:ext cx="7086600" cy="18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им должно быть напряжение холостого хода однопостового сварочного трансформатора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Не более 12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Не более 36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49в до 60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От 60в до 80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5. Не менее 100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1" name="Picture 5" descr="&amp;Scy;&amp;vcy;&amp;acy;&amp;rcy;&amp;ocy;&amp;chcy;&amp;ncy;&amp;ycy;&amp;jcy; &amp;tcy;&amp;rcy;&amp;acy;&amp;ncy;&amp;scy;&amp;fcy;&amp;ocy;&amp;rcy;&amp;mcy;&amp;acy;&amp;tcy;&amp;ocy;&amp;rcy; fubag tr 300 - &amp;Rcy;&amp;ocy;&amp;scy;&amp;scy;&amp;icy;&amp;yacy; &amp;Ocy;&amp;Ocy;&amp;Ocy; &quot;&amp;Tcy;&amp;icy;-&amp;Tcy;&amp;rcy;&amp;iecy;&amp;jcy;&amp;dcy;&quot; - &amp;gcy;&amp;dcy;&amp;iecy; &amp;kcy;&amp;ucy;&amp;pcy;&amp;icy;&amp;tcy;&amp;softcy; &amp;ncy;&amp;acy; Alloy.ru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551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3" name="ДиДюЛя - Arabica.mp3" descr=""/>
          <p:cNvPicPr/>
          <p:nvPr/>
        </p:nvPicPr>
        <p:blipFill>
          <a:blip r:embed="rId2"/>
          <a:stretch/>
        </p:blipFill>
        <p:spPr>
          <a:xfrm>
            <a:off x="54100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337588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83059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 какому признаку классифицируются поперечные, продольные, косые, комбинированные швы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о распространенному расположению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о внешней форм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По отношению к действующим усилиям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По протяженност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6" name="Picture 7" descr="&amp;Tcy;&amp;ucy;&amp;rcy;&amp;bcy;&amp;ocy;&amp;kcy;&amp;ocy;&amp;lcy;&amp;lcy;&amp;iecy;&amp;kcy;&amp;tcy;&amp;ocy;&amp;rcy; - &amp;Scy;&amp;tcy;&amp;rcy;&amp;acy;&amp;ncy;&amp;icy;&amp;tscy;&amp;acy; 147 - TurboBazar"/>
          <p:cNvPicPr/>
          <p:nvPr/>
        </p:nvPicPr>
        <p:blipFill>
          <a:blip r:embed="rId1"/>
          <a:stretch/>
        </p:blipFill>
        <p:spPr>
          <a:xfrm>
            <a:off x="7048440" y="5143680"/>
            <a:ext cx="2095560" cy="171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&amp;Tcy;&amp;iecy;&amp;khcy;&amp;ncy;&amp;ocy;&amp;lcy;&amp;ocy;&amp;gcy;&amp;icy;&amp;yacy; &amp;scy;&amp;vcy;&amp;acy;&amp;rcy;&amp;kcy;&amp;icy; &amp;tcy;&amp;rcy;&amp;ucy;&amp;bcy;: &amp;scy;&amp;ocy;&amp;vcy;&amp;iecy;&amp;tcy;&amp;ycy; &amp;icy; &amp;rcy;&amp;iecy;&amp;kcy;&amp;ocy;&amp;mcy;&amp;iecy;&amp;ncy;&amp;dcy;&amp;acy;&amp;tscy;&amp;icy;&amp;icy; &amp;pcy;&amp;rcy;&amp;ocy;&amp;fcy;&amp;iecy;&amp;scy;&amp;scy;&amp;icy;&amp;ocy;&amp;ncy;&amp;acy;&amp;lcy;&amp;softcy;&amp;ncy;&amp;ycy;&amp;khcy; &amp;scy;&amp;vcy;&amp;acy;&amp;rcy;&amp;shchcy;&amp;icy;&amp;kcy;&amp;ocy;&amp;vcy;"/>
          <p:cNvPicPr/>
          <p:nvPr/>
        </p:nvPicPr>
        <p:blipFill>
          <a:blip r:embed="rId2"/>
          <a:stretch/>
        </p:blipFill>
        <p:spPr>
          <a:xfrm>
            <a:off x="7134120" y="2133720"/>
            <a:ext cx="2009880" cy="2681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138240" y="-87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9" name="Sting - Fragile.mp3" descr=""/>
          <p:cNvPicPr/>
          <p:nvPr/>
        </p:nvPicPr>
        <p:blipFill>
          <a:blip r:embed="rId3"/>
          <a:stretch/>
        </p:blipFill>
        <p:spPr>
          <a:xfrm>
            <a:off x="74674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231512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Укажите, какой должна быть нормальная длина дуги при ручной сварке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2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(0,5-1,1)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0,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1,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2" name="Picture 7" descr="&amp;Zcy;&amp;acy;&amp;dcy;&amp;vcy;&amp;icy;&amp;zhcy;&amp;kcy;&amp;icy;, &amp;kcy;&amp;lcy;&amp;acy;&amp;pcy;&amp;acy;&amp;ncy;&amp;ycy;, &amp;vcy;&amp;iecy;&amp;ncy;&amp;tcy;&amp;icy;&amp;lcy;&amp;icy;, &amp;zcy;&amp;acy;&amp;tcy;&amp;vcy;&amp;ocy;&amp;rcy;&amp;ycy;, &amp;shcy;&amp;acy;&amp;rcy;&amp;ocy;&amp;vcy;&amp;ycy;&amp;iecy; &amp;kcy;&amp;rcy;&amp;acy;&amp;ncy;&amp;ycy;, &amp;fcy;&amp;lcy;&amp;acy;&amp;ncy;&amp;tscy;&amp;ycy;, &amp;ocy;&amp;tcy;&amp;vcy;&amp;ocy;&amp;dcy;&amp;ycy;, &amp;fcy;&amp;icy;&amp;tcy;&amp;icy;&amp;ncy;&amp;gcy;&amp;icy;, &amp;dcy;&amp;icy;&amp;scy;&amp;kcy;&amp;ocy;&amp;vcy;&amp;ycy;&amp;iecy; &amp;zcy;&amp;acy;&amp;tcy;&amp;vcy;&amp;ocy;&amp;rcy;&amp;ycy;, &amp;zcy;&amp;acy;&amp;tcy;&amp;vcy;&amp;ocy;&amp;rcy;&amp;ycy; &amp;pcy;&amp;ocy;&amp;vcy;&amp;ocy;&amp;rcy;&amp;ocy;&amp;tcy;&amp;ncy;&amp;ycy;&amp;iecy;, &amp;tcy;&amp;rcy;&amp;ucy;&amp;bcy;&amp;ycy; &amp;mcy;&amp;iecy;&amp;tcy;&amp;acy;&amp;lcy;&amp;lcy;&amp;ocy;"/>
          <p:cNvPicPr/>
          <p:nvPr/>
        </p:nvPicPr>
        <p:blipFill>
          <a:blip r:embed="rId1"/>
          <a:stretch/>
        </p:blipFill>
        <p:spPr>
          <a:xfrm>
            <a:off x="6019920" y="3124080"/>
            <a:ext cx="2846160" cy="3124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1800" y="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4" name="Sting - Fragile.mp3" descr=""/>
          <p:cNvPicPr/>
          <p:nvPr/>
        </p:nvPicPr>
        <p:blipFill>
          <a:blip r:embed="rId2"/>
          <a:stretch/>
        </p:blipFill>
        <p:spPr>
          <a:xfrm>
            <a:off x="670572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23151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т чего зависит длина дуги при сварке пластин встык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т толщины металл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От диаметра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зазора между пластинам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7" name="Picture 5" descr="&amp;Scy;&amp;vcy;&amp;acy;&amp;rcy;&amp;kcy;&amp;acy; &amp;scy;&amp;tcy;&amp;acy;&amp;lcy;&amp;softcy;&amp;ncy;&amp;ycy;&amp;khcy; &amp;lcy;&amp;icy;&amp;scy;&amp;tcy;&amp;ocy;&amp;vcy; - &amp;ZHcy;&amp;iecy;&amp;ncy;&amp;scy;&amp;kcy;&amp;icy;&amp;iecy; &amp;vcy;&amp;ocy;&amp;pcy;&amp;rcy;&amp;ocy;&amp;scy;&amp;ycy;"/>
          <p:cNvPicPr/>
          <p:nvPr/>
        </p:nvPicPr>
        <p:blipFill>
          <a:blip r:embed="rId1"/>
          <a:stretch/>
        </p:blipFill>
        <p:spPr>
          <a:xfrm>
            <a:off x="4800600" y="3962520"/>
            <a:ext cx="3905280" cy="2009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1800" y="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9" name="Sting - Fragile.mp3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23151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Производство-металлоконструкций-1024x676"/>
          <p:cNvPicPr/>
          <p:nvPr/>
        </p:nvPicPr>
        <p:blipFill>
          <a:blip r:embed="rId2"/>
          <a:stretch/>
        </p:blipFill>
        <p:spPr>
          <a:xfrm>
            <a:off x="2133720" y="3886200"/>
            <a:ext cx="487656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eople022"/>
          <p:cNvPicPr/>
          <p:nvPr/>
        </p:nvPicPr>
        <p:blipFill>
          <a:blip r:embed="rId3"/>
          <a:stretch/>
        </p:blipFill>
        <p:spPr>
          <a:xfrm>
            <a:off x="3048120" y="0"/>
            <a:ext cx="3241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534160" cy="16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ой вид колебательных движений электродом применяется для сварки углового и таврового соединения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826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о ломанным линиям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Восьмерко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С задержкой в середине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С задержкой в одном крае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2" name="Picture 5" descr="&amp;Scy;&amp;vcy;&amp;acy;&amp;rcy;&amp;ocy;&amp;chcy;&amp;ncy;&amp;ycy;&amp;iecy; &amp;acy;&amp;pcy;&amp;pcy;&amp;acy;&amp;rcy;&amp;acy;&amp;tcy;&amp;ycy;"/>
          <p:cNvPicPr/>
          <p:nvPr/>
        </p:nvPicPr>
        <p:blipFill>
          <a:blip r:embed="rId1"/>
          <a:stretch/>
        </p:blipFill>
        <p:spPr>
          <a:xfrm>
            <a:off x="4095720" y="4952880"/>
            <a:ext cx="5048280" cy="1552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3824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4" name="Sting - Fragile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0" dur="231512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35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ак  выбрать величину тока для сварки электродом диаметром 3 мм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156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114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176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108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7" name="Picture 5" descr="MM900315795[1]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9036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9" name="Sting - Fragile.mp3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0" dur="23151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кажите, каким способом сварки пользуются при заполнении швов средней длины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Сваркой «на проход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Сваркой «от середины к концам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братноступенчатым способом и методом «горки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Методом «горки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2" name="Picture 5" descr="&amp;Lcy;&amp;acy;&amp;zcy;&amp;iecy;&amp;rcy;&amp;ncy;&amp;acy;&amp;yacy; &amp;scy;&amp;vcy;&amp;acy;&amp;rcy;&amp;kcy;&amp;acy; &amp;Rcy;&amp;iecy;&amp;mcy;&amp;ocy;&amp;ncy;&amp;tcy; &amp;Kcy;&amp;acy;&amp;mcy;&amp;acy;&amp;zcy;&amp;acy;"/>
          <p:cNvPicPr/>
          <p:nvPr/>
        </p:nvPicPr>
        <p:blipFill>
          <a:blip r:embed="rId1"/>
          <a:stretch/>
        </p:blipFill>
        <p:spPr>
          <a:xfrm>
            <a:off x="6172200" y="4495680"/>
            <a:ext cx="2739960" cy="1827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1800" y="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4" name="Sting - Fragile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3" dur="23151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Укажите, от чего зависит наличие пор в сварном шв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т увеличении силы сварного то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От неправильного закрепления заготов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увеличения скорости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От плохого качества очистки кромок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7" name="Picture 5" descr="&amp;Lcy;&amp;acy;&amp;bcy;&amp;ocy;&amp;rcy;&amp;acy;&amp;tcy;&amp;ocy;&amp;rcy;&amp;icy;&amp;yacy; &amp;ncy;&amp;iecy;&amp;rcy;&amp;acy;&amp;zcy;&amp;rcy;&amp;ucy;&amp;shcy;&amp;acy;&amp;yucy;&amp;shchcy;&amp;iecy;&amp;gcy;&amp;ocy; &amp;kcy;&amp;ocy;&amp;ncy;&amp;tcy;&amp;rcy;&amp;ocy;&amp;lcy;&amp;yacy;: &amp;Ocy;&amp;Ocy;&amp;Ocy;&quot;&amp;Ncy;-&amp;Kcy;&amp;ocy;&amp;ncy;&amp;tcy;&amp;rcy;&amp;ocy;&amp;lcy;&amp;softcy;&quot;. &amp;Vcy;&amp;icy;&amp;zcy;&amp;ucy;&amp;acy;&amp;lcy;&amp;softcy;&amp;ncy;&amp;ocy; &amp;icy;&amp;zcy;&amp;mcy;&amp;iecy;&amp;rcy;&amp;icy;&amp;tcy;&amp;iecy;&amp;lcy;&amp;softcy;&amp;ncy;&amp;ycy;&amp;jcy; &amp;mcy;&amp;iecy;&amp;tcy;&amp;ocy;&amp;dcy; &amp;kcy;&amp;ocy;&amp;ncy;&amp;tcy;&amp;rcy;&amp;ocy;&amp;lcy;&amp;yacy;."/>
          <p:cNvPicPr/>
          <p:nvPr/>
        </p:nvPicPr>
        <p:blipFill>
          <a:blip r:embed="rId1"/>
          <a:stretch/>
        </p:blipFill>
        <p:spPr>
          <a:xfrm>
            <a:off x="6324480" y="4800600"/>
            <a:ext cx="1819440" cy="1428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&amp;Dcy;&amp;iecy;&amp;fcy;&amp;iecy;&amp;kcy;&amp;tcy;&amp;ycy; &amp;scy;&amp;vcy;&amp;acy;&amp;rcy;&amp;ncy;&amp;ycy;&amp;khcy; &amp;scy;&amp;ocy;&amp;iecy;&amp;dcy;&amp;icy;&amp;ncy;&amp;iecy;&amp;ncy;&amp;icy;&amp;jcy; - &amp;Scy;&amp;ocy;&amp;ocy;&amp;bcy;&amp;shchcy;&amp;iecy;&amp;scy;&amp;tcy;&amp;vcy;&amp;ocy; &amp;Scy;&amp;Vcy;&amp;Acy;&amp;Rcy;&amp;SHCHcy;&amp;Icy;&amp;Kcy;&amp;ocy;&amp;vcy;"/>
          <p:cNvPicPr/>
          <p:nvPr/>
        </p:nvPicPr>
        <p:blipFill>
          <a:blip r:embed="rId2"/>
          <a:stretch/>
        </p:blipFill>
        <p:spPr>
          <a:xfrm>
            <a:off x="3124080" y="4724280"/>
            <a:ext cx="2743200" cy="162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MM900283051[1]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5"/>
          <p:cNvSpPr/>
          <p:nvPr/>
        </p:nvSpPr>
        <p:spPr>
          <a:xfrm>
            <a:off x="21456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1" name="Sting - Fragile.mp3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231512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Назовите причину появления шлаковых включений при многопроходной сварк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Неправильный подбор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лохой провар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Не удаленный шлак от предыдущего прох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резкий обрыв сварочной дуг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3824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5" name="Picture 7" descr="MM900283021[1]"/>
          <p:cNvPicPr/>
          <p:nvPr/>
        </p:nvPicPr>
        <p:blipFill>
          <a:blip r:embed="rId1"/>
          <a:stretch/>
        </p:blipFill>
        <p:spPr>
          <a:xfrm>
            <a:off x="457200" y="5029200"/>
            <a:ext cx="1219320" cy="1428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MC900217468[1]"/>
          <p:cNvPicPr/>
          <p:nvPr/>
        </p:nvPicPr>
        <p:blipFill>
          <a:blip r:embed="rId2"/>
          <a:stretch/>
        </p:blipFill>
        <p:spPr>
          <a:xfrm>
            <a:off x="4038480" y="4876920"/>
            <a:ext cx="1424160" cy="1814400"/>
          </a:xfrm>
          <a:prstGeom prst="rect">
            <a:avLst/>
          </a:prstGeom>
          <a:ln w="0">
            <a:noFill/>
          </a:ln>
        </p:spPr>
      </p:pic>
      <p:pic>
        <p:nvPicPr>
          <p:cNvPr id="227" name="Sting - Fragile.mp3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231512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зовите, в зависимости от чего выбирается диаметр электрод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т длины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От способа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величины зазор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от толщины свариваемого металл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1456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1" name="Picture 5" descr="MC900252643[1]"/>
          <p:cNvPicPr/>
          <p:nvPr/>
        </p:nvPicPr>
        <p:blipFill>
          <a:blip r:embed="rId1"/>
          <a:stretch/>
        </p:blipFill>
        <p:spPr>
          <a:xfrm>
            <a:off x="6934320" y="4572000"/>
            <a:ext cx="1773000" cy="1755720"/>
          </a:xfrm>
          <a:prstGeom prst="rect">
            <a:avLst/>
          </a:prstGeom>
          <a:ln w="0">
            <a:noFill/>
          </a:ln>
        </p:spPr>
      </p:pic>
      <p:pic>
        <p:nvPicPr>
          <p:cNvPr id="232" name="Sting - Fragile.mp3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6" dur="231512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ое вещество хранят в герметически упакованных барабанах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Кислород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Карбид кальци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Ацетилен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6" name="Picture 5" descr="MM900315795[2]"/>
          <p:cNvPicPr/>
          <p:nvPr/>
        </p:nvPicPr>
        <p:blipFill>
          <a:blip r:embed="rId1"/>
          <a:stretch/>
        </p:blipFill>
        <p:spPr>
          <a:xfrm>
            <a:off x="5638680" y="3886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237" name="Sting - Fragile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8" dur="231512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Для чего создается газовая и шлаковая оболочка вокруг дуги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Для увеличения скорости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Для препятствия проникновения воздух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Для получения лучшей формы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1" name="Picture 5" descr="MC900213143[1]"/>
          <p:cNvPicPr/>
          <p:nvPr/>
        </p:nvPicPr>
        <p:blipFill>
          <a:blip r:embed="rId1"/>
          <a:stretch/>
        </p:blipFill>
        <p:spPr>
          <a:xfrm>
            <a:off x="762120" y="4572000"/>
            <a:ext cx="1400040" cy="181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MM900365294[2]"/>
          <p:cNvPicPr/>
          <p:nvPr/>
        </p:nvPicPr>
        <p:blipFill>
          <a:blip r:embed="rId2"/>
          <a:stretch/>
        </p:blipFill>
        <p:spPr>
          <a:xfrm>
            <a:off x="7010280" y="472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3" name="Sting - Fragile.mp3" descr=""/>
          <p:cNvPicPr/>
          <p:nvPr/>
        </p:nvPicPr>
        <p:blipFill>
          <a:blip r:embed="rId3"/>
          <a:stretch/>
        </p:blipFill>
        <p:spPr>
          <a:xfrm>
            <a:off x="647712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2" dur="231512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Металл сварного шва плавящим электродом состоит из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Металла соединяемых элементо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Металла соединяемых элементов и металла прут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Металла прутка и флюс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7" name="Picture 5" descr="j0240695"/>
          <p:cNvPicPr/>
          <p:nvPr/>
        </p:nvPicPr>
        <p:blipFill>
          <a:blip r:embed="rId1"/>
          <a:stretch/>
        </p:blipFill>
        <p:spPr>
          <a:xfrm>
            <a:off x="6553080" y="4419720"/>
            <a:ext cx="2286000" cy="1830240"/>
          </a:xfrm>
          <a:prstGeom prst="rect">
            <a:avLst/>
          </a:prstGeom>
          <a:ln w="0">
            <a:noFill/>
          </a:ln>
        </p:spPr>
      </p:pic>
      <p:pic>
        <p:nvPicPr>
          <p:cNvPr id="248" name="Sting - Fragile.mp3" descr=""/>
          <p:cNvPicPr/>
          <p:nvPr/>
        </p:nvPicPr>
        <p:blipFill>
          <a:blip r:embed="rId2"/>
          <a:stretch/>
        </p:blipFill>
        <p:spPr>
          <a:xfrm>
            <a:off x="80010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23151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4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7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4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4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Уменьшение напряжения на дуге приводит к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1. Уменьшению разбрызгивания и длины дуги, провару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. Увеличению длины дуги, непровару, неустойчивости дуг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3. Плохому формированию шва, высокой плотности тока, окислению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4. Увеличению разбрызгивания, высокой скорости сварки, плохой защиты ванн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2" name="Picture 5" descr="MC900359913[1]"/>
          <p:cNvPicPr/>
          <p:nvPr/>
        </p:nvPicPr>
        <p:blipFill>
          <a:blip r:embed="rId1"/>
          <a:stretch/>
        </p:blipFill>
        <p:spPr>
          <a:xfrm>
            <a:off x="7772400" y="5048280"/>
            <a:ext cx="1771560" cy="1809720"/>
          </a:xfrm>
          <a:prstGeom prst="rect">
            <a:avLst/>
          </a:prstGeom>
          <a:ln w="0">
            <a:noFill/>
          </a:ln>
        </p:spPr>
      </p:pic>
      <p:pic>
        <p:nvPicPr>
          <p:cNvPr id="253" name="Sting - Fragile.mp3" descr=""/>
          <p:cNvPicPr/>
          <p:nvPr/>
        </p:nvPicPr>
        <p:blipFill>
          <a:blip r:embed="rId2"/>
          <a:stretch/>
        </p:blipFill>
        <p:spPr>
          <a:xfrm>
            <a:off x="82296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1" dur="231512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4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Конкурс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«Лучшие Сварщики» группы №23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Абент Виктор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ремнев Витали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Нерубенко Серге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Матрашилов Алексе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Мельниченко Дании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416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Бацилашвили Владисл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узнецов Евгени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Смертев Бори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ласенко Серге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Зуев Витали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MM900282884[1]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849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ак заземляется сварочное оборудование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1.  Должен быть приваренный к оборудованию медный провод, расположенный в доступном месте с надписью «земля»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. На оборудовании должен быть предусмотрен болт и вокруг него контактная площадка, расположенные в доступном месте с надписью «земля»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3. На оборудовании должен быть предусмотрен зажим, расположенный в доступном месте с надписью «земля»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8" name="Picture 6" descr="MC900305229[1]"/>
          <p:cNvPicPr/>
          <p:nvPr/>
        </p:nvPicPr>
        <p:blipFill>
          <a:blip r:embed="rId2"/>
          <a:stretch/>
        </p:blipFill>
        <p:spPr>
          <a:xfrm>
            <a:off x="7316640" y="5259240"/>
            <a:ext cx="1827360" cy="1598760"/>
          </a:xfrm>
          <a:prstGeom prst="rect">
            <a:avLst/>
          </a:prstGeom>
          <a:ln w="0">
            <a:noFill/>
          </a:ln>
        </p:spPr>
      </p:pic>
      <p:pic>
        <p:nvPicPr>
          <p:cNvPr id="259" name="ДиДюЛя - Arabica.mp3" descr=""/>
          <p:cNvPicPr/>
          <p:nvPr/>
        </p:nvPicPr>
        <p:blipFill>
          <a:blip r:embed="rId3"/>
          <a:stretch/>
        </p:blipFill>
        <p:spPr>
          <a:xfrm>
            <a:off x="693432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2" dur="337588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Лучший практик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086600" cy="5315040"/>
          </a:xfrm>
          <a:prstGeom prst="rect">
            <a:avLst/>
          </a:prstGeom>
          <a:ln w="0">
            <a:noFill/>
          </a:ln>
        </p:spPr>
      </p:pic>
      <p:pic>
        <p:nvPicPr>
          <p:cNvPr id="263" name="ELEKTROSTAL_-_MOYA_SUDBA_-_Posvyacshenie_mashinostroitelyam_(iPlayer.f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4" dur="177592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 Black"/>
              </a:rPr>
              <a:t>Итоги конкурс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66" name="Picture 5" descr="MC900344997[1]"/>
          <p:cNvPicPr/>
          <p:nvPr/>
        </p:nvPicPr>
        <p:blipFill>
          <a:blip r:embed="rId1"/>
          <a:stretch/>
        </p:blipFill>
        <p:spPr>
          <a:xfrm>
            <a:off x="304920" y="1143000"/>
            <a:ext cx="2666880" cy="2475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MC900383642[1]"/>
          <p:cNvPicPr/>
          <p:nvPr/>
        </p:nvPicPr>
        <p:blipFill>
          <a:blip r:embed="rId2"/>
          <a:stretch/>
        </p:blipFill>
        <p:spPr>
          <a:xfrm>
            <a:off x="6248520" y="1752480"/>
            <a:ext cx="1904760" cy="1462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MC900389216[1]"/>
          <p:cNvPicPr/>
          <p:nvPr/>
        </p:nvPicPr>
        <p:blipFill>
          <a:blip r:embed="rId3"/>
          <a:stretch/>
        </p:blipFill>
        <p:spPr>
          <a:xfrm>
            <a:off x="228600" y="403848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MM900283709[1]"/>
          <p:cNvPicPr/>
          <p:nvPr/>
        </p:nvPicPr>
        <p:blipFill>
          <a:blip r:embed="rId4"/>
          <a:stretch/>
        </p:blipFill>
        <p:spPr>
          <a:xfrm>
            <a:off x="6629400" y="3276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Untitled-1"/>
          <p:cNvPicPr/>
          <p:nvPr/>
        </p:nvPicPr>
        <p:blipFill>
          <a:blip r:embed="rId5"/>
          <a:stretch/>
        </p:blipFill>
        <p:spPr>
          <a:xfrm>
            <a:off x="3581280" y="2332080"/>
            <a:ext cx="256536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Kalimba.mp3" descr=""/>
          <p:cNvPicPr/>
          <p:nvPr/>
        </p:nvPicPr>
        <p:blipFill>
          <a:blip r:embed="rId6"/>
          <a:stretch/>
        </p:blipFill>
        <p:spPr>
          <a:xfrm>
            <a:off x="8153280" y="6324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2" dur="350603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extBox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54100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Что я знаю о своей профе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Профессия сварщик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Профессиональные функци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бщие требования безопасност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пасные и вредные производственные факторы при сварке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офессиональные заболева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Средства индивидуальной защит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 процессе работы газосварщик обязан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15720"/>
            <a:ext cx="7683480" cy="18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2.  Мозговой штурм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Кто из нас ЛУЧШИЙ?</a:t>
            </a:r>
            <a:endParaRPr b="0" lang="en-US" sz="9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9" name="Picture 10" descr="Картинка 79 из 64000">
            <a:hlinkClick r:id="rId1"/>
          </p:cNvPr>
          <p:cNvPicPr/>
          <p:nvPr/>
        </p:nvPicPr>
        <p:blipFill>
          <a:blip r:embed="rId2"/>
          <a:srcRect l="13776" t="2277" r="2044" b="2438"/>
          <a:stretch/>
        </p:blipFill>
        <p:spPr>
          <a:xfrm>
            <a:off x="5867280" y="4572000"/>
            <a:ext cx="2971800" cy="2057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Ph-Electro ft. Sting - English Man In New York.mp3" descr=""/>
          <p:cNvPicPr/>
          <p:nvPr/>
        </p:nvPicPr>
        <p:blipFill>
          <a:blip r:embed="rId3"/>
          <a:stretch/>
        </p:blipFill>
        <p:spPr>
          <a:xfrm>
            <a:off x="8686800" y="4267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5587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озбудить дугу, не касаясь электродом свариваемого изделия..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1. Нельз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2. Можно, если в сварочную цепь параллельно включить осциллятор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3. Можно, если последовательно включить два источника питания дуг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4. Можно, если параллельно включить два источника пита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3" name="Picture 6" descr="C:\Documents and Settings\Администратор\Мои документы\imgpreview.jpg"/>
          <p:cNvPicPr/>
          <p:nvPr/>
        </p:nvPicPr>
        <p:blipFill>
          <a:blip r:embed="rId1"/>
          <a:stretch/>
        </p:blipFill>
        <p:spPr>
          <a:xfrm>
            <a:off x="6553080" y="5181480"/>
            <a:ext cx="1905120" cy="1428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669900">
                <a:alpha val="50000"/>
              </a:srgbClr>
            </a:outerShdw>
          </a:effectLst>
        </p:spPr>
      </p:pic>
      <p:sp>
        <p:nvSpPr>
          <p:cNvPr id="144" name="Text Box 7"/>
          <p:cNvSpPr/>
          <p:nvPr/>
        </p:nvSpPr>
        <p:spPr>
          <a:xfrm>
            <a:off x="290880" y="11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Sting - Fragile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3151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4-12-29T17:08:1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