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6152-A93A-48E4-AA59-B0259936D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0D90-017C-4BEE-9F5A-645D8DA57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480C-FC1A-4F06-A815-1F0067509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115D-7B4C-4DE6-B029-0306DA239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D3694-B680-49BB-B3CA-229926896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7D55A-6A4D-4B78-8997-2B1E87E43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100A1-BC6F-452D-B12E-23098EEE1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F8C34-5048-453A-ACC9-8BAEDBE17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EC07E-E526-4C5F-B984-C6EFD8C7A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41079-C734-4CD1-9293-22090F422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F6A4D-6A53-4CEB-91B4-F282D8F0A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79E4-7E8D-46B4-9D16-50DD66845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2B1BE-9154-45CE-87F1-14197ACF3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18118-4F5C-42CF-B07C-C5AAF5EBB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8D335-86AA-4C75-A8DC-3A15930E2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A04B1-28FB-42DD-8E0B-62FCE01A5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4D7FA-8E57-4AD5-AC84-C0EEB691A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4B0E-1522-4C49-BE35-673824A89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6524-FE33-41AC-AF24-10C702362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A0B4-91F5-4260-AD35-5424A3327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A690-AF75-45F4-8318-CD496620C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ACAF-734F-4060-99EB-AA6FD32D3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ECD7-2589-48EA-A607-D421539C6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AC04-87DA-4A56-9586-D597A66E8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5BE14-EB53-456C-A071-E7F6194FDE18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4A899-F0D1-446F-BB04-6F7C4C157D1E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ecff"/>
                </a:solidFill>
                <a:latin typeface="Times New Roman"/>
              </a:rPr>
              <a:t>ТЕРМОМЕТРЫ</a:t>
            </a:r>
            <a:endParaRPr b="0" lang="en-US" sz="7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лова Александра 2а клас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L 0.25 0.33295 L 0 0.33295 L 0 0 Z">
                                      <p:cBhvr>
                                        <p:cTn id="8" dur="2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ГАЗОВЫЙ ТЕРМОМЕТР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7" name="Рисунок 1" descr="C:\Users\User\Pictures\1275562366_97930740_1----100-100--1275562366.jpg"/>
          <p:cNvPicPr/>
          <p:nvPr/>
        </p:nvPicPr>
        <p:blipFill>
          <a:blip r:embed="rId1"/>
          <a:stretch/>
        </p:blipFill>
        <p:spPr>
          <a:xfrm>
            <a:off x="762120" y="1219320"/>
            <a:ext cx="7391160" cy="518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ПИРОМЕТР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9" name="Рисунок 1" descr="C:\Users\User\Pictures\1519186i.jpg"/>
          <p:cNvPicPr/>
          <p:nvPr/>
        </p:nvPicPr>
        <p:blipFill>
          <a:blip r:embed="rId1"/>
          <a:stretch/>
        </p:blipFill>
        <p:spPr>
          <a:xfrm>
            <a:off x="685800" y="1143000"/>
            <a:ext cx="7924680" cy="541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ЧТОБЫ ИЗМЕРИТЬ ТЕМПЕРАТУРУ КАКОГО-ЛИБО ТЕЛА, ЕГО НЕОБХОДИМО ПРИВЕСТИ В ТЕПЛОВОЙ КОНТАКТ С «ПРОБНЫМ» ТЕЛОМ-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Verdana"/>
              </a:rPr>
              <a:t>ТЕРМОМЕТРОМ</a:t>
            </a: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ТЕРМОМЕТР НЕ ДОЛЖЕН ИМЕТЬ БОЛЬШУЮ МАССУ, В ПРОТИВНОМ СЛУЧАЕ, МАССИВНЫЙ ТЕРМОМЕТР ИЗМЕРИТ ТЕМПЕРАТУРУ ТОГО ТЕЛА, С КОТОРЫМ ОН ПРИВЕДЕН В ТЕПЛОВОЙ КОНТАКТ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33520" y="3045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ТЕРМОМЕТР ФИКСИРУЕТ СВОЮ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Verdana"/>
              </a:rPr>
              <a:t>СОБСТВЕННУЮ ТЕМПЕРАТУРУ</a:t>
            </a: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, РАВНУЮ ТЕМПЕРАТУРЕ ТЕЛА, С КОТОРЫМ ОН НАХОДИТСЯ В КОНТАКТЕ.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11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ТЕМПЕРАТУРУ ИЗМЕРЯЮТ В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Verdana"/>
              </a:rPr>
              <a:t>ГРАДУСАХ</a:t>
            </a: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 ПО ШКАЛАМ ЦЕЛЬСИЯ ИЛИ ФАРЕНГЕЙТА.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ДЛЯ ИЗМЕРЕНИЯ ТЕМПЕРАТУРЫ ИСПОЛЬЗУЮТ: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*ЖИДКОСТНЫЕ И МЕХАНИЧЕСКИЕ ТЕРМОМЕТРЫ,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*ТЕРМОПАРУ,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*ТЕРМОМЕТР СОПРОТИВЛЕНИЯ,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*ГАЗОВЫЙ ТЕРМОМЕТР,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*ПИРОМЕТР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ЖИДКОСТНЫЕ И МЕХАНИЧЕСКИЕ ТЕРМОМЕТР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9" name="Рисунок 1" descr="C:\Users\User\Pictures\termometr_ttu.gif"/>
          <p:cNvPicPr/>
          <p:nvPr/>
        </p:nvPicPr>
        <p:blipFill>
          <a:blip r:embed="rId1"/>
          <a:stretch/>
        </p:blipFill>
        <p:spPr>
          <a:xfrm>
            <a:off x="1600200" y="1447920"/>
            <a:ext cx="6019920" cy="541008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ТЕРМОПАР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7772400" cy="441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ТЕРМОМЕТР СОПРОТИВЛЕНИЯ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5" name="Рисунок 1" descr="C:\Users\User\Pictures\tp2.jpg"/>
          <p:cNvPicPr/>
          <p:nvPr/>
        </p:nvPicPr>
        <p:blipFill>
          <a:blip r:embed="rId1"/>
          <a:stretch/>
        </p:blipFill>
        <p:spPr>
          <a:xfrm>
            <a:off x="838080" y="1523880"/>
            <a:ext cx="7391520" cy="51055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ZaRd</cp:lastModifiedBy>
  <dcterms:modified xsi:type="dcterms:W3CDTF">2012-09-24T17:45:55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