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F65-E059-463C-8457-5824DFED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DF8-ED13-4220-8453-ED5375CB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DAB-9ABE-41A3-B84E-B3AFECEE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554-1ACC-42A6-A415-8B7CF678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A668-F7A5-425F-9A22-27AB6DFC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7F64-51DD-4FF0-AFA0-9248CF95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995E-CB40-4267-A638-8B3CE193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7660-D566-4FF2-869B-C433BB40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5A76-69A5-44ED-B54F-BCD009E7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C47E-0544-45E4-A0F4-10F74BE5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FE72-3223-4A78-B592-2449397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BF1-FBDA-4727-9779-ED03B1FF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82CB-0618-4DF7-8363-DEC90D6E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8F58-C3B8-4EF0-8F81-0BFE6B34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BB38-8DC3-4589-96D3-A2AC8E81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E583-F5C2-4414-A601-ECCEC53B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8F3C-AA43-4A08-AAB3-0E293452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7CA-75EE-460C-9AB4-898B14BE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D49-F036-45F6-8534-3A735F03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579-C204-4247-8B47-8F609C0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900-28E5-4A1C-872A-32B10DB2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7D6-277A-40E5-BB18-AC11294B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616-B6C1-4F85-BCF2-CDEF313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BEA-51EA-4C18-8BFB-1BECEF99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23C1-C961-4B56-9C1A-A3345CAA9D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EC7C-8604-497C-8562-D1AB35DCF4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Times New Roman"/>
              </a:rPr>
              <a:t>ТЕРМОМЕТРЫ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ова Александра 2а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АЗОВЫЙ ТЕРМОМЕ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Рисунок 1" descr="C:\Users\User\Pictures\1275562366_97930740_1----100-100--1275562366.jpg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ИРОМЕ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Рисунок 1" descr="C:\Users\User\Pictures\1519186i.jpg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ЧТОБЫ ИЗМЕРИТЬ ТЕМПЕРАТУРУ КАКОГО-ЛИБО ТЕЛА, ЕГО НЕОБХОДИМО ПРИВЕСТИ В ТЕПЛОВОЙ КОНТАКТ С «ПРОБНЫМ» ТЕЛОМ-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</a:rPr>
              <a:t>ТЕРМОМЕТРОМ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ТЕРМОМЕТР НЕ ДОЛЖЕН ИМЕТЬ БОЛЬШУЮ МАССУ, В ПРОТИВНОМ СЛУЧАЕ, МАССИВНЫЙ ТЕРМОМЕТР ИЗМЕРИТ ТЕМПЕРАТУРУ ТОГО ТЕЛА, С КОТОРЫМ ОН ПРИВЕДЕН В ТЕПЛОВОЙ КОНТАК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ЕРМОМЕТР ФИКСИРУЕТ СВОЮ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</a:rPr>
              <a:t>СОБСТВЕННУЮ ТЕМПЕРАТУРУ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, РАВНУЮ ТЕМПЕРАТУРЕ ТЕЛА, С КОТОРЫМ ОН НАХОДИТСЯ В КОНТАКТЕ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ТЕМПЕРАТУРУ ИЗМЕРЯЮТ В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ГРАДУСАХ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ПО ШКАЛАМ ЦЕЛЬСИЯ ИЛИ ФАРЕНГЕЙТА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ДЛЯ ИЗМЕРЕНИЯ ТЕМПЕРАТУРЫ ИСПОЛЬЗУЮТ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*ЖИДКОСТНЫЕ И МЕХАНИЧЕСКИЕ ТЕРМОМЕТРЫ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*ТЕРМОПАРУ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*ТЕРМОМЕТР СОПРОТИВЛЕНИЯ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*ГАЗОВЫЙ ТЕРМОМЕТР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*ПИРОМЕТР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ЖИДКОСТНЫЕ И МЕХАНИЧЕСКИЕ ТЕРМОМЕ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Рисунок 1" descr="C:\Users\User\Pictures\termometr_ttu.gif"/>
          <p:cNvPicPr/>
          <p:nvPr/>
        </p:nvPicPr>
        <p:blipFill>
          <a:blip r:embed="rId1"/>
          <a:stretch/>
        </p:blipFill>
        <p:spPr>
          <a:xfrm>
            <a:off x="1600200" y="1447920"/>
            <a:ext cx="6019920" cy="5410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РМОПА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ЕРМОМЕТР СОПРОТИВ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Рисунок 1" descr="C:\Users\User\Pictures\tp2.jpg"/>
          <p:cNvPicPr/>
          <p:nvPr/>
        </p:nvPicPr>
        <p:blipFill>
          <a:blip r:embed="rId1"/>
          <a:stretch/>
        </p:blipFill>
        <p:spPr>
          <a:xfrm>
            <a:off x="838080" y="15238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ZaRd</cp:lastModifiedBy>
  <dcterms:modified xsi:type="dcterms:W3CDTF">2012-09-24T17:45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