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10.jpeg" ContentType="image/jpeg"/>
  <Override PartName="/ppt/media/image5.jpeg" ContentType="image/jpeg"/>
  <Override PartName="/ppt/media/image26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5EEA-ADF0-40A1-8713-699B047555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gzon -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5C9-8F04-45B0-87FB-4C661224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C73-ABED-4247-AFEE-D9621D6B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09D-3EF2-43A7-B897-2CE33A2E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050-B680-497A-AAC8-F8BC8E57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81EC-C3F3-4CD7-821E-5BC86450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998E-C744-4198-B16D-32D3687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7EEE-7EB3-46E2-91C7-322875EA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6DCA-89F1-4C4E-9334-8883B944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315D-B34A-4E10-897C-87F158AC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9DDA-C95D-4E8D-B61E-173E647F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DF95-7273-486C-A894-BB13772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A29-7D9C-4425-9889-2BB7E39B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9711-980C-4645-821E-0E3FBE97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2ECE-AFCA-494C-B5E5-3284B7BB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05B1-4E1F-4764-B0CE-9259755A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AECC-2313-469C-BAE9-F1EA17C1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B085-B021-4456-8003-EA9BA94A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AD8-604E-4137-9C1C-E992E573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6A8-815B-4EC2-8075-068C0559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B67-B339-4DA4-B727-62A9EC04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2F2-AE86-480B-A50B-5A226B0E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CA8-5C2C-46F6-A499-44F9BC7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B77-82AF-4757-A39E-2889AC5F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667-7F57-4055-B4B0-A0291422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8113-32C8-4602-BE09-AC88E7CDD4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562B-3527-4BF1-B06B-6D93F68B86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Intel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ige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ym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pic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a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304720" y="1655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auhaus 93"/>
              </a:rPr>
              <a:t>Mogzon - 2014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2709720"/>
            <a:ext cx="4537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06728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hletic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 rot="20890800">
            <a:off x="257040" y="320760"/>
            <a:ext cx="2820960" cy="176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 rot="344400">
            <a:off x="4990680" y="15480"/>
            <a:ext cx="4140360" cy="275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5724360" y="2781360"/>
            <a:ext cx="2860920" cy="4292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20304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059280" y="64008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untain climbi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 rot="347400">
            <a:off x="2195640" y="620640"/>
            <a:ext cx="3001680" cy="2001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 rot="354600">
            <a:off x="4932000" y="3284280"/>
            <a:ext cx="3198960" cy="2012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 rot="20844600">
            <a:off x="206280" y="2112480"/>
            <a:ext cx="142884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6912000" y="573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rse-ridi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 rot="21156600"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 rot="538200">
            <a:off x="4356000" y="83664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179280" y="3524400"/>
            <a:ext cx="6408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276720" y="6237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gby or “rugger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92160" y="0"/>
            <a:ext cx="905184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1187280" y="907920"/>
            <a:ext cx="7128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Here is a nice sports names song for your classroom dictatio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njoy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sports-names-song.mp3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ess che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voted Winter Olympic and Paralympic Gam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The motto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Hot.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Cool.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Your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0560" y="2492280"/>
            <a:ext cx="65502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Comic Sans MS"/>
              </a:rPr>
              <a:t>English Sports and Game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Picture 3" descr="3-1"/>
          <p:cNvPicPr/>
          <p:nvPr/>
        </p:nvPicPr>
        <p:blipFill>
          <a:blip r:embed="rId1"/>
          <a:stretch/>
        </p:blipFill>
        <p:spPr>
          <a:xfrm flipH="1">
            <a:off x="7524720" y="189000"/>
            <a:ext cx="1222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 rot="408000">
            <a:off x="3645000" y="296640"/>
            <a:ext cx="5364000" cy="4155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700360" y="5805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they are asked to name their favourite sport they’ll probably name footba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 rot="20841600">
            <a:off x="0" y="2781000"/>
            <a:ext cx="44658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45440" cy="5558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414036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cke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20908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>
            <a:lum contrast="30000"/>
          </a:blip>
          <a:srcRect l="0" t="0" r="2705" b="7751"/>
          <a:stretch/>
        </p:blipFill>
        <p:spPr>
          <a:xfrm>
            <a:off x="468360" y="260280"/>
            <a:ext cx="8136000" cy="5521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136000" cy="5535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3276720" y="6165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lawn tenn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68360" y="142920"/>
            <a:ext cx="7883640" cy="5878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1476360" y="602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ough many of them go in for such sports as golf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68360" y="28440"/>
            <a:ext cx="79912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414036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cke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89140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859280" y="290520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108000" y="198360"/>
            <a:ext cx="3263760" cy="2776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900000" y="4724280"/>
            <a:ext cx="34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68360" y="51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eld hockey, not ice hocke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10:56:36Z</dcterms:created>
  <dc:creator>Admin</dc:creator>
  <dc:description/>
  <dc:language>en-US</dc:language>
  <cp:lastModifiedBy>Admin</cp:lastModifiedBy>
  <dcterms:modified xsi:type="dcterms:W3CDTF">2015-01-02T10:04:20Z</dcterms:modified>
  <cp:revision>6</cp:revision>
  <dc:subject/>
  <dc:title>Слайд 1</dc:title>
</cp:coreProperties>
</file>