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10.jpeg" ContentType="image/jpeg"/>
  <Override PartName="/ppt/media/image5.jpeg" ContentType="image/jpeg"/>
  <Override PartName="/ppt/media/image26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11EC-4766-4C3A-B91E-FFE4777F11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gzon -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4A1C-7D81-4121-BFFC-871D4909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B09B-E62A-4BF2-BFE5-C7126C7D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5716-6823-4AC9-A9A0-93B9AB47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BE06-E438-4733-ACB5-55F6674D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2D48-AE58-4DC6-BD7A-6F950049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EAFC-DD74-435D-84B8-1E4C346A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34C3-0D81-4854-AA2F-53BC4405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6EFF-55E7-4A77-A5BB-FA5358FE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E8ED-841B-4649-98A5-4C0AE848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7A73-1307-43C5-8456-2617A362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CE2B-3E3C-4BDD-A4B3-347195C4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D422-66EC-450D-8BE1-0C7FEA4D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DD94-868F-42D3-8BEA-D5869A6E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2938-66F7-4A70-A381-CBEFFFB0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A062-E1B0-46B6-845F-7910A512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0F66-2C88-4ACB-ACF0-53935AED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6F2F-5C58-4012-B565-EE5AAD57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1C57-CAA3-494D-8D56-7C4714E2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41C3-09F3-4413-ACCC-A512CFA9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6C7A-B01F-40B1-92DA-E2CE3906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EE6C-1499-492E-90BC-54348A8B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088C-F6D4-4A81-B1BF-C41DA39A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7127-4047-47DF-A168-2530C0E4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2AD5-811E-437C-938F-5D695089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48D6-C08E-42C4-9C80-17C164AE208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6430-342E-4FC6-B06B-CD484013219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Intel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ligent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ym</a:t>
            </a: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pic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am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304720" y="1655640"/>
            <a:ext cx="403236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auhaus 93"/>
              </a:rPr>
              <a:t>Mogzon - 2014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08000" y="2709720"/>
            <a:ext cx="45370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067280" y="6165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thletic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 rot="20890800">
            <a:off x="257040" y="320760"/>
            <a:ext cx="2820960" cy="1765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2"/>
          <a:stretch/>
        </p:blipFill>
        <p:spPr>
          <a:xfrm rot="344400">
            <a:off x="4990680" y="15480"/>
            <a:ext cx="4140360" cy="2752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"/>
          <p:cNvPicPr/>
          <p:nvPr/>
        </p:nvPicPr>
        <p:blipFill>
          <a:blip r:embed="rId3"/>
          <a:stretch/>
        </p:blipFill>
        <p:spPr>
          <a:xfrm>
            <a:off x="5724360" y="2781360"/>
            <a:ext cx="2860920" cy="4292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"/>
          <p:cNvPicPr/>
          <p:nvPr/>
        </p:nvPicPr>
        <p:blipFill>
          <a:blip r:embed="rId4"/>
          <a:stretch/>
        </p:blipFill>
        <p:spPr>
          <a:xfrm>
            <a:off x="611280" y="3500280"/>
            <a:ext cx="203040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3059280" y="64008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untain climbing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 rot="347400">
            <a:off x="2195640" y="620640"/>
            <a:ext cx="3001680" cy="2001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"/>
          <p:cNvPicPr/>
          <p:nvPr/>
        </p:nvPicPr>
        <p:blipFill>
          <a:blip r:embed="rId2"/>
          <a:stretch/>
        </p:blipFill>
        <p:spPr>
          <a:xfrm rot="354600">
            <a:off x="4932000" y="3284280"/>
            <a:ext cx="3198960" cy="2012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"/>
          <p:cNvPicPr/>
          <p:nvPr/>
        </p:nvPicPr>
        <p:blipFill>
          <a:blip r:embed="rId3"/>
          <a:stretch/>
        </p:blipFill>
        <p:spPr>
          <a:xfrm rot="20844600">
            <a:off x="206280" y="2112480"/>
            <a:ext cx="142884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6912000" y="57340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rse-riding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 rot="21156600"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2"/>
          <a:stretch/>
        </p:blipFill>
        <p:spPr>
          <a:xfrm rot="538200">
            <a:off x="4356000" y="836640"/>
            <a:ext cx="4953240" cy="3600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3"/>
          <a:stretch/>
        </p:blipFill>
        <p:spPr>
          <a:xfrm>
            <a:off x="179280" y="3524400"/>
            <a:ext cx="64087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3276720" y="62373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gby or “rugger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92160" y="0"/>
            <a:ext cx="9051840" cy="61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5"/>
          <p:cNvSpPr/>
          <p:nvPr/>
        </p:nvSpPr>
        <p:spPr>
          <a:xfrm>
            <a:off x="1187280" y="907920"/>
            <a:ext cx="71280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Here is a nice sports names song for your classroom dictation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Enjoy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sports-names-song.mp3" descr=""/>
          <p:cNvPicPr/>
          <p:nvPr/>
        </p:nvPicPr>
        <p:blipFill>
          <a:blip r:embed="rId1"/>
          <a:stretch/>
        </p:blipFill>
        <p:spPr>
          <a:xfrm>
            <a:off x="6112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gress chec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evoted Winter Olympic and Paralympic Gam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The motto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Hot.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Verdana"/>
              </a:rPr>
              <a:t>Cool.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Yours.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124000" y="2421000"/>
            <a:ext cx="496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50560" y="2492280"/>
            <a:ext cx="655020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Comic Sans MS"/>
              </a:rPr>
              <a:t>English Sports and Game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9" name="Picture 3" descr="3-1"/>
          <p:cNvPicPr/>
          <p:nvPr/>
        </p:nvPicPr>
        <p:blipFill>
          <a:blip r:embed="rId1"/>
          <a:stretch/>
        </p:blipFill>
        <p:spPr>
          <a:xfrm flipH="1">
            <a:off x="7524720" y="189000"/>
            <a:ext cx="12225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8" descr=""/>
          <p:cNvPicPr/>
          <p:nvPr/>
        </p:nvPicPr>
        <p:blipFill>
          <a:blip r:embed="rId1"/>
          <a:stretch/>
        </p:blipFill>
        <p:spPr>
          <a:xfrm rot="408000">
            <a:off x="3645000" y="296640"/>
            <a:ext cx="5364000" cy="41558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2700360" y="5805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 they are asked to name their favourite sport they’ll probably name footba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2"/>
          <a:stretch/>
        </p:blipFill>
        <p:spPr>
          <a:xfrm rot="20841600">
            <a:off x="0" y="2781000"/>
            <a:ext cx="446580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45440" cy="5558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4140360" y="6165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icke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20908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"/>
          <p:cNvPicPr/>
          <p:nvPr/>
        </p:nvPicPr>
        <p:blipFill>
          <a:blip r:embed="rId1">
            <a:lum contrast="30000"/>
          </a:blip>
          <a:srcRect l="0" t="0" r="2705" b="7751"/>
          <a:stretch/>
        </p:blipFill>
        <p:spPr>
          <a:xfrm>
            <a:off x="468360" y="260280"/>
            <a:ext cx="8136000" cy="5521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136000" cy="5535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3276720" y="616572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 lawn tenni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468360" y="142920"/>
            <a:ext cx="7883640" cy="58784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1476360" y="6021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ough many of them go in for such sports as golf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468360" y="28440"/>
            <a:ext cx="799128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4140360" y="6165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ckey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89140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4859280" y="2905200"/>
            <a:ext cx="3857760" cy="3429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tretch/>
        </p:blipFill>
        <p:spPr>
          <a:xfrm>
            <a:off x="108000" y="198360"/>
            <a:ext cx="3263760" cy="27766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900000" y="4724280"/>
            <a:ext cx="34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468360" y="51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eld hockey, not ice hockey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10:56:36Z</dcterms:created>
  <dc:creator>Admin</dc:creator>
  <dc:description/>
  <dc:language>en-US</dc:language>
  <cp:lastModifiedBy>Admin</cp:lastModifiedBy>
  <dcterms:modified xsi:type="dcterms:W3CDTF">2015-01-02T10:04:20Z</dcterms:modified>
  <cp:revision>6</cp:revision>
  <dc:subject/>
  <dc:title>Слайд 1</dc:title>
</cp:coreProperties>
</file>