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chimes.wav" ContentType="audio/x-wav"/>
  <Override PartName="/ppt/media/image16.jpeg" ContentType="image/jpeg"/>
  <Override PartName="/ppt/media/image18.jpeg" ContentType="image/jpeg"/>
  <Override PartName="/ppt/media/image12.png" ContentType="image/png"/>
  <Override PartName="/ppt/media/image17.jpeg" ContentType="image/jpeg"/>
  <Override PartName="/ppt/media/image13.png" ContentType="image/png"/>
  <Override PartName="/ppt/media/image9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4.jpeg" ContentType="image/jpeg"/>
  <Override PartName="/ppt/media/carbrake.wav" ContentType="audio/x-wav"/>
  <Override PartName="/ppt/media/image2.png" ContentType="image/png"/>
  <Override PartName="/ppt/media/image4.jpeg" ContentType="image/jpeg"/>
  <Override PartName="/ppt/media/image6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USER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6.xml><?xml version="1.0" encoding="utf-8"?>
<p:cmLst xmlns:p="http://schemas.openxmlformats.org/presentationml/2006/main">
  <p:cm authorId="0" dt="2013-11-16T22:33:06.531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0295-536B-4943-A693-21DD2849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DC31-AD4D-4BF0-8540-7BB07D38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CE8E-05A7-4CB3-BF2B-B63F2410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658-B46C-4E6A-86E0-04EE5515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50E68-6328-472C-A9FC-F8B5980A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8FBE9-8F85-47A1-84AA-48E99BC9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5CC0B-062B-4E34-8CA8-F940191B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C3E19-87CD-45FC-8D41-4A49E1F0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3210C-5082-4B5C-A7F5-E892457C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81CF0-F85B-4282-A791-BB5AFD33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DB483-7458-444D-8155-64338EDF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586-BEAF-4606-9A8B-071CC1DE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8DFC1-7943-4B71-B76C-DE54E228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56E46-4BC0-41CA-955E-59D5FAD5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446A3-6E25-41F0-8EF7-E121C8B6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FF88D-61EA-4703-9CEB-3F6641AE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42ACC-DFA9-4A07-AD76-06492C21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47778-8112-46D7-82F2-EDFA110E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66C1F-45B6-4358-BD2A-B12E7EDC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0AF25-D9AA-4E73-AA5C-4389D2EC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263AF-478B-430E-8A05-DEB204BC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6446A-8BC9-4DAE-9211-12A6F32A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DDC0-AEB0-41CD-BD7F-8857C1D2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802A3-B340-4460-936B-2FDE989B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588AD-BCE8-4768-AAB8-FEC5585A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ECCC4-7F52-40A6-9BC3-D629A1E6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08B5B-1E11-49F2-83EB-03FDB252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09992-5536-4348-BA6B-923887B6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AB60C-F6E8-4972-A0DB-043F1669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16BD6-45FD-4C32-A975-36658605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E87A0-F187-4BA1-9C4E-AAEF8BED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E345A-760E-4280-966D-DC1EE931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0B53F-C46C-47A6-B8F3-C189C647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CE33-59F1-424C-96EB-427F782A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45463-6620-4E1A-80A0-3F864423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89FC9-872D-44A7-B78F-7661C661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2AE3A-C51F-4573-A95E-435175C7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9CACC-DA0B-409E-B23F-A4B21AF2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01FA9-824A-466E-8A6F-3A15D572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00E1C-8836-45A6-8243-1A4461E2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20FFB-AE18-4D01-A490-5D1CC14A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45F7A-438A-4191-A122-4F7DABE2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55B4C-E811-41A0-AA2C-2229F346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D32-868B-427D-85CB-313A50AE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0FCE-8C7B-4257-8DBD-C0636C56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2B77-844B-4CC3-85C5-E3C8E0D5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AE1-E1AC-4F20-A6B4-79FB692D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83AD-C33C-4FD3-A351-7E562B85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90C2-177A-4949-879A-14044D77F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B507-F633-497C-A763-CC8D3174D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8146-21C0-4102-A948-97E26986B2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6B11-8071-47C8-8ACE-6EC3D1FDE7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3.xml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10.xml"/><Relationship Id="rId10" Type="http://schemas.openxmlformats.org/officeDocument/2006/relationships/slide" Target="slide4.xml"/><Relationship Id="rId11" Type="http://schemas.openxmlformats.org/officeDocument/2006/relationships/audio" Target="../media/carbrake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" Target="slide3.xml"/><Relationship Id="rId8" Type="http://schemas.openxmlformats.org/officeDocument/2006/relationships/slide" Target="slide10.xml"/><Relationship Id="rId9" Type="http://schemas.openxmlformats.org/officeDocument/2006/relationships/slide" Target="slide5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" Target="slide4.xml"/><Relationship Id="rId4" Type="http://schemas.openxmlformats.org/officeDocument/2006/relationships/slide" Target="slide10.xml"/><Relationship Id="rId5" Type="http://schemas.openxmlformats.org/officeDocument/2006/relationships/slide" Target="slide6.xml"/><Relationship Id="rId6" Type="http://schemas.openxmlformats.org/officeDocument/2006/relationships/slide" Target="slide2.xml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3.xml"/><Relationship Id="rId6" Type="http://schemas.openxmlformats.org/officeDocument/2006/relationships/slide" Target="slide5.xml"/><Relationship Id="rId7" Type="http://schemas.openxmlformats.org/officeDocument/2006/relationships/slide" Target="slide2.xml"/><Relationship Id="rId8" Type="http://schemas.openxmlformats.org/officeDocument/2006/relationships/slide" Target="slide7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27.xml"/><Relationship Id="rId11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7.jpeg"/><Relationship Id="rId3" Type="http://schemas.openxmlformats.org/officeDocument/2006/relationships/slide" Target=""/><Relationship Id="rId4" Type="http://schemas.openxmlformats.org/officeDocument/2006/relationships/image" Target="../media/image16.jpeg"/><Relationship Id="rId5" Type="http://schemas.openxmlformats.org/officeDocument/2006/relationships/slide" Target="slide9.xml"/><Relationship Id="rId6" Type="http://schemas.openxmlformats.org/officeDocument/2006/relationships/image" Target="../media/image18.jpeg"/><Relationship Id="rId7" Type="http://schemas.openxmlformats.org/officeDocument/2006/relationships/slide" Target="slide8.xml"/><Relationship Id="rId8" Type="http://schemas.openxmlformats.org/officeDocument/2006/relationships/image" Target="../media/image19.jpeg"/><Relationship Id="rId9" Type="http://schemas.openxmlformats.org/officeDocument/2006/relationships/slide" Target="slide6.xml"/><Relationship Id="rId10" Type="http://schemas.openxmlformats.org/officeDocument/2006/relationships/slide" Target="slide2.xml"/><Relationship Id="rId11" Type="http://schemas.openxmlformats.org/officeDocument/2006/relationships/slide" Target="slide10.xml"/><Relationship Id="rId1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06760" y="2852640"/>
            <a:ext cx="72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SEASONS</a:t>
            </a:r>
            <a:r>
              <a:rPr b="0" lang="ru-RU" sz="4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ND WEA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995640" y="4797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700360" y="37893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4200" y="5805360"/>
            <a:ext cx="48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Творческая работа Инжелевской Е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7056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692360" y="2349360"/>
            <a:ext cx="5904000" cy="208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за внимание!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держ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99640" y="1905120"/>
            <a:ext cx="794556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их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бу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адай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оссвор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ди лишн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ди отлич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1187280" y="5950080"/>
            <a:ext cx="1656000" cy="574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>
            <a:hlinkClick r:id="rId2" action="ppaction://hlinksldjump"/>
          </p:cNvPr>
          <p:cNvSpPr/>
          <p:nvPr/>
        </p:nvSpPr>
        <p:spPr>
          <a:xfrm>
            <a:off x="3924360" y="5950080"/>
            <a:ext cx="1584360" cy="5745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пере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52520" y="244440"/>
            <a:ext cx="5329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S E A S O N 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2671920" cy="1981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2746440" cy="198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971640" y="33577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5292720" y="3357720"/>
            <a:ext cx="2641680" cy="1981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1547640" y="2708280"/>
            <a:ext cx="25909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NT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692360" y="4797360"/>
            <a:ext cx="26668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UMMER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508720" y="2852640"/>
            <a:ext cx="26668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RING</a:t>
            </a:r>
            <a:endParaRPr b="0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867280" y="4869000"/>
            <a:ext cx="25909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UTUMN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Rectangle 4">
            <a:hlinkClick r:id="rId7" action="ppaction://hlinksldjump"/>
          </p:cNvPr>
          <p:cNvSpPr/>
          <p:nvPr/>
        </p:nvSpPr>
        <p:spPr>
          <a:xfrm>
            <a:off x="166680" y="6353280"/>
            <a:ext cx="2162160" cy="4046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5">
            <a:hlinkClick r:id="rId8" action="ppaction://hlinksldjump"/>
          </p:cNvPr>
          <p:cNvSpPr/>
          <p:nvPr/>
        </p:nvSpPr>
        <p:spPr>
          <a:xfrm>
            <a:off x="2400480" y="6364440"/>
            <a:ext cx="2162160" cy="4046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>
            <a:hlinkClick r:id="rId9" action="ppaction://hlinksldjump"/>
          </p:cNvPr>
          <p:cNvSpPr/>
          <p:nvPr/>
        </p:nvSpPr>
        <p:spPr>
          <a:xfrm>
            <a:off x="4637160" y="6364440"/>
            <a:ext cx="2162160" cy="4046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">
            <a:hlinkClick r:id="rId10" action="ppaction://hlinksldjump"/>
          </p:cNvPr>
          <p:cNvSpPr/>
          <p:nvPr/>
        </p:nvSpPr>
        <p:spPr>
          <a:xfrm>
            <a:off x="6870600" y="6375240"/>
            <a:ext cx="2162160" cy="4050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перё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6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eath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6800" y="1773000"/>
            <a:ext cx="8377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d                        win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                               rai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ny                         snow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00200" cy="14288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1447920" cy="1428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124000" y="3645000"/>
            <a:ext cx="2336760" cy="1944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651640" y="33336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6084720" y="2205000"/>
            <a:ext cx="1133640" cy="1809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300720" y="4076640"/>
            <a:ext cx="2374920" cy="17352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>
            <a:hlinkClick r:id="rId7" action="ppaction://hlinksldjump"/>
          </p:cNvPr>
          <p:cNvSpPr/>
          <p:nvPr/>
        </p:nvSpPr>
        <p:spPr>
          <a:xfrm>
            <a:off x="166680" y="6353280"/>
            <a:ext cx="2162160" cy="4046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6">
            <a:hlinkClick r:id="rId8" action="ppaction://hlinksldjump"/>
          </p:cNvPr>
          <p:cNvSpPr/>
          <p:nvPr/>
        </p:nvSpPr>
        <p:spPr>
          <a:xfrm>
            <a:off x="4637160" y="6364440"/>
            <a:ext cx="2162160" cy="4046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7">
            <a:hlinkClick r:id="rId9" action="ppaction://hlinksldjump"/>
          </p:cNvPr>
          <p:cNvSpPr/>
          <p:nvPr/>
        </p:nvSpPr>
        <p:spPr>
          <a:xfrm>
            <a:off x="6870600" y="6375240"/>
            <a:ext cx="2162160" cy="4050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перё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5">
            <a:hlinkClick r:id="rId10" action="ppaction://hlinksldjump"/>
          </p:cNvPr>
          <p:cNvSpPr/>
          <p:nvPr/>
        </p:nvSpPr>
        <p:spPr>
          <a:xfrm>
            <a:off x="2340000" y="6308640"/>
            <a:ext cx="2162160" cy="4050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ебус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1860480" cy="2160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2089080" cy="244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3203640" y="4437000"/>
            <a:ext cx="244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col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03640" y="4437000"/>
            <a:ext cx="2448000" cy="100800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66"/>
                </a:solidFill>
                <a:latin typeface="Tahoma"/>
              </a:rPr>
              <a:t>Провер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4">
            <a:hlinkClick r:id="rId3" action="ppaction://hlinksldjump"/>
          </p:cNvPr>
          <p:cNvSpPr/>
          <p:nvPr/>
        </p:nvSpPr>
        <p:spPr>
          <a:xfrm>
            <a:off x="166680" y="6353280"/>
            <a:ext cx="2162160" cy="4046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6">
            <a:hlinkClick r:id="rId4" action="ppaction://hlinksldjump"/>
          </p:cNvPr>
          <p:cNvSpPr/>
          <p:nvPr/>
        </p:nvSpPr>
        <p:spPr>
          <a:xfrm>
            <a:off x="4637160" y="6364440"/>
            <a:ext cx="2162160" cy="4046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7">
            <a:hlinkClick r:id="rId5" action="ppaction://hlinksldjump"/>
          </p:cNvPr>
          <p:cNvSpPr/>
          <p:nvPr/>
        </p:nvSpPr>
        <p:spPr>
          <a:xfrm>
            <a:off x="6870600" y="6375240"/>
            <a:ext cx="2162160" cy="4050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перё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5">
            <a:hlinkClick r:id="rId6" action="ppaction://hlinksldjump"/>
          </p:cNvPr>
          <p:cNvSpPr/>
          <p:nvPr/>
        </p:nvSpPr>
        <p:spPr>
          <a:xfrm>
            <a:off x="2340000" y="6308640"/>
            <a:ext cx="2162160" cy="4050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oose the word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9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0" descr="зима"/>
          <p:cNvPicPr/>
          <p:nvPr/>
        </p:nvPicPr>
        <p:blipFill>
          <a:blip r:embed="rId1"/>
          <a:stretch/>
        </p:blipFill>
        <p:spPr>
          <a:xfrm>
            <a:off x="1981080" y="1600200"/>
            <a:ext cx="3276720" cy="2494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666880" y="4114800"/>
            <a:ext cx="198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win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14600" y="5029200"/>
            <a:ext cx="2514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summ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34120" y="4191120"/>
            <a:ext cx="2133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sp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5105520"/>
            <a:ext cx="2210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autum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>
            <a:hlinkClick r:id="rId6" action="ppaction://hlinksldjump"/>
          </p:cNvPr>
          <p:cNvSpPr/>
          <p:nvPr/>
        </p:nvSpPr>
        <p:spPr>
          <a:xfrm>
            <a:off x="166680" y="6353280"/>
            <a:ext cx="2162160" cy="4046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5">
            <a:hlinkClick r:id="rId7" action="ppaction://hlinksldjump"/>
          </p:cNvPr>
          <p:cNvSpPr/>
          <p:nvPr/>
        </p:nvSpPr>
        <p:spPr>
          <a:xfrm>
            <a:off x="2411280" y="6308640"/>
            <a:ext cx="2162160" cy="4050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>
            <a:hlinkClick r:id="rId8" action="ppaction://hlinksldjump"/>
          </p:cNvPr>
          <p:cNvSpPr/>
          <p:nvPr/>
        </p:nvSpPr>
        <p:spPr>
          <a:xfrm>
            <a:off x="6870600" y="6375240"/>
            <a:ext cx="2162160" cy="4050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перё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6">
            <a:hlinkClick r:id="rId9" action="ppaction://hlinksldjump"/>
          </p:cNvPr>
          <p:cNvSpPr/>
          <p:nvPr/>
        </p:nvSpPr>
        <p:spPr>
          <a:xfrm>
            <a:off x="4643280" y="6308640"/>
            <a:ext cx="2162160" cy="4050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t is summe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33" name="Picture 22" descr="весн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24280" y="1295280"/>
            <a:ext cx="3753000" cy="2133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зима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1523880"/>
            <a:ext cx="3276360" cy="1976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осень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3645000"/>
            <a:ext cx="3429000" cy="1762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лето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16360" y="3500280"/>
            <a:ext cx="3505320" cy="20750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4">
            <a:hlinkClick r:id="rId9" action="ppaction://hlinksldjump"/>
          </p:cNvPr>
          <p:cNvSpPr/>
          <p:nvPr/>
        </p:nvSpPr>
        <p:spPr>
          <a:xfrm>
            <a:off x="166680" y="6308640"/>
            <a:ext cx="2162160" cy="36036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5">
            <a:hlinkClick r:id="rId10" action="ppaction://hlinksldjump"/>
          </p:cNvPr>
          <p:cNvSpPr/>
          <p:nvPr/>
        </p:nvSpPr>
        <p:spPr>
          <a:xfrm>
            <a:off x="2340000" y="6308640"/>
            <a:ext cx="2162160" cy="36036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6">
            <a:hlinkClick r:id="rId11" action="ppaction://hlinksldjump"/>
          </p:cNvPr>
          <p:cNvSpPr/>
          <p:nvPr/>
        </p:nvSpPr>
        <p:spPr>
          <a:xfrm>
            <a:off x="4637160" y="6364440"/>
            <a:ext cx="2162160" cy="4046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870600" y="6375240"/>
            <a:ext cx="2162160" cy="4050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перё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83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84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94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95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05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06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Кроссворд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"/>
          <p:cNvSpPr/>
          <p:nvPr/>
        </p:nvSpPr>
        <p:spPr>
          <a:xfrm>
            <a:off x="1619280" y="2924280"/>
            <a:ext cx="62712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42920" y="3573360"/>
            <a:ext cx="62712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92360" y="1197000"/>
            <a:ext cx="627120" cy="647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40000" y="3068640"/>
            <a:ext cx="55404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16360" y="3068640"/>
            <a:ext cx="55404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92360" y="3068640"/>
            <a:ext cx="55404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2492280"/>
            <a:ext cx="55404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67280" y="3068640"/>
            <a:ext cx="55404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43280" y="3068640"/>
            <a:ext cx="55404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92360" y="1916280"/>
            <a:ext cx="5540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92360" y="3645000"/>
            <a:ext cx="5540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4221000"/>
            <a:ext cx="55404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16360" y="3645000"/>
            <a:ext cx="5540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0000" y="3645000"/>
            <a:ext cx="5540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63640" y="3645000"/>
            <a:ext cx="5540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67280" y="3645000"/>
            <a:ext cx="5540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38560" y="3645000"/>
            <a:ext cx="5540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166680" y="6308640"/>
            <a:ext cx="2162160" cy="36036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2340000" y="6308640"/>
            <a:ext cx="2162160" cy="36036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4572000" y="6237360"/>
            <a:ext cx="2162160" cy="4046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804000" y="6237360"/>
            <a:ext cx="2162160" cy="4046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перё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ставь слово из бук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49417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35280" y="49417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59280" y="49417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84720" y="49417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435640" y="49417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740720" y="49417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588000" y="494172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166680" y="6308640"/>
            <a:ext cx="2162160" cy="36036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2340000" y="6308640"/>
            <a:ext cx="2162160" cy="36036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4572000" y="6237360"/>
            <a:ext cx="2162160" cy="4046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6804000" y="6237360"/>
            <a:ext cx="2162160" cy="4046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GothicRus"/>
                <a:ea typeface="HGｺﾞｼｯｸE"/>
              </a:rPr>
              <a:t>Вперё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6 -0.00671 C -0.08715 -0.15232 -0.16858 -0.29792 -0.19983 -0.35556 C -0.23108 -0.4132 -0.19375 -0.35463 -0.19288 -0.35255 C -0.19202 -0.35046 -0.19462 -0.34445 -0.19514 -0.34306 E">
                                      <p:cBhvr>
                                        <p:cTn id="175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-0.01435 L -0.3177 -0.36088 E">
                                      <p:cBhvr>
                                        <p:cTn id="179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3 -0.01435 L -0.44375 -0.36088 E">
                                      <p:cBhvr>
                                        <p:cTn id="183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64 -0.02477 L 0.09948 -0.36088 E">
                                      <p:cBhvr>
                                        <p:cTn id="187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48148E-006 L 3.61111E-006 -0.17523 C 3.61111E-006 -0.25371 0.17066 -0.35023 0.30955 -0.35023 L 0.61927 -0.35023 E">
                                      <p:cBhvr>
                                        <p:cTn id="191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1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96" dur="1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97" dur="1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07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08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0:47:12Z</dcterms:created>
  <dc:creator>USER</dc:creator>
  <dc:description/>
  <dc:language>en-US</dc:language>
  <cp:lastModifiedBy>USER</cp:lastModifiedBy>
  <dcterms:modified xsi:type="dcterms:W3CDTF">2013-11-17T13:13:28Z</dcterms:modified>
  <cp:revision>28</cp:revision>
  <dc:subject/>
  <dc:title>Слайд 1</dc:title>
</cp:coreProperties>
</file>