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chimes.wav" ContentType="audio/x-wav"/>
  <Override PartName="/ppt/media/image16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image13.png" ContentType="image/pn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4.jpeg" ContentType="image/jpeg"/>
  <Override PartName="/ppt/media/carbrake.wav" ContentType="audio/x-wav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13-11-16T22:33:06.531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720-630C-43BB-9CD7-D52317AB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1B9-C1D3-4AEA-9572-7986FB14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33D-30AA-4D36-8609-C03438C0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BC9-225D-4D71-9F6A-6B91FA7A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E6B80-831A-4FE3-BBB8-767B6421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2C00F-3C00-4119-B5B9-74E4847B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371AC-18AD-4FCE-9BDB-EEEFF7F6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89BF8-547F-4ACA-9EF7-B09087EE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71479-BA95-4388-B95D-D2109B9C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668A4-9775-45AD-B077-0BA3EE33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6618B-C8A2-4B26-8038-96913663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2CF-B7DA-4F98-828B-353860EF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0E992-8383-4D7E-B9BE-B22FFA34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53EA8-A1C2-4AEC-9FAE-4414AB33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97645-172C-4C0D-AA7D-D9951C50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65FEA-F0C4-42B4-9EC1-6D4152E7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9E950-65C0-46AE-88F5-92BF637C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0574-D61B-4E94-A9E6-6D716896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6817-A361-487B-93DE-AF7C956F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5106C-94EA-4C0A-B15A-86A23654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249B-1982-4ECF-90CB-E50E8AC4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1DDC-0EFC-4B08-8498-DFA7DF39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E02-3B0E-4C3C-9419-9AECA6F1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7E835-E15B-4EB6-90FF-C6B022E4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3477-B0AC-4061-A0A9-CDE7FA6F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6B77-4B08-42FA-B22A-28A71EF8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2967A-1777-4BCA-B85A-B8C7F1FE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81BB-A780-40E9-88FC-B7A54C04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D0F31-C6DB-4861-B02F-20A90118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372E-9518-475F-9CD9-EAF358DB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17795-ED62-4116-A963-097F7D03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B0CF-616D-44F6-A999-1DB010D2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5A5A1-1F9A-480B-8CF9-C294F724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021-71A5-4385-8133-DFF5B225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E88F7-38BB-4328-9B61-AB8ECF03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5DFA5-2398-4C88-826F-0CA200FA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C65D-9653-43D6-923D-F5F680FD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C2444-36CC-4F5A-A536-A86A406C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767C-3245-465B-9EC2-5C99FDDD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AB53B-22C1-410C-B3C1-97541C55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4FBDA-6407-481A-BDB4-2506B36A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EAEE-E88E-4AE1-8349-A78862A6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0CF9F-C7B9-4528-81EB-EC887ADE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E71-2D41-48BD-BBD7-29CE678A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002-EDA6-47C3-A414-24DB1CD5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499-377D-4308-AE56-BF0FB094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73F-F9A2-4BE3-B563-423EC3C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CA2-3CA5-4B56-9F93-5EFF1926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76E2-4ED9-471C-B81C-1CB2A8632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DD2A-077D-47AD-8C69-5CBBF3A31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8453-635C-46D7-A28D-E84EA7DB80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73E3-F446-4F5E-B38E-85B7A8E67A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10.xml"/><Relationship Id="rId10" Type="http://schemas.openxmlformats.org/officeDocument/2006/relationships/slide" Target="slide4.xml"/><Relationship Id="rId11" Type="http://schemas.openxmlformats.org/officeDocument/2006/relationships/audio" Target="../media/carbrak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3.xml"/><Relationship Id="rId8" Type="http://schemas.openxmlformats.org/officeDocument/2006/relationships/slide" Target="slide10.xml"/><Relationship Id="rId9" Type="http://schemas.openxmlformats.org/officeDocument/2006/relationships/slide" Target="slide5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7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27.xml"/><Relationship Id="rId11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7.jpeg"/><Relationship Id="rId3" Type="http://schemas.openxmlformats.org/officeDocument/2006/relationships/slide" Target=""/><Relationship Id="rId4" Type="http://schemas.openxmlformats.org/officeDocument/2006/relationships/image" Target="../media/image16.jpeg"/><Relationship Id="rId5" Type="http://schemas.openxmlformats.org/officeDocument/2006/relationships/slide" Target="slide9.xml"/><Relationship Id="rId6" Type="http://schemas.openxmlformats.org/officeDocument/2006/relationships/image" Target="../media/image18.jpeg"/><Relationship Id="rId7" Type="http://schemas.openxmlformats.org/officeDocument/2006/relationships/slide" Target="slide8.xml"/><Relationship Id="rId8" Type="http://schemas.openxmlformats.org/officeDocument/2006/relationships/image" Target="../media/image19.jpeg"/><Relationship Id="rId9" Type="http://schemas.openxmlformats.org/officeDocument/2006/relationships/slide" Target="slide6.xml"/><Relationship Id="rId10" Type="http://schemas.openxmlformats.org/officeDocument/2006/relationships/slide" Target="slide2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06760" y="2852640"/>
            <a:ext cx="72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EASONS</a:t>
            </a: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ND WEA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95640" y="4797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00360" y="3789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4200" y="5805360"/>
            <a:ext cx="48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ворческая работа Инжелевской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056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692360" y="2349360"/>
            <a:ext cx="590400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9640" y="1905120"/>
            <a:ext cx="7945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ада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и лишн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и отлич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1187280" y="5950080"/>
            <a:ext cx="165600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3924360" y="5950080"/>
            <a:ext cx="158436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пер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2520" y="244440"/>
            <a:ext cx="5329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S E A S O N 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2671920" cy="1981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746440" cy="19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292720" y="335772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547640" y="2708280"/>
            <a:ext cx="2590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T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692360" y="4797360"/>
            <a:ext cx="2666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UMMER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08720" y="2852640"/>
            <a:ext cx="2666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ING</a:t>
            </a:r>
            <a:endParaRPr b="0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867280" y="4869000"/>
            <a:ext cx="2590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UTUM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Rectangle 4">
            <a:hlinkClick r:id="rId7" action="ppaction://hlinksldjump"/>
          </p:cNvPr>
          <p:cNvSpPr/>
          <p:nvPr/>
        </p:nvSpPr>
        <p:spPr>
          <a:xfrm>
            <a:off x="166680" y="635328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5">
            <a:hlinkClick r:id="rId8" action="ppaction://hlinksldjump"/>
          </p:cNvPr>
          <p:cNvSpPr/>
          <p:nvPr/>
        </p:nvSpPr>
        <p:spPr>
          <a:xfrm>
            <a:off x="2400480" y="636444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>
            <a:hlinkClick r:id="rId9" action="ppaction://hlinksldjump"/>
          </p:cNvPr>
          <p:cNvSpPr/>
          <p:nvPr/>
        </p:nvSpPr>
        <p:spPr>
          <a:xfrm>
            <a:off x="4637160" y="636444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">
            <a:hlinkClick r:id="rId10" action="ppaction://hlinksldjump"/>
          </p:cNvPr>
          <p:cNvSpPr/>
          <p:nvPr/>
        </p:nvSpPr>
        <p:spPr>
          <a:xfrm>
            <a:off x="6870600" y="63752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ath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6800" y="177300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d                        win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                              ra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ny                         snow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1447920" cy="1428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124000" y="3645000"/>
            <a:ext cx="2336760" cy="1944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651640" y="33336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6084720" y="2205000"/>
            <a:ext cx="1133640" cy="1809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300720" y="4076640"/>
            <a:ext cx="2374920" cy="1735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>
            <a:hlinkClick r:id="rId7" action="ppaction://hlinksldjump"/>
          </p:cNvPr>
          <p:cNvSpPr/>
          <p:nvPr/>
        </p:nvSpPr>
        <p:spPr>
          <a:xfrm>
            <a:off x="166680" y="635328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6">
            <a:hlinkClick r:id="rId8" action="ppaction://hlinksldjump"/>
          </p:cNvPr>
          <p:cNvSpPr/>
          <p:nvPr/>
        </p:nvSpPr>
        <p:spPr>
          <a:xfrm>
            <a:off x="4637160" y="636444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7">
            <a:hlinkClick r:id="rId9" action="ppaction://hlinksldjump"/>
          </p:cNvPr>
          <p:cNvSpPr/>
          <p:nvPr/>
        </p:nvSpPr>
        <p:spPr>
          <a:xfrm>
            <a:off x="6870600" y="63752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">
            <a:hlinkClick r:id="rId10" action="ppaction://hlinksldjump"/>
          </p:cNvPr>
          <p:cNvSpPr/>
          <p:nvPr/>
        </p:nvSpPr>
        <p:spPr>
          <a:xfrm>
            <a:off x="2340000" y="63086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б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186048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2089080" cy="244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3203640" y="4437000"/>
            <a:ext cx="244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ol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3640" y="4437000"/>
            <a:ext cx="2448000" cy="1008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66"/>
                </a:solidFill>
                <a:latin typeface="Tahoma"/>
              </a:rPr>
              <a:t>Провер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4">
            <a:hlinkClick r:id="rId3" action="ppaction://hlinksldjump"/>
          </p:cNvPr>
          <p:cNvSpPr/>
          <p:nvPr/>
        </p:nvSpPr>
        <p:spPr>
          <a:xfrm>
            <a:off x="166680" y="635328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>
            <a:hlinkClick r:id="rId4" action="ppaction://hlinksldjump"/>
          </p:cNvPr>
          <p:cNvSpPr/>
          <p:nvPr/>
        </p:nvSpPr>
        <p:spPr>
          <a:xfrm>
            <a:off x="4637160" y="636444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7">
            <a:hlinkClick r:id="rId5" action="ppaction://hlinksldjump"/>
          </p:cNvPr>
          <p:cNvSpPr/>
          <p:nvPr/>
        </p:nvSpPr>
        <p:spPr>
          <a:xfrm>
            <a:off x="6870600" y="63752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5">
            <a:hlinkClick r:id="rId6" action="ppaction://hlinksldjump"/>
          </p:cNvPr>
          <p:cNvSpPr/>
          <p:nvPr/>
        </p:nvSpPr>
        <p:spPr>
          <a:xfrm>
            <a:off x="2340000" y="63086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oose the word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" descr="зима"/>
          <p:cNvPicPr/>
          <p:nvPr/>
        </p:nvPicPr>
        <p:blipFill>
          <a:blip r:embed="rId1"/>
          <a:stretch/>
        </p:blipFill>
        <p:spPr>
          <a:xfrm>
            <a:off x="1981080" y="1600200"/>
            <a:ext cx="3276720" cy="2494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666880" y="4114800"/>
            <a:ext cx="198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win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5029200"/>
            <a:ext cx="2514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sum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4191120"/>
            <a:ext cx="2133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sp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5105520"/>
            <a:ext cx="2210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autum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>
            <a:hlinkClick r:id="rId6" action="ppaction://hlinksldjump"/>
          </p:cNvPr>
          <p:cNvSpPr/>
          <p:nvPr/>
        </p:nvSpPr>
        <p:spPr>
          <a:xfrm>
            <a:off x="166680" y="635328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5">
            <a:hlinkClick r:id="rId7" action="ppaction://hlinksldjump"/>
          </p:cNvPr>
          <p:cNvSpPr/>
          <p:nvPr/>
        </p:nvSpPr>
        <p:spPr>
          <a:xfrm>
            <a:off x="2411280" y="63086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>
            <a:hlinkClick r:id="rId8" action="ppaction://hlinksldjump"/>
          </p:cNvPr>
          <p:cNvSpPr/>
          <p:nvPr/>
        </p:nvSpPr>
        <p:spPr>
          <a:xfrm>
            <a:off x="6870600" y="63752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6">
            <a:hlinkClick r:id="rId9" action="ppaction://hlinksldjump"/>
          </p:cNvPr>
          <p:cNvSpPr/>
          <p:nvPr/>
        </p:nvSpPr>
        <p:spPr>
          <a:xfrm>
            <a:off x="4643280" y="63086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 is summe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3" name="Picture 22" descr="весн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24280" y="1295280"/>
            <a:ext cx="3753000" cy="2133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зим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523880"/>
            <a:ext cx="3276360" cy="1976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осень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3645000"/>
            <a:ext cx="3429000" cy="1762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лето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16360" y="3500280"/>
            <a:ext cx="3505320" cy="2075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>
            <a:hlinkClick r:id="rId9" action="ppaction://hlinksldjump"/>
          </p:cNvPr>
          <p:cNvSpPr/>
          <p:nvPr/>
        </p:nvSpPr>
        <p:spPr>
          <a:xfrm>
            <a:off x="16668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5">
            <a:hlinkClick r:id="rId10" action="ppaction://hlinksldjump"/>
          </p:cNvPr>
          <p:cNvSpPr/>
          <p:nvPr/>
        </p:nvSpPr>
        <p:spPr>
          <a:xfrm>
            <a:off x="234000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">
            <a:hlinkClick r:id="rId11" action="ppaction://hlinksldjump"/>
          </p:cNvPr>
          <p:cNvSpPr/>
          <p:nvPr/>
        </p:nvSpPr>
        <p:spPr>
          <a:xfrm>
            <a:off x="4637160" y="636444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870600" y="63752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84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95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06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Кроссворд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2924280"/>
            <a:ext cx="62712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3573360"/>
            <a:ext cx="62712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1197000"/>
            <a:ext cx="62712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0000" y="306864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16360" y="306864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92360" y="306864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49228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06864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306864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92360" y="191628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422100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1636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6728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3856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6668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234000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4572000" y="623736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804000" y="623736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ставь слово из бук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5928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74072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8800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16668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34000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0" y="623736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6804000" y="623736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-0.00671 C -0.08715 -0.15232 -0.16858 -0.29792 -0.19983 -0.35556 C -0.23108 -0.4132 -0.19375 -0.35463 -0.19288 -0.35255 C -0.19202 -0.35046 -0.19462 -0.34445 -0.19514 -0.34306 E">
                                      <p:cBhvr>
                                        <p:cTn id="17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01435 L -0.3177 -0.36088 E">
                                      <p:cBhvr>
                                        <p:cTn id="179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3 -0.01435 L -0.44375 -0.36088 E">
                                      <p:cBhvr>
                                        <p:cTn id="183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64 -0.02477 L 0.09948 -0.36088 E">
                                      <p:cBhvr>
                                        <p:cTn id="187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3.61111E-006 -0.17523 C 3.61111E-006 -0.25371 0.17066 -0.35023 0.30955 -0.35023 L 0.61927 -0.35023 E">
                                      <p:cBhvr>
                                        <p:cTn id="191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96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7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0:47:12Z</dcterms:created>
  <dc:creator>USER</dc:creator>
  <dc:description/>
  <dc:language>en-US</dc:language>
  <cp:lastModifiedBy>USER</cp:lastModifiedBy>
  <dcterms:modified xsi:type="dcterms:W3CDTF">2013-11-17T13:13:28Z</dcterms:modified>
  <cp:revision>28</cp:revision>
  <dc:subject/>
  <dc:title>Слайд 1</dc:title>
</cp:coreProperties>
</file>