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B4B5-74B2-4529-977D-28E386E3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C0DA-4450-4876-8F95-AAD1393E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09A1-BEB6-4904-A4DC-50763781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39E3-BE21-483D-8E6E-730485C4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5F51-D33E-44A6-AC06-1E79C949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3662-F45B-4007-90D4-3B94EF9F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888D-6007-40FA-A8D8-A78EE262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ECB8-2BB3-4A8B-B49D-9814ACF4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A69C-9402-4F59-9534-A1BB47C9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384D-D6BA-406C-A95B-99E359BE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8B5F-00DD-4720-B21F-3DC2FC6F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13E7-BEA8-4602-BE8F-06756B46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025A-AB7A-4DA6-BBAA-1E1A3585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263D-FD4A-46FA-B607-EEDB6170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145E-83E7-4843-B6CA-67307431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E46F-E7E2-4653-81DA-D0930FA9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7ABB-0B2E-42EA-AE30-5FCB098C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B7E3D-CF18-4C9B-A13E-AF6F1862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6FC7B-C281-48F1-8458-86BA3048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AE8EC-CB10-450B-B590-47F86599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3C055-FC59-4B95-9311-0D3F0D8F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6048A-4F54-47E8-BE4D-7B01941A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F515-BBE9-4A50-BB75-64A20482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90C6E-FDA1-45F9-B8B2-928730D4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828E8-6FB3-430E-A071-4BFD93DF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E3ED2-02AA-474B-8A50-3BA5E069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B5E7E-7D68-4E16-8C63-43B9AA5D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5BFC7-77D0-41F2-9263-A7FF18B1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964AB-C59D-4A41-B457-72582E48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1039C-1BC7-412B-B0B3-B8017BE2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DB971-3CF4-42DA-821F-11594F76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73B71-C0CA-4C4D-AF85-7357BA2C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89781-95B9-490A-9BA9-D608726B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49F0-8DA7-4F74-B54B-9FD3EFCB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87DAB-8565-4D41-A75E-A77C5E34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0D346-DA0F-4138-9344-175809B5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A816D-C516-4FAD-837E-EDFDC034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50C6F-BBA9-4AA7-B4FE-1D5BFFEE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4810E-DDEE-4028-B810-887E0698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5C408-6E84-49E3-8696-D2A88C46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9DCC8-22E8-42D2-9431-58DBFDC5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8D39B-5DA0-4967-8974-AD9F0CB5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55233-F177-48CB-983A-3D829AB2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4221-8BA9-4943-B45E-168E48C1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DB42-1C2B-4F79-9913-4386413C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31C1-ABF1-4F5E-9183-C3B88C36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DD6-A8EC-4B5D-8979-2FF27702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42C0-1339-4742-B1E8-B216E7CF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D99A-783C-4F01-ACD8-AE32977CB56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2037-6AFF-4CE9-9867-31D22B867B9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356A-120B-412B-8FBA-E1D97C23383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B1F1-8414-4FD9-9627-839F11635F6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53920" y="5248440"/>
            <a:ext cx="7991640" cy="1450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56760" y="-360"/>
            <a:ext cx="8481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C:\Documents and Settings\User\Рабочий стол\pic2573_738d47_350x495.jpg"/>
          <p:cNvPicPr/>
          <p:nvPr/>
        </p:nvPicPr>
        <p:blipFill>
          <a:blip r:embed="rId2"/>
          <a:stretch/>
        </p:blipFill>
        <p:spPr>
          <a:xfrm>
            <a:off x="2571840" y="0"/>
            <a:ext cx="44830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2560"/>
            <a:ext cx="468648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785840" y="1428480"/>
            <a:ext cx="411012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Берегите в себе человека!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восклицает мудрый, насмешливый и очень добрый Антон Павлович Чехов. И эти слова, переживающие столетие, живут в каждом из нас, делая читателя чуточку лучше, сильнее, гуманне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C:\Documents and Settings\User\Рабочий стол\128937_image_large.jpg"/>
          <p:cNvPicPr/>
          <p:nvPr/>
        </p:nvPicPr>
        <p:blipFill>
          <a:blip r:embed="rId1"/>
          <a:stretch/>
        </p:blipFill>
        <p:spPr>
          <a:xfrm>
            <a:off x="214200" y="1285920"/>
            <a:ext cx="450216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1579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7030a0"/>
                </a:solidFill>
                <a:latin typeface="Calibri"/>
              </a:rPr>
              <a:t>Город Таганрог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Picture 3" descr="C:\Documents and Settings\User\Рабочий стол\Город Таганрог (Родина Чехова , Ф....jpg"/>
          <p:cNvPicPr/>
          <p:nvPr/>
        </p:nvPicPr>
        <p:blipFill>
          <a:blip r:embed="rId1"/>
          <a:stretch/>
        </p:blipFill>
        <p:spPr>
          <a:xfrm>
            <a:off x="406440" y="1357200"/>
            <a:ext cx="823752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57160" y="514080"/>
            <a:ext cx="257184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2928960" cy="52149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юст А.П. Чехова в парке Гурзуфского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2" descr="C:\Documents and Settings\User\Рабочий стол\Бюст А.П. Чехова в парке Гурзуфского.jpg"/>
          <p:cNvPicPr/>
          <p:nvPr/>
        </p:nvPicPr>
        <p:blipFill>
          <a:blip r:embed="rId1"/>
          <a:stretch/>
        </p:blipFill>
        <p:spPr>
          <a:xfrm>
            <a:off x="3789360" y="428760"/>
            <a:ext cx="50688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043840" cy="8571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7030a0"/>
                </a:solidFill>
                <a:latin typeface="Calibri"/>
              </a:rPr>
              <a:t>Биография А.П. Чехо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3280" y="1142640"/>
            <a:ext cx="4500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он Павлович Чехов происходил не из потомственных интеллигентов. Он очень быстро повзрослел. «Я презираю лень, как презираю слабость и вялость душевных движений»... Чехов был совсем одинок в жизни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изнью, общественными вопросами, Чехов даже очень и очень интересовался – правда, со своей, особой точки зрения – негодовал на своих критиков, обвинявших его в индифферентизм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2" descr="C:\Documents and Settings\User\Рабочий стол\a11.jpg"/>
          <p:cNvPicPr/>
          <p:nvPr/>
        </p:nvPicPr>
        <p:blipFill>
          <a:blip r:embed="rId1"/>
          <a:stretch/>
        </p:blipFill>
        <p:spPr>
          <a:xfrm>
            <a:off x="-36360" y="1143000"/>
            <a:ext cx="4822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00920" y="-325080"/>
            <a:ext cx="164304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713880"/>
            <a:ext cx="3500280" cy="59295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 моим мыслям о человеческом счастье всегда почему-то примешивалось что-то грустное... Я соображал: как, в сущности, много довольных, счастливых людей! Какая подавляющая сила! Вы загляните на эту жизнь: наглость и праздность сильных, невежество и скотоподобие  слабых, кругом бедность невозможная, теснота, вырождение, пьянство, лицемерие, враньё...» (Чехов А.П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C:\Documents and Settings\User\Рабочий стол\Групповые фотографии А.П.Чехова..jpg"/>
          <p:cNvPicPr/>
          <p:nvPr/>
        </p:nvPicPr>
        <p:blipFill>
          <a:blip r:embed="rId1"/>
          <a:stretch/>
        </p:blipFill>
        <p:spPr>
          <a:xfrm>
            <a:off x="3633840" y="642960"/>
            <a:ext cx="54529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360" y="704880"/>
            <a:ext cx="76150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7030a0"/>
                </a:solidFill>
                <a:latin typeface="Calibri"/>
              </a:rPr>
              <a:t>Обличение пороков общества в рассказах А.П.Чехов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выше человек по умственному и нравственному развитию, тем он свободнее, тем большее удовольствие доставляет ему жизнь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. П. Чехов 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6" descr=""/>
          <p:cNvPicPr/>
          <p:nvPr/>
        </p:nvPicPr>
        <p:blipFill>
          <a:blip r:embed="rId1"/>
          <a:stretch/>
        </p:blipFill>
        <p:spPr>
          <a:xfrm>
            <a:off x="493560" y="36360"/>
            <a:ext cx="8321760" cy="1395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4672080" y="1214280"/>
            <a:ext cx="447192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C:\Documents and Settings\User\Рабочий стол\73949.jpg"/>
          <p:cNvPicPr/>
          <p:nvPr/>
        </p:nvPicPr>
        <p:blipFill>
          <a:blip r:embed="rId2"/>
          <a:stretch/>
        </p:blipFill>
        <p:spPr>
          <a:xfrm>
            <a:off x="2000160" y="1143000"/>
            <a:ext cx="43531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28800" y="704520"/>
            <a:ext cx="7758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ма ответственности человека за свою судьбу в прозе А.П.Чехов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13840" y="1357200"/>
            <a:ext cx="4281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 Чехова - человека и писателя - не тускнеет, он остается дорогим для людей всех стран и континентов. А. П. Чехов глубоко убежден, что каждый человек сам несет ответственность за свою судьбу и никакие жизненные удобства не должны влиять на его выбор. Герои многих рассказов Чехова сдаются, попав в атмосферу мещанства, перестают бороться и действовать. Однако Чехов убежден: “Тогда человек станет лучше, когда вы покажете ему, каков он есть”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2" descr="C:\Documents and Settings\User\Рабочий стол\44454748_chehov.jpg"/>
          <p:cNvPicPr/>
          <p:nvPr/>
        </p:nvPicPr>
        <p:blipFill>
          <a:blip r:embed="rId1"/>
          <a:stretch/>
        </p:blipFill>
        <p:spPr>
          <a:xfrm>
            <a:off x="4572000" y="1285920"/>
            <a:ext cx="44290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785680" y="52560"/>
            <a:ext cx="590076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0040" y="1285560"/>
            <a:ext cx="3997440" cy="122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Автограф А. П. Чехова к 'Ионыч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0" y="1571400"/>
            <a:ext cx="4214880" cy="4714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“</a:t>
            </a: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оныч” - один из рассказов писателя, предостерегающий и напоминающий нам о том, что наша судьба в наших руках, мы в ответе за то, что будет в нашей жизни, нужно всегда беречь в себе человек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3" descr="C:\Documents and Settings\User\Рабочий стол\000037.jpg"/>
          <p:cNvPicPr/>
          <p:nvPr/>
        </p:nvPicPr>
        <p:blipFill>
          <a:blip r:embed="rId1"/>
          <a:stretch/>
        </p:blipFill>
        <p:spPr>
          <a:xfrm>
            <a:off x="262080" y="2571840"/>
            <a:ext cx="4309920" cy="40719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-360" y="2357280"/>
            <a:ext cx="44974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85520" y="704520"/>
            <a:ext cx="790092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ма маленького человека в произведениях А.П.Чехо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142880" y="1920960"/>
            <a:ext cx="454356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 сколько еще таких человеков в футляре осталось, сколько их еще будет!» А П. Чехов. Центральная тема всего творчества Чехова - протест против пошлости, обывательщины, духовного мещанст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C:\Documents and Settings\User\Рабочий стол\chehov_38.jpg"/>
          <p:cNvPicPr/>
          <p:nvPr/>
        </p:nvPicPr>
        <p:blipFill>
          <a:blip r:embed="rId1"/>
          <a:stretch/>
        </p:blipFill>
        <p:spPr>
          <a:xfrm>
            <a:off x="357120" y="1633680"/>
            <a:ext cx="351972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4240" y="704880"/>
            <a:ext cx="797256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«Берегите в себе человека!»</a:t>
            </a:r>
            <a:br>
              <a:rPr sz="48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286160" y="1142640"/>
            <a:ext cx="45720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етие отделяет нас от времени создания этих небольших по объему, но таких глубоких по содержанию рассказов Антона Павловича Чехова. Антон Павлович Чехов — насмешливый и гневный, иронически улыбающийся и грустный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изненная позиция писателя: «В человеке все должно быть прекрасно: и лицо, и одежда, и душа, и мысли», объясняет ненависть Чехова к любому нравственному и умственному убожеству, душевной вялости, пошлости, ограничен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2" descr="C:\Documents and Settings\User\Рабочий стол\c607031578a0.jpg"/>
          <p:cNvPicPr/>
          <p:nvPr/>
        </p:nvPicPr>
        <p:blipFill>
          <a:blip r:embed="rId1"/>
          <a:stretch/>
        </p:blipFill>
        <p:spPr>
          <a:xfrm>
            <a:off x="214200" y="1087560"/>
            <a:ext cx="38577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</cp:lastModifiedBy>
  <dcterms:modified xsi:type="dcterms:W3CDTF">2010-03-16T06:41:09Z</dcterms:modified>
  <cp:revision>18</cp:revision>
  <dc:subject/>
  <dc:title>«Берегите в себе человека!» ( А.П.Чехов)</dc:title>
</cp:coreProperties>
</file>