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0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00BE-D1C4-4A85-8C1B-D4090AE79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5FE6-9594-4F35-A37E-5D45D180B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85EE-10E9-41B5-837E-75F605176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F276-1FA2-413A-B84E-75AE2C08C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E60A4-6835-4AB7-B445-E1DB27824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0B473-1101-4F75-BF20-2755DF002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883E6-CA98-4380-B06A-4136FE4BB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87A52-8C98-4390-9335-5AAD19980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510FC-B4FE-463C-915E-E674BD56A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207A6-896F-452E-8235-477740468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344C5-0511-4543-9386-D831DC0DF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A7FE-2972-42DD-A390-42E46E13B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EAEEF-4FA0-41D0-800C-1277BC2D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FC05E-A88B-4BAA-9CC3-ABB369C71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F4E14-D42E-48AC-B0D1-0AF1EC75B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9C90E-8228-4BCD-93E9-2CBA27CA9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B3A14-269F-441A-972C-A9E74584D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7EDEA-4123-4A8E-A010-00A041A13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7A80D-3222-4E59-9561-26A3E66B2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CF0E9-FDD0-436E-9122-9B614EDBE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9682C-2492-4762-A8E8-CC28A6D7D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518FD-08CA-4408-AF12-EB7A506E6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8F9E-CF23-4DCD-B75F-EA2099339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4DB5E-B321-47D5-B475-7E720041F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BCA8D-58B3-4348-A07F-EE8CC3A9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C6153-5DB2-499B-9582-D57AFDD0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D8DAC-FCF1-4BDA-BECC-F6F47F258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59A13-9BB3-4E72-BD88-AE53E63ED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7E8D0-7F0E-450A-B866-B8B2F6EE3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2F5B8-B8CF-4B2D-9488-9DADEFE17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870CE-B82B-4E5A-958A-4425C58CD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9D867-B4B0-41DC-B36E-8AAA93542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5B5DA-3A84-4EFA-949A-439B90BD5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C797-EC6D-442F-8A69-D555E8626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18F36-7AF8-4C59-BA34-94483F058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91743-322C-462A-B06C-A44EBB887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18712-8BCF-4888-96F2-4FCC7269D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28B04-A1AE-43F7-885C-B05E0757C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BEE11-92F5-4AD9-8738-CD954CD0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DF0C3-CF60-401D-98BD-F405D73A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18C38-F472-43C7-814F-BF5A289EA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39F03-7C88-4CF1-BB59-4FC0B22DE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45497-FC3F-4B8C-9568-0C9639C0A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CC5D-3FC2-47B5-9B59-C55C32692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42AF-6697-49B1-86B5-C3E3C49BF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1B13-10DE-43E4-A542-6D9863DC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D3AE-770D-4A8B-8B6E-D01CED0D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4DAA-89EB-469F-9240-8F4AE9267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6BD91-0933-4ECC-A314-1F5305F5914E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243EA-243D-4AF1-B4FB-2C57AFA242A3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8A292-BDB1-4680-8755-826DF62D446F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80D41-49C4-4B93-A479-00701C770709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853920" y="5248440"/>
            <a:ext cx="7991640" cy="14508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356760" y="-360"/>
            <a:ext cx="84819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2" descr="C:\Documents and Settings\User\Рабочий стол\pic2573_738d47_350x495.jpg"/>
          <p:cNvPicPr/>
          <p:nvPr/>
        </p:nvPicPr>
        <p:blipFill>
          <a:blip r:embed="rId2"/>
          <a:stretch/>
        </p:blipFill>
        <p:spPr>
          <a:xfrm>
            <a:off x="2571840" y="0"/>
            <a:ext cx="448308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52560"/>
            <a:ext cx="4686480" cy="73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785840" y="1428480"/>
            <a:ext cx="4110120" cy="48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 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«Берегите в себе человека!»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восклицает мудрый, насмешливый и очень добрый Антон Павлович Чехов. И эти слова, переживающие столетие, живут в каждом из нас, делая читателя чуточку лучше, сильнее, гуманнее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2" descr="C:\Documents and Settings\User\Рабочий стол\128937_image_large.jpg"/>
          <p:cNvPicPr/>
          <p:nvPr/>
        </p:nvPicPr>
        <p:blipFill>
          <a:blip r:embed="rId1"/>
          <a:stretch/>
        </p:blipFill>
        <p:spPr>
          <a:xfrm>
            <a:off x="214200" y="1285920"/>
            <a:ext cx="450216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71320" y="356760"/>
            <a:ext cx="81579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7030a0"/>
                </a:solidFill>
                <a:latin typeface="Calibri"/>
              </a:rPr>
              <a:t>Город Таганрог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8" name="Picture 3" descr="C:\Documents and Settings\User\Рабочий стол\Город Таганрог (Родина Чехова , Ф....jpg"/>
          <p:cNvPicPr/>
          <p:nvPr/>
        </p:nvPicPr>
        <p:blipFill>
          <a:blip r:embed="rId1"/>
          <a:stretch/>
        </p:blipFill>
        <p:spPr>
          <a:xfrm>
            <a:off x="406440" y="1357200"/>
            <a:ext cx="8237520" cy="51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57160" y="514080"/>
            <a:ext cx="2571840" cy="842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00040" y="1357200"/>
            <a:ext cx="2928960" cy="52149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Бюст А.П. Чехова в парке Гурзуфского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1" name="Picture 2" descr="C:\Documents and Settings\User\Рабочий стол\Бюст А.П. Чехова в парке Гурзуфского.jpg"/>
          <p:cNvPicPr/>
          <p:nvPr/>
        </p:nvPicPr>
        <p:blipFill>
          <a:blip r:embed="rId1"/>
          <a:stretch/>
        </p:blipFill>
        <p:spPr>
          <a:xfrm>
            <a:off x="3789360" y="428760"/>
            <a:ext cx="506880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043840" cy="8571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7030a0"/>
                </a:solidFill>
                <a:latin typeface="Calibri"/>
              </a:rPr>
              <a:t>Биография А.П. Чехов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643280" y="1142640"/>
            <a:ext cx="4500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он Павлович Чехов происходил не из потомственных интеллигентов. Он очень быстро повзрослел. «Я презираю лень, как презираю слабость и вялость душевных движений»... Чехов был совсем одинок в жизни.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Жизнью, общественными вопросами, Чехов даже очень и очень интересовался – правда, со своей, особой точки зрения – негодовал на своих критиков, обвинявших его в индифферентизм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0" name="Picture 2" descr="C:\Documents and Settings\User\Рабочий стол\a11.jpg"/>
          <p:cNvPicPr/>
          <p:nvPr/>
        </p:nvPicPr>
        <p:blipFill>
          <a:blip r:embed="rId1"/>
          <a:stretch/>
        </p:blipFill>
        <p:spPr>
          <a:xfrm>
            <a:off x="-36360" y="1143000"/>
            <a:ext cx="48225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000920" y="-325080"/>
            <a:ext cx="164304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-360" y="713880"/>
            <a:ext cx="3500280" cy="59295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 моим мыслям о человеческом счастье всегда почему-то примешивалось что-то грустное... Я соображал: как, в сущности, много довольных, счастливых людей! Какая подавляющая сила! Вы загляните на эту жизнь: наглость и праздность сильных, невежество и скотоподобие  слабых, кругом бедность невозможная, теснота, вырождение, пьянство, лицемерие, враньё...» (Чехов А.П.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574800" y="1676520"/>
            <a:ext cx="5111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4" name="Picture 2" descr="C:\Documents and Settings\User\Рабочий стол\Групповые фотографии А.П.Чехова..jpg"/>
          <p:cNvPicPr/>
          <p:nvPr/>
        </p:nvPicPr>
        <p:blipFill>
          <a:blip r:embed="rId1"/>
          <a:stretch/>
        </p:blipFill>
        <p:spPr>
          <a:xfrm>
            <a:off x="3633840" y="642960"/>
            <a:ext cx="545292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71360" y="704880"/>
            <a:ext cx="76150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4500" spc="-1" strike="noStrike">
                <a:solidFill>
                  <a:srgbClr val="7030a0"/>
                </a:solidFill>
                <a:latin typeface="Calibri"/>
              </a:rPr>
              <a:t>Обличение пороков общества в рассказах А.П.Чехов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выше человек по умственному и нравственному развитию, тем он свободнее, тем большее удовольствие доставляет ему жизнь.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. П. Чехов )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Заголовок 6" descr=""/>
          <p:cNvPicPr/>
          <p:nvPr/>
        </p:nvPicPr>
        <p:blipFill>
          <a:blip r:embed="rId1"/>
          <a:stretch/>
        </p:blipFill>
        <p:spPr>
          <a:xfrm>
            <a:off x="493560" y="36360"/>
            <a:ext cx="8321760" cy="13957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 txBox="1"/>
          <p:nvPr/>
        </p:nvSpPr>
        <p:spPr>
          <a:xfrm>
            <a:off x="4672080" y="1214280"/>
            <a:ext cx="4471920" cy="54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Picture 2" descr="C:\Documents and Settings\User\Рабочий стол\73949.jpg"/>
          <p:cNvPicPr/>
          <p:nvPr/>
        </p:nvPicPr>
        <p:blipFill>
          <a:blip r:embed="rId2"/>
          <a:stretch/>
        </p:blipFill>
        <p:spPr>
          <a:xfrm>
            <a:off x="2000160" y="1143000"/>
            <a:ext cx="4353120" cy="55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28800" y="704520"/>
            <a:ext cx="77580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ема ответственности человека за свою судьбу в прозе А.П.Чехова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13840" y="1357200"/>
            <a:ext cx="42814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к Чехова - человека и писателя - не тускнеет, он остается дорогим для людей всех стран и континентов. А. П. Чехов глубоко убежден, что каждый человек сам несет ответственность за свою судьбу и никакие жизненные удобства не должны влиять на его выбор. Герои многих рассказов Чехова сдаются, попав в атмосферу мещанства, перестают бороться и действовать. Однако Чехов убежден: “Тогда человек станет лучше, когда вы покажете ему, каков он есть”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Picture 2" descr="C:\Documents and Settings\User\Рабочий стол\44454748_chehov.jpg"/>
          <p:cNvPicPr/>
          <p:nvPr/>
        </p:nvPicPr>
        <p:blipFill>
          <a:blip r:embed="rId1"/>
          <a:stretch/>
        </p:blipFill>
        <p:spPr>
          <a:xfrm>
            <a:off x="4572000" y="1285920"/>
            <a:ext cx="442908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785680" y="52560"/>
            <a:ext cx="5900760" cy="73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0040" y="1285560"/>
            <a:ext cx="3997440" cy="1228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onstantia"/>
              </a:rPr>
              <a:t>Автограф А. П. Чехова к 'Ионычу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0" y="1571400"/>
            <a:ext cx="4214880" cy="4714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“</a:t>
            </a:r>
            <a:r>
              <a:rPr b="0" lang="ru-RU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Ионыч” - один из рассказов писателя, предостерегающий и напоминающий нам о том, что наша судьба в наших руках, мы в ответе за то, что будет в нашей жизни, нужно всегда беречь в себе человека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6" name="Picture 3" descr="C:\Documents and Settings\User\Рабочий стол\000037.jpg"/>
          <p:cNvPicPr/>
          <p:nvPr/>
        </p:nvPicPr>
        <p:blipFill>
          <a:blip r:embed="rId1"/>
          <a:stretch/>
        </p:blipFill>
        <p:spPr>
          <a:xfrm>
            <a:off x="262080" y="2571840"/>
            <a:ext cx="4309920" cy="407196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-360" y="2357280"/>
            <a:ext cx="449748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85520" y="704520"/>
            <a:ext cx="790092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ема маленького человека в произведениях А.П.Чехов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142880" y="1920960"/>
            <a:ext cx="454356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А сколько еще таких человеков в футляре осталось, сколько их еще будет!» А П. Чехов. Центральная тема всего творчества Чехова - протест против пошлости, обывательщины, духовного мещанств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2" descr="C:\Documents and Settings\User\Рабочий стол\chehov_38.jpg"/>
          <p:cNvPicPr/>
          <p:nvPr/>
        </p:nvPicPr>
        <p:blipFill>
          <a:blip r:embed="rId1"/>
          <a:stretch/>
        </p:blipFill>
        <p:spPr>
          <a:xfrm>
            <a:off x="357120" y="1633680"/>
            <a:ext cx="3519720" cy="47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14240" y="704880"/>
            <a:ext cx="797256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Calibri"/>
              </a:rPr>
              <a:t>«Берегите в себе человека!»</a:t>
            </a:r>
            <a:br>
              <a:rPr sz="4800"/>
            </a:b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286160" y="1142640"/>
            <a:ext cx="457200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летие отделяет нас от времени создания этих небольших по объему, но таких глубоких по содержанию рассказов Антона Павловича Чехова. Антон Павлович Чехов — насмешливый и гневный, иронически улыбающийся и грустный.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Жизненная позиция писателя: «В человеке все должно быть прекрасно: и лицо, и одежда, и душа, и мысли», объясняет ненависть Чехова к любому нравственному и умственному убожеству, душевной вялости, пошлости, ограниченност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2" descr="C:\Documents and Settings\User\Рабочий стол\c607031578a0.jpg"/>
          <p:cNvPicPr/>
          <p:nvPr/>
        </p:nvPicPr>
        <p:blipFill>
          <a:blip r:embed="rId1"/>
          <a:stretch/>
        </p:blipFill>
        <p:spPr>
          <a:xfrm>
            <a:off x="214200" y="1087560"/>
            <a:ext cx="385776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hool</cp:lastModifiedBy>
  <dcterms:modified xsi:type="dcterms:W3CDTF">2010-03-16T06:41:09Z</dcterms:modified>
  <cp:revision>18</cp:revision>
  <dc:subject/>
  <dc:title>«Берегите в себе человека!» ( А.П.Чехов)</dc:title>
</cp:coreProperties>
</file>