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FB5-4350-4E38-A99C-B48121BF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DC8-CD26-4BCE-B0CC-64C8A91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2F0-E82C-4687-865F-0FA72EFA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DCF-CAB5-46C3-8C2E-0B4874A4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EF2-2A22-4EDB-A300-0233672D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BF7-3F0D-47B8-ADF9-B2D4433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6D7-A32C-4DA9-A754-551221D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4BF-345D-4970-B41A-EF300C7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C4D-F7CD-4D8D-9E49-0AADFF3D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33C-3F5B-4D44-9E74-B52C67A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353-3E89-43A7-8FD0-35F98127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065-9234-4E46-9D00-4CAA805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6A8-0DC3-47FC-9438-9632144FB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2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LitvinovaSN\Мои документы\Мои рисунки\доктор.jpg"/>
          <p:cNvPicPr/>
          <p:nvPr/>
        </p:nvPicPr>
        <p:blipFill>
          <a:blip r:embed="rId2"/>
          <a:stretch/>
        </p:blipFill>
        <p:spPr>
          <a:xfrm>
            <a:off x="511200" y="228600"/>
            <a:ext cx="4546440" cy="6324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Игра дошколь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60195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5800" y="9907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ДИДАКТИЧЕСКИ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2895480"/>
            <a:ext cx="274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Century"/>
              </a:rPr>
              <a:t>   </a:t>
            </a: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ИГРЫ-ДРАМАТИЗАЦИИ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09480" y="3657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entury"/>
              </a:rPr>
              <a:t>       </a:t>
            </a: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60020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entury"/>
              </a:rPr>
              <a:t>   </a:t>
            </a:r>
            <a:r>
              <a:rPr b="1" lang="ru-RU" sz="3200" spc="-1" strike="noStrike">
                <a:solidFill>
                  <a:srgbClr val="993300"/>
                </a:solidFill>
                <a:latin typeface="Century"/>
              </a:rPr>
              <a:t>  </a:t>
            </a:r>
            <a:r>
              <a:rPr b="1" lang="en-US" sz="3200" spc="-1" strike="noStrike">
                <a:solidFill>
                  <a:srgbClr val="993300"/>
                </a:solidFill>
                <a:latin typeface="Century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Century"/>
              </a:rPr>
              <a:t>НАСТОЛЬНО-ПЕЧАТ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AutoShape 8">
            <a:hlinkClick r:id="rId1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7493"/>
                </a:moveTo>
                <a:lnTo>
                  <a:pt x="22415" y="7493"/>
                </a:lnTo>
                <a:lnTo>
                  <a:pt x="22415" y="12828"/>
                </a:lnTo>
                <a:cubicBezTo>
                  <a:pt x="22415" y="13751"/>
                  <a:pt x="23216" y="14482"/>
                  <a:pt x="24251" y="14482"/>
                </a:cubicBezTo>
                <a:lnTo>
                  <a:pt x="25914" y="14482"/>
                </a:lnTo>
                <a:cubicBezTo>
                  <a:pt x="26950" y="14482"/>
                  <a:pt x="27750" y="13751"/>
                  <a:pt x="27750" y="12828"/>
                </a:cubicBezTo>
                <a:lnTo>
                  <a:pt x="27750" y="7493"/>
                </a:lnTo>
                <a:lnTo>
                  <a:pt x="25914" y="7493"/>
                </a:lnTo>
                <a:lnTo>
                  <a:pt x="29421" y="3985"/>
                </a:lnTo>
                <a:lnTo>
                  <a:pt x="33094" y="7493"/>
                </a:lnTo>
                <a:lnTo>
                  <a:pt x="31258" y="7493"/>
                </a:lnTo>
                <a:lnTo>
                  <a:pt x="31258" y="12828"/>
                </a:lnTo>
                <a:cubicBezTo>
                  <a:pt x="31258" y="15596"/>
                  <a:pt x="28682" y="18155"/>
                  <a:pt x="25914" y="18155"/>
                </a:cubicBezTo>
                <a:lnTo>
                  <a:pt x="24251" y="18155"/>
                </a:lnTo>
                <a:cubicBezTo>
                  <a:pt x="21484" y="18155"/>
                  <a:pt x="18907" y="15596"/>
                  <a:pt x="18907" y="12828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06668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Обучающие игр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657600" y="1000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ПОДВИЖ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438280" y="4191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ТЕАТРАЛИЗОВАННЫЕ ИГР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200400" y="3230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ИГРЫ-ЗАБАВЫ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791320" y="31082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entury"/>
              </a:rPr>
              <a:t>ИНТЕЛЛЕКТУАЛЬНЫЕ 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012000" y="1143000"/>
            <a:ext cx="29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СЮЖЕТНО-ДИДАКТИЧЕСКИЕ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905120" y="1752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entury"/>
              </a:rPr>
              <a:t>Досуговые игры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2895120" y="7621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6781680" y="685800"/>
            <a:ext cx="9144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952880" y="762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Line 21"/>
          <p:cNvSpPr/>
          <p:nvPr/>
        </p:nvSpPr>
        <p:spPr>
          <a:xfrm flipH="1">
            <a:off x="2057400" y="2590920"/>
            <a:ext cx="1371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Line 25"/>
          <p:cNvSpPr/>
          <p:nvPr/>
        </p:nvSpPr>
        <p:spPr>
          <a:xfrm>
            <a:off x="6629400" y="28195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>
            <a:hlinkClick r:id="rId2" action="ppaction://hlinksldjump"/>
          </p:cNvPr>
          <p:cNvSpPr/>
          <p:nvPr/>
        </p:nvSpPr>
        <p:spPr>
          <a:xfrm>
            <a:off x="830592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3733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Обряд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AutoShape 5"/>
          <p:cNvSpPr/>
          <p:nvPr/>
        </p:nvSpPr>
        <p:spPr>
          <a:xfrm flipH="1" flipV="1">
            <a:off x="1904400" y="1676520"/>
            <a:ext cx="571500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Impact"/>
              </a:rPr>
              <a:t>Народные игры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971800" y="3733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Досуг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63868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Impact"/>
              </a:rPr>
              <a:t>Тренингов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1447920" y="2743200"/>
            <a:ext cx="83808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4419720" y="2743200"/>
            <a:ext cx="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6781680" y="2743200"/>
            <a:ext cx="609840" cy="91440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imes New Roman"/>
              </a:rPr>
              <a:t>Формирование </a:t>
            </a:r>
            <a:r>
              <a:rPr b="0" lang="ru-RU" sz="44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игрового взаимодейст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развитию ориентации ребенка в способах социальных отношений взросл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формированию умений вербального и невербального воздействия друг на друга с целью возникновения и функционирования совместной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</a:rPr>
              <a:t>      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совершенствованию ролевого поведения в иг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Þ 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Impact"/>
                <a:ea typeface="Times New Roman"/>
              </a:rPr>
              <a:t>воспитанию умений понимать и принимать действия сверстника, оказывать помощь при возникновении труд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905120" y="1981080"/>
            <a:ext cx="5867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Lucida Sans Unicode"/>
              </a:rPr>
              <a:t>способствует: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8" dur="3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1" dur="3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4" dur="3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3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Impact"/>
              </a:rPr>
              <a:t>Игровое взаимодействие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гласованные и взаимосвязанные игровые действия детей </a:t>
            </a:r>
            <a:r>
              <a:rPr b="1" lang="ru-RU" sz="2000" spc="-1" strike="noStrike">
                <a:solidFill>
                  <a:srgbClr val="990033"/>
                </a:solidFill>
                <a:latin typeface="Century"/>
              </a:rPr>
              <a:t>(А.П. Усов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cc0099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entury"/>
              </a:rPr>
              <a:t>Процесс взаимоотношений дошкольников с партнером по игре  (Д.В. Менджерицкая, Р.И. Жуковска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Garamond"/>
              </a:rPr>
              <a:t>Процесс обмена дошкольниками игровыми действиями</a:t>
            </a:r>
            <a:r>
              <a:rPr b="1" lang="ru-RU" sz="2000" spc="-1" strike="noStrike">
                <a:solidFill>
                  <a:srgbClr val="990099"/>
                </a:solidFill>
                <a:latin typeface="Century Gothic"/>
              </a:rPr>
              <a:t>  и </a:t>
            </a:r>
            <a:r>
              <a:rPr b="1" lang="ru-RU" sz="2000" spc="-1" strike="noStrike">
                <a:solidFill>
                  <a:srgbClr val="990099"/>
                </a:solidFill>
                <a:latin typeface="Garamond"/>
              </a:rPr>
              <a:t>метакоммуникация </a:t>
            </a:r>
            <a:r>
              <a:rPr b="1" lang="ru-RU" sz="2000" spc="-1" strike="noStrike">
                <a:solidFill>
                  <a:srgbClr val="990099"/>
                </a:solidFill>
                <a:latin typeface="Century"/>
              </a:rPr>
              <a:t>(Н.Я. Михайленк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О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  <a:ea typeface="Times New Roman"/>
              </a:rPr>
              <a:t>пределенный тип поведения ребенка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,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  <a:ea typeface="Times New Roman"/>
              </a:rPr>
              <a:t>  который опосредуется ролью, способами взаимодействия (предметно-игровыми, ролевыми, вербальными, невербальными) с партнерами по деятельности и отношением ребенка к сверстникам</a:t>
            </a:r>
            <a:r>
              <a:rPr b="1" lang="ru-RU" sz="20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(Литвинова С.Н.)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rId2" action="ppaction://hlinksldjump"/>
          </p:cNvPr>
          <p:cNvSpPr/>
          <p:nvPr/>
        </p:nvSpPr>
        <p:spPr>
          <a:xfrm>
            <a:off x="8229600" y="62485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Схемы взаимодействия дошкольников в иг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066680" y="2666880"/>
            <a:ext cx="762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286000" y="2666880"/>
            <a:ext cx="762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914400" y="4267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Одиночны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8" name="Picture 31" descr="C:\Documents and Settings\LitvinovaSN\Мои документы\Литвинова\предметные действия.bmp"/>
          <p:cNvPicPr/>
          <p:nvPr/>
        </p:nvPicPr>
        <p:blipFill>
          <a:blip r:embed="rId2"/>
          <a:stretch/>
        </p:blipFill>
        <p:spPr>
          <a:xfrm>
            <a:off x="4572000" y="3733920"/>
            <a:ext cx="2286000" cy="3124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2"/>
          <p:cNvSpPr/>
          <p:nvPr/>
        </p:nvSpPr>
        <p:spPr>
          <a:xfrm>
            <a:off x="1828800" y="34290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57200" y="54864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Предметное взаимодейств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1905120" y="47242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1143000" y="2743200"/>
            <a:ext cx="685800" cy="3988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2362320" y="2743200"/>
            <a:ext cx="609480" cy="368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4" name="Picture 38" descr="C:\Documents and Settings\LitvinovaSN\Мои документы\Мои рисунки\кормление игрушки.jpg"/>
          <p:cNvPicPr/>
          <p:nvPr/>
        </p:nvPicPr>
        <p:blipFill>
          <a:blip r:embed="rId3"/>
          <a:stretch/>
        </p:blipFill>
        <p:spPr>
          <a:xfrm>
            <a:off x="5334120" y="1523880"/>
            <a:ext cx="2895480" cy="2067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9"/>
          <p:cNvSpPr/>
          <p:nvPr/>
        </p:nvSpPr>
        <p:spPr>
          <a:xfrm>
            <a:off x="1905120" y="2819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75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Times New Roman"/>
              </a:rPr>
              <a:t>Схемы взаимодействия дошкольников в игре (продолжени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38080" y="2362320"/>
            <a:ext cx="762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209680" y="2362320"/>
            <a:ext cx="83844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Св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85800" y="3809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Игры-рядом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1752480" y="3048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9" descr="C:\Documents and Settings\LitvinovaSN\Мои документы\Литвинова\игры-рядом.bmp"/>
          <p:cNvPicPr/>
          <p:nvPr/>
        </p:nvPicPr>
        <p:blipFill>
          <a:blip r:embed="rId2"/>
          <a:stretch/>
        </p:blipFill>
        <p:spPr>
          <a:xfrm>
            <a:off x="4191120" y="2209680"/>
            <a:ext cx="434340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"/>
          <p:cNvSpPr/>
          <p:nvPr/>
        </p:nvSpPr>
        <p:spPr>
          <a:xfrm>
            <a:off x="1676520" y="2514600"/>
            <a:ext cx="457200" cy="380880"/>
          </a:xfrm>
          <a:prstGeom prst="leftRightArrow">
            <a:avLst>
              <a:gd name="adj1" fmla="val 50000"/>
              <a:gd name="adj2" fmla="val 23896"/>
            </a:avLst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1752480" y="44197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80880" y="51814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Impact"/>
              </a:rPr>
              <a:t>Предметно-игровое взаимодейств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Типы побуждений к игровому взаимодейств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523880"/>
          <a:ext cx="8686800" cy="4899240"/>
        </p:xfrm>
        <a:graphic>
          <a:graphicData uri="http://schemas.openxmlformats.org/drawingml/2006/table">
            <a:tbl>
              <a:tblPr/>
              <a:tblGrid>
                <a:gridCol w="838080"/>
                <a:gridCol w="1981440"/>
                <a:gridCol w="1904760"/>
                <a:gridCol w="1981440"/>
                <a:gridCol w="1981080"/>
              </a:tblGrid>
              <a:tr h="439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отношение типов побужд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игру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р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импат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Интерес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-4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4-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5-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опутствую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990000"/>
                          </a:solidFill>
                          <a:uFillTx/>
                          <a:latin typeface="Times New Roman"/>
                        </a:rPr>
                        <a:t>ведущ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Impact"/>
              </a:rPr>
              <a:t>Методы руководства игрой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75880" y="2743200"/>
            <a:ext cx="343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Impact"/>
                <a:hlinkClick r:id="rId1" action="ppaction://hlinksldjump"/>
              </a:rPr>
              <a:t>Прям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76920" y="301788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Impact"/>
                <a:hlinkClick r:id="rId2" action="ppaction://hlinksldjump"/>
              </a:rPr>
              <a:t>Косвенн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47920" y="44197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Комплексного руководств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0020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65320" y="113508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Ролевое участие воспитателя в игр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71600" y="2438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Участие в сговоре на игру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71600" y="3733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Разъяснение, помощь, совет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828800" y="525780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Обсуждение игр с перспективой на ее дальнейшее развитие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295280" y="1371600"/>
            <a:ext cx="685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Обогащение представлений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Рассматривание иллюстраций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Внесение игрушек;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2001"/>
              </a:spcBef>
              <a:buClr>
                <a:srgbClr val="99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Impact"/>
              </a:rPr>
              <a:t>Использование сюрпризных моментов.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8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66"/>
                </a:solidFill>
                <a:latin typeface="Times New Roman"/>
              </a:rPr>
              <a:t>Сюжетно-ролевая игра-ведущий вид деятельности дошкольн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Игра –детская самодеятельность, которая является основным содержанием жизни дошколь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Игра-модель социальных отношений взрослых (</a:t>
            </a:r>
            <a:r>
              <a:rPr b="0" lang="ru-RU" sz="32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Д.Б. Эльконин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 игре формируются личностные каче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295280" y="990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Планомерное обогащение опыта детей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2133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Обучающи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95280" y="3429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Изменение предметно-развивающей сред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48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Impact"/>
              </a:rPr>
              <a:t>Активизирующее общение воспитателя с детьми в процессе игры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Методы формирования игрового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304920" y="1905120"/>
            <a:ext cx="18288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наблюде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80880" y="3048120"/>
            <a:ext cx="175284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экскурсси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380880" y="5486400"/>
            <a:ext cx="1828800" cy="1143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Чтение худ.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литерату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304920" y="4343400"/>
            <a:ext cx="1828800" cy="11430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рассматрива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ллюстрац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3124080" y="2514600"/>
            <a:ext cx="1828800" cy="1143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Обучающие 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3200400" y="3886200"/>
            <a:ext cx="1828800" cy="11430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Тренинговы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Oval 18"/>
          <p:cNvSpPr/>
          <p:nvPr/>
        </p:nvSpPr>
        <p:spPr>
          <a:xfrm>
            <a:off x="6248520" y="2514600"/>
            <a:ext cx="1828800" cy="11430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проблемны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304920" y="1066680"/>
            <a:ext cx="1828800" cy="609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971800" y="1219320"/>
            <a:ext cx="2133720" cy="609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Ребенок-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791320" y="1143000"/>
            <a:ext cx="2666880" cy="609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Ребенок- ребенок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Impact"/>
              </a:rPr>
              <a:t>взрослый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990720" y="16765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AutoShape 31"/>
          <p:cNvSpPr/>
          <p:nvPr/>
        </p:nvSpPr>
        <p:spPr>
          <a:xfrm>
            <a:off x="3809880" y="19051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934320" y="19051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993300"/>
              </a:gs>
              <a:gs pos="100000">
                <a:srgbClr val="471800"/>
              </a:gs>
            </a:gsLst>
            <a:lin ang="5400000"/>
          </a:gra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entury"/>
              </a:rPr>
              <a:t>Обогащение содержания иг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Э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кскурс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и наблюден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я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необходимо строить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по следующей модели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п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ервичное восприятие окружающей обстановки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«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Дети, посмотрите, где работает продавец. Обратите внимание, какие он использует предметы, для того, чтобы выполнять свою работу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»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  <a:ea typeface="Times New Roman"/>
              </a:rPr>
              <a:t>)</a:t>
            </a:r>
            <a:r>
              <a:rPr b="0" i="1" lang="ru-RU" sz="2000" spc="-1" strike="noStrike">
                <a:solidFill>
                  <a:srgbClr val="993300"/>
                </a:solidFill>
                <a:latin typeface="Century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-   </a:t>
            </a: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наблюдение и анализ непосредственной деятельности взрослого</a:t>
            </a:r>
            <a:r>
              <a:rPr b="0" i="1" lang="ru-RU" sz="2000" spc="-1" strike="noStrike">
                <a:solidFill>
                  <a:srgbClr val="800080"/>
                </a:solidFill>
                <a:latin typeface="Century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Для чтения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нужно 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выбира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</a:rPr>
              <a:t>ть</a:t>
            </a:r>
            <a:r>
              <a:rPr b="1" lang="ru-RU" sz="2400" spc="-1" strike="noStrike">
                <a:solidFill>
                  <a:srgbClr val="990000"/>
                </a:solidFill>
                <a:latin typeface="Century"/>
                <a:ea typeface="Times New Roman"/>
              </a:rPr>
              <a:t> произведения в которых</a:t>
            </a:r>
            <a:r>
              <a:rPr b="1" lang="ru-RU" sz="2000" spc="-1" strike="noStrike">
                <a:solidFill>
                  <a:srgbClr val="990000"/>
                </a:solidFill>
                <a:latin typeface="Century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-  </a:t>
            </a:r>
            <a:r>
              <a:rPr b="0" lang="ru-RU" sz="1800" spc="-1" strike="noStrike">
                <a:solidFill>
                  <a:srgbClr val="000000"/>
                </a:solidFill>
                <a:latin typeface="Impact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заимодействие между героями ведет к позитивному или негативному результату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 (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. Осеева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На катк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олшебное слово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М. Н. Юсупов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Простит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,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 С.Я. Маршак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Ежели вы вежливы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А. Барто 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И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з словаря вежливого человека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 и др.);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-   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имеет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место взаимодействие в профессиональной деятельности взрослых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 (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Л. Куклин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Врач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Ш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офер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, 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«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  <a:ea typeface="Times New Roman"/>
              </a:rPr>
              <a:t>Кто главный на корабле</a:t>
            </a:r>
            <a:r>
              <a:rPr b="0" i="1" lang="ru-RU" sz="1800" spc="-1" strike="noStrike">
                <a:solidFill>
                  <a:srgbClr val="993366"/>
                </a:solidFill>
                <a:latin typeface="Century"/>
              </a:rPr>
              <a:t>» и др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entury"/>
              </a:rPr>
              <a:t>Обогащение содержания игры</a:t>
            </a:r>
            <a:br>
              <a:rPr sz="3600"/>
            </a:br>
            <a:r>
              <a:rPr b="1" lang="ru-RU" sz="2000" spc="-1" strike="noStrike">
                <a:solidFill>
                  <a:srgbClr val="990000"/>
                </a:solidFill>
                <a:latin typeface="Century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14400" y="1219320"/>
            <a:ext cx="7467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Рассматривание иллюстраций направлено на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1500"/>
              </a:spcBef>
              <a:buClr>
                <a:srgbClr val="9933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анализ содержания и способов взаимодействия людей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>
              <a:spcBef>
                <a:spcPts val="1500"/>
              </a:spcBef>
              <a:buClr>
                <a:srgbClr val="9933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Impact"/>
              </a:rPr>
              <a:t>прогнозирование результатов взаимодействия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5" descr="C:\Documents and Settings\LitvinovaSN\Мои документы\Литвинова\ферма.bmp"/>
          <p:cNvPicPr/>
          <p:nvPr/>
        </p:nvPicPr>
        <p:blipFill>
          <a:blip r:embed="rId1"/>
          <a:stretch/>
        </p:blipFill>
        <p:spPr>
          <a:xfrm>
            <a:off x="457200" y="3429000"/>
            <a:ext cx="3581280" cy="28368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163" name="Picture 8" descr="\\K-304-16\фио\Stud\семья.bmp"/>
          <p:cNvPicPr/>
          <p:nvPr/>
        </p:nvPicPr>
        <p:blipFill>
          <a:blip r:embed="rId2"/>
          <a:stretch/>
        </p:blipFill>
        <p:spPr>
          <a:xfrm>
            <a:off x="4952880" y="3429000"/>
            <a:ext cx="3124440" cy="297180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</a:rPr>
              <a:t>Обучающие иг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3520" y="25146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азвитию умений взаимодействовать друг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с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друг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ом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 с помощью вежливых форм обращения: "Справочное бюро", "Волшебный ключ", "Секрет в сундучке", "Здравствуйте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развитию умений считаться с интересами другого понимать связь слова и поступка, слова и отношения: "Магазин цветов", "Поищем и найдем «</a:t>
            </a:r>
            <a:r>
              <a:rPr b="0" lang="ru-RU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800080"/>
                </a:solidFill>
                <a:latin typeface="Impact"/>
                <a:ea typeface="Times New Roman"/>
              </a:rPr>
              <a:t>олшебные слова", "Письма доброго сказочника", "Мы друзья-товарищи" и др.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1523880" y="1447920"/>
            <a:ext cx="5867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пособствуют</a:t>
            </a:r>
            <a:endParaRPr b="0" lang="en-US" sz="2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7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Times New Roman"/>
              </a:rPr>
              <a:t>Тренинговые иг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1523880" y="1447920"/>
            <a:ext cx="60962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правлены</a:t>
            </a:r>
            <a:endParaRPr b="0" lang="en-US" sz="2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57200" y="2057400"/>
            <a:ext cx="8305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на понимание вербальных способов обращения к партнеру по игре: "Отдай", "Иди ко мне", "До свиданья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     на понимание и воспроизведение игровых действий, предписанных ролью: "Дружная семья", "Лисонька, где ты?", "Куклы заболели и выздоровели" и др.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-     на понимание и выражение эмоций: "Море волнуется", "Вкусные конфеты", "Поссорились и помирились", "Съедобное и несъедобное";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57200" y="16765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Моделирующ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заимодействие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партнеров по игр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3276720" y="1676520"/>
            <a:ext cx="2514600" cy="14475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«разрывами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 деятельности и 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взаимоотношениях»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6095880" y="16002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ролевых действ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Impact"/>
              </a:rPr>
              <a:t>и отношений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19112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7086600" y="3124080"/>
            <a:ext cx="68580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200400" y="4038480"/>
            <a:ext cx="2666880" cy="131364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Активное участие в разрешении,  используя собственный опыт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80880" y="4038480"/>
            <a:ext cx="2514600" cy="70380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Репродуктивное воздейстивие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248520" y="4038480"/>
            <a:ext cx="2666880" cy="1313640"/>
          </a:xfrm>
          <a:prstGeom prst="rect">
            <a:avLst/>
          </a:prstGeom>
          <a:solidFill>
            <a:srgbClr val="ff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Impact"/>
              </a:rPr>
              <a:t>Творческое проектирование сюжетно-ролевых функций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80010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cc9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LitvinovaSN\Мои документы\Мои рисунки\Психология игры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6324480" y="3733920"/>
            <a:ext cx="2438640" cy="2666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533520" y="1295280"/>
            <a:ext cx="48765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Д.Б. Эльконин создал и изложил в книге наиболее полную теоретически обоснованную и экспериментально проверенную концепцию детской игры.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48" name="Picture 6" descr="C:\Documents and Settings\LitvinovaSN\Мои документы\Мои рисунки\портрет.bmp"/>
          <p:cNvPicPr/>
          <p:nvPr/>
        </p:nvPicPr>
        <p:blipFill>
          <a:blip r:embed="rId2"/>
          <a:stretch/>
        </p:blipFill>
        <p:spPr>
          <a:xfrm>
            <a:off x="6019920" y="228600"/>
            <a:ext cx="2895480" cy="28162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труктура сюжетно-ролевой иг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Игровое дей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реальное и изображаемо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Роль (образ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Сюже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Т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Documents and Settings\LitvinovaSN\Мои документы\Мои рисунки\вхождение в образ.jpg"/>
          <p:cNvPicPr/>
          <p:nvPr/>
        </p:nvPicPr>
        <p:blipFill>
          <a:blip r:embed="rId2"/>
          <a:stretch/>
        </p:blipFill>
        <p:spPr>
          <a:xfrm>
            <a:off x="6553080" y="1600200"/>
            <a:ext cx="2133720" cy="480060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3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Классификация игр</a:t>
            </a:r>
            <a:br>
              <a:rPr sz="4400"/>
            </a:b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(исторический аспек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К. Гро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3" action="ppaction://hlinksldjump"/>
              </a:rPr>
              <a:t>Ж. Пиаж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Н. К. Круп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993366"/>
              </a:solidFill>
              <a:latin typeface="Times New Roman"/>
            </a:endParaRPr>
          </a:p>
        </p:txBody>
      </p:sp>
      <p:pic>
        <p:nvPicPr>
          <p:cNvPr id="55" name="Picture 5" descr="C:\Documents and Settings\LitvinovaSN\Мои документы\Мои рисунки\детские игрушки.jpg"/>
          <p:cNvPicPr/>
          <p:nvPr/>
        </p:nvPicPr>
        <p:blipFill>
          <a:blip r:embed="rId5"/>
          <a:stretch/>
        </p:blipFill>
        <p:spPr>
          <a:xfrm>
            <a:off x="4648320" y="2514600"/>
            <a:ext cx="3962160" cy="350532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Impact"/>
              </a:rPr>
              <a:t>Игры-эксперименталь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Impact"/>
              </a:rPr>
              <a:t>Игры «обычных функци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>
            <a:hlinkClick r:id="rId1" action="ppaction://hlinksldjump"/>
          </p:cNvPr>
          <p:cNvSpPr/>
          <p:nvPr/>
        </p:nvSpPr>
        <p:spPr>
          <a:xfrm flipV="1">
            <a:off x="7848720" y="601920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7493"/>
                </a:moveTo>
                <a:lnTo>
                  <a:pt x="16556" y="7493"/>
                </a:lnTo>
                <a:lnTo>
                  <a:pt x="16556" y="12828"/>
                </a:lnTo>
                <a:cubicBezTo>
                  <a:pt x="16556" y="13751"/>
                  <a:pt x="17357" y="14482"/>
                  <a:pt x="18393" y="14482"/>
                </a:cubicBezTo>
                <a:lnTo>
                  <a:pt x="20055" y="14482"/>
                </a:lnTo>
                <a:cubicBezTo>
                  <a:pt x="21091" y="14482"/>
                  <a:pt x="21892" y="13751"/>
                  <a:pt x="21892" y="12828"/>
                </a:cubicBezTo>
                <a:lnTo>
                  <a:pt x="21892" y="7493"/>
                </a:lnTo>
                <a:lnTo>
                  <a:pt x="20055" y="7493"/>
                </a:lnTo>
                <a:lnTo>
                  <a:pt x="23563" y="3985"/>
                </a:lnTo>
                <a:lnTo>
                  <a:pt x="27236" y="7493"/>
                </a:lnTo>
                <a:lnTo>
                  <a:pt x="25399" y="7493"/>
                </a:lnTo>
                <a:lnTo>
                  <a:pt x="25399" y="12828"/>
                </a:lnTo>
                <a:cubicBezTo>
                  <a:pt x="25399" y="15596"/>
                  <a:pt x="22823" y="18155"/>
                  <a:pt x="20055" y="18155"/>
                </a:cubicBezTo>
                <a:lnTo>
                  <a:pt x="18393" y="18155"/>
                </a:lnTo>
                <a:cubicBezTo>
                  <a:pt x="15625" y="18155"/>
                  <a:pt x="13049" y="15596"/>
                  <a:pt x="13049" y="12828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76471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6">
            <a:hlinkClick r:id="rId2" action="ppaction://hlinksldjump"/>
          </p:cNvPr>
          <p:cNvSpPr/>
          <p:nvPr/>
        </p:nvSpPr>
        <p:spPr>
          <a:xfrm>
            <a:off x="807732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7493"/>
                </a:moveTo>
                <a:lnTo>
                  <a:pt x="10895" y="7493"/>
                </a:lnTo>
                <a:lnTo>
                  <a:pt x="10895" y="12828"/>
                </a:lnTo>
                <a:cubicBezTo>
                  <a:pt x="10895" y="13751"/>
                  <a:pt x="11696" y="14482"/>
                  <a:pt x="12732" y="14482"/>
                </a:cubicBezTo>
                <a:lnTo>
                  <a:pt x="14394" y="14482"/>
                </a:lnTo>
                <a:cubicBezTo>
                  <a:pt x="15430" y="14482"/>
                  <a:pt x="16231" y="13751"/>
                  <a:pt x="16231" y="12828"/>
                </a:cubicBezTo>
                <a:lnTo>
                  <a:pt x="16231" y="7493"/>
                </a:lnTo>
                <a:lnTo>
                  <a:pt x="14394" y="7493"/>
                </a:lnTo>
                <a:lnTo>
                  <a:pt x="17902" y="3985"/>
                </a:lnTo>
                <a:lnTo>
                  <a:pt x="21575" y="7493"/>
                </a:lnTo>
                <a:lnTo>
                  <a:pt x="19738" y="7493"/>
                </a:lnTo>
                <a:lnTo>
                  <a:pt x="19738" y="12828"/>
                </a:lnTo>
                <a:cubicBezTo>
                  <a:pt x="19738" y="15596"/>
                  <a:pt x="17162" y="18155"/>
                  <a:pt x="14394" y="18155"/>
                </a:cubicBezTo>
                <a:lnTo>
                  <a:pt x="12732" y="18155"/>
                </a:lnTo>
                <a:cubicBezTo>
                  <a:pt x="9964" y="18155"/>
                  <a:pt x="7388" y="15596"/>
                  <a:pt x="7388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WordArt 48"/>
          <p:cNvSpPr txBox="1"/>
          <p:nvPr/>
        </p:nvSpPr>
        <p:spPr>
          <a:xfrm>
            <a:off x="5214960" y="928800"/>
            <a:ext cx="3390840" cy="9334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ы-упражн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52"/>
          <p:cNvSpPr txBox="1"/>
          <p:nvPr/>
        </p:nvSpPr>
        <p:spPr>
          <a:xfrm>
            <a:off x="571680" y="357120"/>
            <a:ext cx="4590720" cy="1162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Times New Roman"/>
              </a:rPr>
              <a:t>Символические игр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7"/>
          <p:cNvSpPr txBox="1"/>
          <p:nvPr/>
        </p:nvSpPr>
        <p:spPr>
          <a:xfrm>
            <a:off x="714240" y="1643040"/>
            <a:ext cx="426744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гры с правилами</a:t>
            </a:r>
            <a:endParaRPr b="0" lang="en-US" sz="4000" spc="1" strike="noStrike">
              <a:ln w="9360">
                <a:solidFill>
                  <a:srgbClr val="cc66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808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Impact"/>
              </a:rPr>
              <a:t>Игры, придуманные самими детьми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00120" y="4643280"/>
            <a:ext cx="733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808000"/>
                </a:solidFill>
                <a:latin typeface="Impact"/>
              </a:rPr>
              <a:t>Игры с правилам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Классификация детских игр</a:t>
            </a:r>
            <a:br>
              <a:rPr sz="4400"/>
            </a:br>
            <a:r>
              <a:rPr b="0" lang="ru-RU" sz="4400" spc="-1" strike="noStrike">
                <a:solidFill>
                  <a:srgbClr val="993300"/>
                </a:solidFill>
                <a:latin typeface="Times New Roman"/>
              </a:rPr>
              <a:t>(современный аспект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2" action="ppaction://hlinksldjump"/>
              </a:rPr>
              <a:t>Игры, возникающие по инициативе взросл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3" action="ppaction://hlinksldjump"/>
              </a:rPr>
              <a:t>Игры по инициативе детей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0033"/>
                </a:solidFill>
                <a:uFillTx/>
                <a:latin typeface="Times New Roman"/>
                <a:hlinkClick r:id="rId4" action="ppaction://hlinksldjump"/>
              </a:rPr>
              <a:t>Игры по инициативе народного эт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404680" y="384984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.Л. Новоселова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694880" y="642960"/>
            <a:ext cx="55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Impact"/>
              </a:rPr>
              <a:t>Сюжетно-ролевые игры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70" name="Picture 3" descr="C:\Documents and Settings\LitvinovaSN\Мои документы\Литвинова\МАгазин.bmp"/>
          <p:cNvPicPr/>
          <p:nvPr/>
        </p:nvPicPr>
        <p:blipFill>
          <a:blip r:embed="rId1"/>
          <a:stretch/>
        </p:blipFill>
        <p:spPr>
          <a:xfrm>
            <a:off x="2438280" y="1295280"/>
            <a:ext cx="3962520" cy="53341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rId2" action="ppaction://hlinksldjump"/>
          </p:cNvPr>
          <p:cNvSpPr/>
          <p:nvPr/>
        </p:nvSpPr>
        <p:spPr>
          <a:xfrm>
            <a:off x="8153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lin ang="5400000"/>
          </a:gra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1:09:19Z</dcterms:created>
  <dc:creator>LitvinovaSN</dc:creator>
  <dc:description/>
  <dc:language>en-US</dc:language>
  <cp:lastModifiedBy>admin</cp:lastModifiedBy>
  <dcterms:modified xsi:type="dcterms:W3CDTF">2015-01-06T14:29:26Z</dcterms:modified>
  <cp:revision>70</cp:revision>
  <dc:subject/>
  <dc:title>Игра дошкольника</dc:title>
</cp:coreProperties>
</file>