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DDBE-67C0-4596-BBCA-C41C3A0208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FD9A86-969F-4919-ADE2-78AC0163B0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72A3693-D45A-41C0-B967-03392AC74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F95B60D-5CE7-428A-A0D9-8B10786620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FF645828-3C54-414C-B9B3-C286DA3454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4A0233E-2187-4853-B210-9AE9ED30C1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C5A6AC1-BADE-4CDC-A7CE-89957F61B6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4CA47DB-BB9D-4480-B806-3DA203BAD0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53735CB0-AC65-47F4-BEB7-BBFD86777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0F83450-766E-43F9-9A87-666CF182D3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5FA563D-30EE-4D14-83AB-715E6448BD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39FC5E0-8A52-495C-B5F3-F27CC02AE7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DF838-7798-4ACE-84E4-548FB0E08B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9E43FDB-009F-4465-BA33-1B8FAB1BF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856AF9E-07D9-45A1-A755-9EAE3E0313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4730A76-1287-4657-B469-E9166B43E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7EAF52E-983B-4E15-84CF-2A2C7E77BA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08AC393-F37C-401F-84F2-A6B3DAC566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493FCCE-198B-4A86-B60E-DF460CC5D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E48F9CC3-B7CD-42E5-8495-3EFBE45EC2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240FC042-9F33-46B6-A0C7-0A9AECC33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A56C5851-E372-46F8-9279-43B3115E6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3EBB201F-AB45-468D-B709-C1AA8E7F55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2606-0F72-46A3-AA5A-F95E6CD157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FB5692C-1E39-481B-AD28-92BD6DDF9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08B8325-3923-46DD-8B3A-5B69C281CF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9AFE7CE-73B2-4A4D-A72A-22CC993DBF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1A430AA-DCF5-4418-9DE8-FBE9F1D544E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E8A16A-320B-46C3-ABA1-CBD7F88CF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D935AE5-57D6-459C-AD49-9F61FED9F1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ECEE8F-3DC2-4FA7-A254-BED3A1BEF0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0223312-D425-46FD-A989-E482E683C4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BFF392F-439D-45CC-86F5-486F5C1249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8A76093-290E-46FB-901C-53AC998389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BA8E09-C736-48D8-A683-D3B9539E80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759D102-8884-42C5-81B5-1595EE864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734F7D-A5E7-412A-B1E4-DD0D4FF2A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76B4240-7B40-4560-A38E-03E0FC707E7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ECFC307-877A-440B-A8BB-91DA8026D7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D34242D-3937-4683-A680-75524D0BC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0984CA0-411B-46DD-B4D2-43C76866CB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8B07DB3-5C16-48CD-852D-38213D6FEC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3644BF3-661B-4C3C-A264-F4A3ACBDB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DB98E81-6760-470F-B162-A350D561D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446C29D-0E02-4E00-B8E4-69F2975B3D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B534D5-62B1-492C-BA2F-7897037ACF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91B7403-3FB7-4443-A684-B58C356CA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34F97C0-8684-4986-9A22-56BEDE66D1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9054E3-06EF-48A7-B6AF-5AF279CCDC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D5D59CF-6988-4B3B-84FC-D149AEE19D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342E05A-195E-4C7C-B336-DE396B5F8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38598F-2C41-428A-ACBA-F7B3B7B2B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E0397A-0978-4504-B625-16F021D04D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83A66-03CF-4E82-99D7-634467D95E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FBF361-7638-4C52-A23E-F6DEF7A2A1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419CF2-21F4-40C1-8FC9-781FB45C8D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048269-B467-44EB-960A-BC2373683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C0D006-799A-4021-8F8A-9320FCD67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0164DF-3A83-416A-826B-49C80AF79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58C68-248E-4F68-A5B1-17237560B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51615C-3EF8-4ABA-AAD1-4D500B6665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4995B-4A61-4AB9-A65C-8724F6E57CA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9753E30-3D49-476F-A314-74782EC681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C76BCDD-EE2F-4558-B67C-201A6D17F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FD4C35-7722-4D3C-BD07-39D4EE956C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D4D4F59-FA51-4B93-B0C1-8B51291E43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97CD063-77C5-4886-ACC4-C32C5C3F0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EF99E-5063-4128-AA18-36370A400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2A6A74-5872-46C9-AAE4-E1406651E1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6FB58B-A801-411B-8F8C-7B1FCA4244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75826C-953C-451C-B17E-84B224C03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2E5C155-9F55-4FF9-9970-D877B68E3F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16A9A5-49D6-4269-9C37-074A35283A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E03D52-F17A-4511-A8B9-44B1C744892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5EC48D-0099-4C03-B74A-D8E469C45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87AC47F-199C-4D29-93FD-3F970F8664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2F7D104-9C6C-49E8-AC79-C6E7202CCC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6C667E-F541-4CB6-9619-4229E2DA2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52315-99D8-429B-9AC9-5337A97463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A2D2180-643D-4A41-842B-06D760A937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1EE281C-1683-4915-A4A0-E9B5DA5F8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6EE5C45-6ED2-43F4-AF7D-F1A7AE4479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D0D358B-AD83-4B3F-BCC5-A04C6109DE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3C5132A-3009-4D2E-8000-672F65CDD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FE12E09-FF27-40E7-B034-2ECF3ADDFC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C0FD21-233B-44E5-88A2-7FEE7BE51F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5110CDC-855C-40B0-8DEF-506F0808DC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8887055-46E6-4103-9D6E-A3987EF19E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DB11732-E564-4E90-A21F-54866FD65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8A30C-D4EC-40A6-BA81-49AAE5435D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9DF42FC-1D57-47E2-9299-6A04D592F7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F76A3E4-AAC0-489B-A622-C563813BAF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C7078DC-23DC-4DCA-A7A1-0EBD5CB0B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1F688E-7482-4B09-8AF3-3DEF5E535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092E07-54A7-42B3-B1D6-8547BAA31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FC5B5B-D5F8-494B-9CFB-7CC8452B0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469F7E-EA35-4AF7-8398-3EAD019CB5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94426A-52D2-451A-AE44-4433252332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C994B65-2573-411D-835C-F6D7EEEC1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B43A4DA-1472-4C51-A854-FBB13F5835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C6AE-2C37-40D0-A631-9E113E62F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8BE700F-BA51-4F9B-B12B-2733F98869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9339E0E-F28C-45D3-B5CD-2AF37D0D7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BDFE0E1-8804-425B-96F0-54409DE86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FDA1A0-15D7-4C89-9D9B-18E756789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C0FC40D-2BBD-4724-85ED-F3EACF702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6F6338A-EB14-4402-9A1F-C87ABBD05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39A4680-68C3-4EA8-BACE-13F0521415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C53D6B7-686D-4595-B212-D0EC8CDE4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2E16D2-2CE0-48EA-8032-749808063E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4CB6273-8829-4F7C-B1D9-2647CBD514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450D7-0322-4728-A436-FCC39D2389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68569B0-33DB-4A38-9D8C-6BC0C203D2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B8FF3F-A95E-4FBA-B13E-E221486B72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C90A2AA-7C04-4A22-AB58-FF7B08A15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7619D0-4FE5-43F2-8AFA-6ADED09F15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24B93EB-B0CC-4248-A565-B9FB426B0C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641A90-A025-4B71-91EF-5FFA7ADF4C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CF8378E-362D-4E34-A558-32255DCE66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E187C7-E1FA-4D07-902B-B855CEA896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DF3B736-0EE6-46E1-8DE7-2C2AD3B7D1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20B71F9-CAD2-4F87-B60B-759E292F9F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B5E70-E267-4B6C-A730-8ADAFBBF4F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D2FBABF-FD83-4086-A64C-C72441460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283F1B2-9994-4975-92F1-A2B8502AD5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0F4114A-D356-4B7B-AE14-D0448A6455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A23903B-C53B-4B17-98C9-3198A1F42B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45BC96E-7BB0-4237-A362-B5E5581698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0E73E0-C6A5-4A93-8800-30427D3AEE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EC90C75-FC5F-4879-B2C0-8BC163CDC3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017963-671B-49D4-B8BD-71D29AC558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CFD21D6-EECD-49CA-8A74-1BC19B3A8B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EAFF08E-AF24-4779-A1ED-E574F732CC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08C3A-4837-49CF-AEC3-1F33C4B00D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993475-70A7-479B-BCC4-A18B61856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7B343C8-17F1-44C6-9C40-DFE0FEF12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0B3DE0-A028-4AF5-8456-49FB7F9ABF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D1690C0-1AAA-4365-A3C6-2175993FA0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22CD5FE-A658-4D4D-A53F-2F7EA0461E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D8443E5-C32D-4525-8836-A5A8A9549B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B09897-F556-401C-8E94-387D97E3C1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7BF27BA-9437-4FC2-B848-B5F95B05B0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248F3DC-4C97-4C76-9C28-80C07E0785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07EE9B0-9E5F-4B55-8707-E4F315550D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7ea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3ce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93ce4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3ce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3ce4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B3849B-A271-4AE4-87C2-3A01CA5CA104}" type="slidenum">
              <a:rPr b="0" lang="ru-RU" sz="1600" spc="-1" strike="noStrike">
                <a:solidFill>
                  <a:srgbClr val="93ce4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3ce4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e67c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5eccf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7ea52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5dcea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8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93ce4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Прямоугольник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a7ea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Прямоугольник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Прямоугольник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3ce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3ce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7ea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3ce4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e67c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5eccf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7ea52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5dcea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8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3ce4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67868-4305-461F-92E2-A27EB6E1D062}" type="slidenum">
              <a:rPr b="0" lang="ru-RU" sz="1600" spc="-1" strike="noStrike">
                <a:solidFill>
                  <a:srgbClr val="93ce4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4d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7ea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3ce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93ce4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3ce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3ce4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e67c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5eccf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7ea52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5dcea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8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3ce4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B399D-0B4B-47ED-9C88-D196C3035654}" type="slidenum">
              <a:rPr b="0" lang="ru-RU" sz="1600" spc="-1" strike="noStrike">
                <a:solidFill>
                  <a:srgbClr val="93ce4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4d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a7ea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Прямоугольник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3ce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Прямая соединительная линия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93ce4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Овал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Овал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3ce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3ce4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e67c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5eccf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7ea52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5dcea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8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3ce4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8AF134-8241-428B-A13A-42DA59745370}" type="slidenum">
              <a:rPr b="0" lang="ru-RU" sz="1600" spc="-1" strike="noStrike">
                <a:solidFill>
                  <a:srgbClr val="93ce4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4d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a7ea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ая соединительная линия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93ce4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93ce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Овал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Овал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3ce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3ce4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e67c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5eccf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7ea52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5dcea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8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3ce4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8EA9E9-3F49-4250-B776-E4F4F2433A63}" type="slidenum">
              <a:rPr b="0" lang="ru-RU" sz="1600" spc="-1" strike="noStrike">
                <a:solidFill>
                  <a:srgbClr val="93ce4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4d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7ea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3ce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93ce4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3ce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3ce4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e67c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5eccf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7ea52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5dcea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8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3ce4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14907A-E3FD-4861-85E7-9C1D6DE6877F}" type="slidenum">
              <a:rPr b="0" lang="ru-RU" sz="1600" spc="-1" strike="noStrike">
                <a:solidFill>
                  <a:srgbClr val="93ce4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Прямоугольник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a7ea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Прямоугольник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93ce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93ce4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Овал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Овал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3ce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3ce4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e67c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5eccf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7ea52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5dcea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8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3ce4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307354-727A-4D01-84C5-CEF7F36F80A2}" type="slidenum">
              <a:rPr b="0" lang="ru-RU" sz="1600" spc="-1" strike="noStrike">
                <a:solidFill>
                  <a:srgbClr val="93ce4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4d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7ea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3ce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93ce4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3ce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21274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3ce4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e67c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5eccf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7ea52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5dcea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8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3ce4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E1AD11-47C0-480D-A77E-7579528CDBCC}" type="slidenum">
              <a:rPr b="0" lang="ru-RU" sz="1600" spc="-1" strike="noStrike">
                <a:solidFill>
                  <a:srgbClr val="93ce4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4dcf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21274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Прямоугольник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Прямоугольник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a7ea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Прямая соединительная линия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93ce4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Прямоугольник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3ce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Овал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3ce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3ce4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e67c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5eccf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7ea52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5dcea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8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3ce4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74761-7C56-426B-AED4-96589475E6E0}" type="slidenum">
              <a:rPr b="0" lang="ru-RU" sz="1600" spc="-1" strike="noStrike">
                <a:solidFill>
                  <a:srgbClr val="93ce4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7ea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93ce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93ce4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3ce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3ce4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e67c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5eccf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7ea52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5dcea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8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3ce4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08D8A-131A-4696-8E92-1368C298640A}" type="slidenum">
              <a:rPr b="0" lang="ru-RU" sz="1600" spc="-1" strike="noStrike">
                <a:solidFill>
                  <a:srgbClr val="93ce4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a7ea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Прямоугольник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93ce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3ce4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e67c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5eccf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7ea52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5dcea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8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7FF0EB-D11A-422D-BEDC-488F6F5F83F7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a7ea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Прямоугольник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4e67c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93ce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Прямая соединительная линия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93ce47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93ce4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a7ea5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93ce47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4e67c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5eccf3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a7ea52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5dcea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ff8021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93ce47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9CF1A0B-D0E8-483B-AAE7-2F5F1924991B}" type="slidenum">
              <a:rPr b="0" lang="ru-RU" sz="1600" spc="-1" strike="noStrike">
                <a:solidFill>
                  <a:srgbClr val="93ce47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49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4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5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12745"/>
                </a:solidFill>
                <a:latin typeface="Georgia"/>
              </a:rPr>
              <a:t>ПОДГОТОВИЛА: УЧИТЕЛЬ ХИМИИ МБОУ «СОШ №2» ЗАЙЦЕВА ЯНА АЛЕКСЕЕВНА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4e67c8"/>
                </a:solidFill>
                <a:latin typeface="Georgia"/>
              </a:rPr>
              <a:t>Анализ пищевых продуктов</a:t>
            </a:r>
            <a:endParaRPr b="0" lang="en-US" sz="4400" spc="-1" strike="noStrike">
              <a:solidFill>
                <a:srgbClr val="93ce47"/>
              </a:solidFill>
              <a:latin typeface="Georgia"/>
            </a:endParaRPr>
          </a:p>
        </p:txBody>
      </p:sp>
      <p:pic>
        <p:nvPicPr>
          <p:cNvPr id="608" name="Picture 3" descr="C:\Documents and Settings\Admin\Рабочий стол\16 апреля\Мусор\chemistry-flash-purple-md.png"/>
          <p:cNvPicPr/>
          <p:nvPr/>
        </p:nvPicPr>
        <p:blipFill>
          <a:blip r:embed="rId1"/>
          <a:stretch/>
        </p:blipFill>
        <p:spPr>
          <a:xfrm>
            <a:off x="6303960" y="4260960"/>
            <a:ext cx="1474920" cy="194472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5" descr="C:\Documents and Settings\Admin\Рабочий стол\16 апреля\Мусор\light-green-flask-md.png"/>
          <p:cNvPicPr/>
          <p:nvPr/>
        </p:nvPicPr>
        <p:blipFill>
          <a:blip r:embed="rId2"/>
          <a:stretch/>
        </p:blipFill>
        <p:spPr>
          <a:xfrm>
            <a:off x="7040520" y="4230720"/>
            <a:ext cx="179856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3ce47"/>
                </a:solidFill>
                <a:latin typeface="Georgia"/>
              </a:rPr>
              <a:t>Техника безопасности</a:t>
            </a:r>
            <a:endParaRPr b="0" lang="en-US" sz="44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631" name=""/>
          <p:cNvSpPr txBox="1"/>
          <p:nvPr/>
        </p:nvSpPr>
        <p:spPr>
          <a:xfrm>
            <a:off x="324000" y="1557360"/>
            <a:ext cx="8503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9000"/>
          </a:bodyPr>
          <a:p>
            <a:pPr marL="242640" indent="-242640" algn="just">
              <a:spcBef>
                <a:spcPts val="524"/>
              </a:spcBef>
              <a:buClr>
                <a:srgbClr val="4e67c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Не пробуйте вещества на вкус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42640" indent="-242640" algn="just">
              <a:spcBef>
                <a:spcPts val="524"/>
              </a:spcBef>
              <a:buClr>
                <a:srgbClr val="4e67c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Наливайте жидкость и насыпайте твердые вещества в пробирку осторожно. Предварительно проверьте целостность пробирки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42640" indent="-242640" algn="just">
              <a:spcBef>
                <a:spcPts val="524"/>
              </a:spcBef>
              <a:buClr>
                <a:srgbClr val="4e67c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Спиртовку зажигайте спичкой, тушите колпачком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42640" indent="-242640" algn="just">
              <a:spcBef>
                <a:spcPts val="524"/>
              </a:spcBef>
              <a:buClr>
                <a:srgbClr val="4e67c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Нагревая пробирку с жидкостью, держите ее так, чтобы открытый конец ее был направлен в сторону и от себя, и от соседей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42640" indent="-242640" algn="just">
              <a:spcBef>
                <a:spcPts val="524"/>
              </a:spcBef>
              <a:buClr>
                <a:srgbClr val="4e67c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В случае ожога, пореза или попадания едкой и горячей жидкости на кожу или одежду немедленно обращайтесь к учителю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42640" indent="-242640" algn="just">
              <a:spcBef>
                <a:spcPts val="524"/>
              </a:spcBef>
              <a:buClr>
                <a:srgbClr val="4e67c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Реактивы расходуйте экономно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42640" indent="-242640" algn="just">
              <a:spcBef>
                <a:spcPts val="524"/>
              </a:spcBef>
              <a:buClr>
                <a:srgbClr val="4e67c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Не загромождайте свое рабочее место, выполняйте опыты над столом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42640" indent="-242640" algn="just">
              <a:spcBef>
                <a:spcPts val="524"/>
              </a:spcBef>
              <a:buClr>
                <a:srgbClr val="4e67c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Закончив работу, приведите рабочее место в порядок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42640" indent="-242640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3ce47"/>
                </a:solidFill>
                <a:latin typeface="Georgia"/>
              </a:rPr>
              <a:t>Лабораторные опыты</a:t>
            </a:r>
            <a:endParaRPr b="0" lang="en-US" sz="44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633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253440" indent="-253440">
              <a:lnSpc>
                <a:spcPct val="90000"/>
              </a:lnSpc>
              <a:spcBef>
                <a:spcPts val="624"/>
              </a:spcBef>
              <a:buClr>
                <a:srgbClr val="4e67c8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Georgia"/>
              </a:rPr>
              <a:t>1 и 2 группы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– определение жиров в семенах подсолнечника и растительном масле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lnSpc>
                <a:spcPct val="90000"/>
              </a:lnSpc>
              <a:spcBef>
                <a:spcPts val="624"/>
              </a:spcBef>
              <a:buClr>
                <a:srgbClr val="4e67c8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Georgia"/>
              </a:rPr>
              <a:t>3 и 4 группы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– определение белков с помощью качественных реакций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marL="253440" indent="-253440">
              <a:lnSpc>
                <a:spcPct val="90000"/>
              </a:lnSpc>
              <a:spcBef>
                <a:spcPts val="624"/>
              </a:spcBef>
              <a:buClr>
                <a:srgbClr val="4e67c8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Georgia"/>
              </a:rPr>
              <a:t>5 и 6 группы 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– определение углеводов (крахмала) в продуктах питания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4" name="Picture 2" descr=""/>
          <p:cNvPicPr/>
          <p:nvPr/>
        </p:nvPicPr>
        <p:blipFill>
          <a:blip r:embed="rId1"/>
          <a:stretch/>
        </p:blipFill>
        <p:spPr>
          <a:xfrm>
            <a:off x="4800600" y="2023920"/>
            <a:ext cx="4038480" cy="3376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3ce47"/>
                </a:solidFill>
                <a:latin typeface="Georgia"/>
              </a:rPr>
              <a:t>Литература</a:t>
            </a:r>
            <a:endParaRPr b="0" lang="en-US" sz="40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63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algn="just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Georgia"/>
              </a:rPr>
              <a:t>1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Calibri"/>
              </a:rPr>
              <a:t>Габриелян О.С. Химия. 10 класс. Углубленный уровень: учебник/О.С. Габриелян, И.Г. Остроумов, С.Ю. Пономарев. – М.: Дрофа, 2014. – 366 с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algn="just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  <a:ea typeface="Calibri"/>
              </a:rPr>
              <a:t>2.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арова Т.С. Карты-инструкции для практических занятий по химии 8-11 классы: учеб. Пособие для учащихся 8-11 классов общеобразовательных учреждений/Т.С. Назарова, В. Н. Лаврова. – М.: ВЛАДОС, 2005. – 95 с.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 algn="just">
              <a:lnSpc>
                <a:spcPct val="15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  <a:p>
            <a:pPr marL="272880">
              <a:lnSpc>
                <a:spcPct val="100000"/>
              </a:lnSpc>
              <a:spcBef>
                <a:spcPts val="601"/>
              </a:spcBef>
              <a:buClr>
                <a:srgbClr val="4e67c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3ce47"/>
                </a:solidFill>
                <a:latin typeface="Georgia"/>
              </a:rPr>
              <a:t>Цель занятия</a:t>
            </a:r>
            <a:endParaRPr b="0" lang="en-US" sz="44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000000"/>
                </a:solidFill>
                <a:latin typeface="Georgia"/>
              </a:rPr>
              <a:t>Научиться анализировать продукты питания на содержание  белков, жиров и углеводов.</a:t>
            </a:r>
            <a:endParaRPr b="0" lang="en-US" sz="36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2" name="Picture 2" descr=""/>
          <p:cNvPicPr/>
          <p:nvPr/>
        </p:nvPicPr>
        <p:blipFill>
          <a:blip r:embed="rId1"/>
          <a:stretch/>
        </p:blipFill>
        <p:spPr>
          <a:xfrm>
            <a:off x="324000" y="3284640"/>
            <a:ext cx="3671640" cy="2736720"/>
          </a:xfrm>
          <a:prstGeom prst="rect">
            <a:avLst/>
          </a:prstGeom>
          <a:ln w="0">
            <a:noFill/>
          </a:ln>
        </p:spPr>
      </p:pic>
      <p:pic>
        <p:nvPicPr>
          <p:cNvPr id="613" name="Picture 2" descr=""/>
          <p:cNvPicPr/>
          <p:nvPr/>
        </p:nvPicPr>
        <p:blipFill>
          <a:blip r:embed="rId2"/>
          <a:stretch/>
        </p:blipFill>
        <p:spPr>
          <a:xfrm>
            <a:off x="3979800" y="3284640"/>
            <a:ext cx="4762440" cy="273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93ce47"/>
                </a:solidFill>
                <a:latin typeface="Georgia"/>
              </a:rPr>
              <a:t>Пищевая ценность продуктов питания</a:t>
            </a:r>
            <a:endParaRPr b="0" lang="en-US" sz="30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61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ищевая ценность продуктов питания определяется прежде всего их составом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Основными источниками энергии в составе продуктов питания являются белки, жиры и углеводы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Georgia"/>
              </a:rPr>
              <a:t>При расщеплении: 1 г жиров выделяется 39 кДж энергии; 1 г углеводов – 20 кДж; 1 г белков – 17 кДж.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3ce47"/>
                </a:solidFill>
                <a:latin typeface="Georgia"/>
              </a:rPr>
              <a:t>Белки</a:t>
            </a:r>
            <a:endParaRPr b="0" lang="en-US" sz="44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617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70000" indent="-270000" algn="just">
              <a:spcBef>
                <a:spcPts val="700"/>
              </a:spcBef>
              <a:buClr>
                <a:srgbClr val="4e67c8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Белок является важным строительным материалом нашего организма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just">
              <a:spcBef>
                <a:spcPts val="700"/>
              </a:spcBef>
              <a:buClr>
                <a:srgbClr val="4e67c8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Особая разновидность белков исполняет роль ферментов и гормонов в живом организме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just">
              <a:spcBef>
                <a:spcPts val="700"/>
              </a:spcBef>
              <a:buClr>
                <a:srgbClr val="4e67c8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Белок также может являться источником энергии.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  <a:p>
            <a:pPr marL="270000" indent="-270000" algn="just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Georgia"/>
              </a:rPr>
              <a:t>Продукты богатые белками: </a:t>
            </a:r>
            <a:r>
              <a:rPr b="0" lang="ru-RU" sz="2800" spc="-1" strike="noStrike">
                <a:solidFill>
                  <a:srgbClr val="000000"/>
                </a:solidFill>
                <a:latin typeface="Georgia"/>
              </a:rPr>
              <a:t>мясо, куриные яйца, молочные продукты, рыба, орехи, крупы.  </a:t>
            </a:r>
            <a:endParaRPr b="0" lang="en-US" sz="2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3ce47"/>
                </a:solidFill>
                <a:latin typeface="Georgia"/>
              </a:rPr>
              <a:t>Жиры</a:t>
            </a:r>
            <a:endParaRPr b="0" lang="en-US" sz="44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619" name=""/>
          <p:cNvSpPr txBox="1"/>
          <p:nvPr/>
        </p:nvSpPr>
        <p:spPr>
          <a:xfrm>
            <a:off x="324000" y="1484280"/>
            <a:ext cx="8503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Жиры выполняют следующие функции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675"/>
              </a:spcBef>
              <a:buClr>
                <a:srgbClr val="4e67c8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троительная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675"/>
              </a:spcBef>
              <a:buClr>
                <a:srgbClr val="4e67c8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энергетическая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675"/>
              </a:spcBef>
              <a:buClr>
                <a:srgbClr val="4e67c8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запасающая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675"/>
              </a:spcBef>
              <a:buClr>
                <a:srgbClr val="4e67c8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защитная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675"/>
              </a:spcBef>
              <a:buClr>
                <a:srgbClr val="4e67c8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гормональная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Продукты богатые жирами: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масла, сало, мясо, майонез, сливки, сметана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4e67c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buClr>
                <a:srgbClr val="4e67c8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93ce47"/>
                </a:solidFill>
                <a:latin typeface="Georgia"/>
              </a:rPr>
              <a:t>Углеводы</a:t>
            </a:r>
            <a:endParaRPr b="0" lang="en-US" sz="44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62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Функции углеводов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675"/>
              </a:spcBef>
              <a:buClr>
                <a:srgbClr val="4e67c8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энергетическая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675"/>
              </a:spcBef>
              <a:buClr>
                <a:srgbClr val="4e67c8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пластическая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675"/>
              </a:spcBef>
              <a:buClr>
                <a:srgbClr val="4e67c8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запасающая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675"/>
              </a:spcBef>
              <a:buClr>
                <a:srgbClr val="4e67c8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защитная;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675"/>
              </a:spcBef>
              <a:buClr>
                <a:srgbClr val="4e67c8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регуляторная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700" spc="-1" strike="noStrike">
                <a:solidFill>
                  <a:srgbClr val="000000"/>
                </a:solidFill>
                <a:latin typeface="Georgia"/>
              </a:rPr>
              <a:t>Продукты богатые углеводами: 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ахар, конфеты, сладкая выпечка, изюм, финики, рис, макароны, крупы, мед, хлеб, фрукты, овощи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3ce47"/>
                </a:solidFill>
                <a:latin typeface="Georgia"/>
              </a:rPr>
              <a:t>Правильное питание</a:t>
            </a:r>
            <a:endParaRPr b="0" lang="en-US" sz="40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623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ctr">
              <a:lnSpc>
                <a:spcPct val="9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У основания пирамиды находятся наиболее полезные продукты питания, удельный вес которых в рационе должен быть наибольшим. Чем ближе к вершине пирамиды, тем меньше должен быть удельный вес в рационе продуктов питания, указанных в этих секторах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4" name="Picture 2" descr=""/>
          <p:cNvPicPr/>
          <p:nvPr/>
        </p:nvPicPr>
        <p:blipFill>
          <a:blip r:embed="rId1"/>
          <a:stretch/>
        </p:blipFill>
        <p:spPr>
          <a:xfrm>
            <a:off x="4643280" y="1557360"/>
            <a:ext cx="4195800" cy="4608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93ce47"/>
                </a:solidFill>
                <a:latin typeface="Georgia"/>
              </a:rPr>
              <a:t>Анализ пищевых продуктов</a:t>
            </a:r>
            <a:endParaRPr b="0" lang="en-US" sz="40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626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8000"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0000"/>
                </a:solidFill>
                <a:latin typeface="Georgia"/>
              </a:rPr>
              <a:t>Качественные реакции</a:t>
            </a:r>
            <a:r>
              <a:rPr b="0" lang="ru-RU" sz="2500" spc="-1" strike="noStrike">
                <a:solidFill>
                  <a:srgbClr val="000000"/>
                </a:solidFill>
                <a:latin typeface="Georgia"/>
              </a:rPr>
              <a:t> - это химические превращения, сопровождающиеся характерными признаками, с помощью которых проводят распознавание веществ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7" name="Picture 3" descr=""/>
          <p:cNvPicPr/>
          <p:nvPr/>
        </p:nvPicPr>
        <p:blipFill>
          <a:blip r:embed="rId1"/>
          <a:stretch/>
        </p:blipFill>
        <p:spPr>
          <a:xfrm>
            <a:off x="4716360" y="1916280"/>
            <a:ext cx="4103640" cy="388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93ce47"/>
                </a:solidFill>
                <a:latin typeface="Georgia"/>
              </a:rPr>
              <a:t>Качественные реакции на белки, жиры и углеводы</a:t>
            </a:r>
            <a:endParaRPr b="0" lang="en-US" sz="2800" spc="-1" strike="noStrike">
              <a:solidFill>
                <a:srgbClr val="93ce47"/>
              </a:solidFill>
              <a:latin typeface="Georgia"/>
            </a:endParaRPr>
          </a:p>
        </p:txBody>
      </p:sp>
      <p:sp>
        <p:nvSpPr>
          <p:cNvPr id="629" name=""/>
          <p:cNvSpPr txBox="1"/>
          <p:nvPr/>
        </p:nvSpPr>
        <p:spPr>
          <a:xfrm>
            <a:off x="324000" y="1557360"/>
            <a:ext cx="850392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Белок + 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NaOH + CuSO4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ине-фиолетовое окрашивание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Жир +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KMnO4 →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 цвет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Жир + 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 I2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менение цвета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Georgia"/>
              </a:rPr>
              <a:t>Крахмал + </a:t>
            </a:r>
            <a:r>
              <a:rPr b="1" lang="en-US" sz="3200" spc="-1" strike="noStrike">
                <a:solidFill>
                  <a:srgbClr val="000000"/>
                </a:solidFill>
                <a:latin typeface="Georgia"/>
              </a:rPr>
              <a:t>I2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→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инее окрашивание</a:t>
            </a:r>
            <a:endParaRPr b="0" lang="en-US" sz="32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6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4-25T19:11:43Z</dcterms:created>
  <dc:creator>Яна</dc:creator>
  <dc:description/>
  <dc:language>en-US</dc:language>
  <cp:lastModifiedBy>Яна</cp:lastModifiedBy>
  <dcterms:modified xsi:type="dcterms:W3CDTF">2014-12-22T19:27:04Z</dcterms:modified>
  <cp:revision>15</cp:revision>
  <dc:subject/>
  <dc:title>Анализ пищевых продуктов</dc:title>
</cp:coreProperties>
</file>