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8669-5E23-41E6-A624-8B42CD5F3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70E-528E-4765-AFAE-6057A0970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E05C9BE-D56D-4756-BF8B-EFD84CD0C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1E5D612-51E4-402A-89E8-A415C3B5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17631DA-213A-4F37-BEFF-AA11483A5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592749-9139-47B2-9CE0-DB5E9B39E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B6F4A41-8565-48F7-AA0A-1E5B78863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D58CC-7DDB-449A-A09E-E5E824C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3DA8FB0-0896-42EF-AF48-E6E3A319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D0BAF1B-4194-4CD2-AD68-95AFA4E88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922F9BC-31C1-41FA-8257-7C008FDC4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FBB1B5-572A-42EC-97FE-B5FA20262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F7E0-6BD1-4374-B21A-4839A0C6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716EF94-3F82-4BE4-9EDC-4F26D3BF7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513842-9D3B-450B-A17E-F761BF87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88C29E1-6032-4AB8-B5DB-741BF9C00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796C1B-C77E-4A02-9A42-378DC7E8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6C6C08B-8085-4EA8-8FAD-18278F46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8CDF13-B1EF-41FC-A2FE-EE4B4D8E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85412-DEAD-4796-B949-6997452E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155FCB8-D8E0-4E78-B919-56675167C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0E25556-9DCC-4E69-B29E-BFDDC0C2B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781D60-75C2-464E-A37B-587FB1769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83A1-D3BB-40CA-8E9A-960663859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BA2578-75E3-4D38-996C-7B00301B2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A6051-EF8F-4FE9-AEF4-B7347C984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8F9462-6639-4104-B49C-54E35DFB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EEC4A9-9CF1-4CF8-A38A-988610FA6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EFFE1E-68A6-46FF-BDC0-1A65518A1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2500F5-CC04-4993-B3D6-015C8BFB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5AA47E-A9BF-4C6C-912B-D696C6864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5E25FA-25D5-46E6-A168-E9CD1C9D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FA6401-8E30-423E-AFF5-7F0AD5CF8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B1E845-CD87-4734-8025-A22E18CA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23931-7365-4D4D-AD49-842CDD9A4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BC1DC2-1188-4241-B6D2-D1FBE3AD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2FD2EA-2363-4C1A-B9B1-05130BC1C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C2067C-C4C4-4CE9-BA90-45833DDAC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B61D3A-D32A-40ED-91C3-465761C5E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C57B9A-18BC-4BA7-8D81-9EBF0682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B0BDD84-E747-4082-B8FC-79737ECDF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7426F47-9E47-470F-AA7B-9F878E4B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70CDFC8-39EC-4D0A-9AE9-0CC8BD19F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7238BE-1EAD-472F-885E-66D7398F5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862AE-4556-4061-AE07-7A868983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7FA3C-83B2-4A7D-AB3A-D215A826F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8F8B4C8-B497-49A2-882F-BD5D4EF7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49BFC9B-80AE-4317-BAF6-E9102E1D1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C078F37-C254-49AE-9879-1996B80F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BAB99D7-92FC-4DF1-B0AD-0FBBB8383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B31015-1AA3-4970-92B9-223C037D7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200A8-DD45-4413-AA56-CFEAA462C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80896-012B-4F02-A6D2-747F5B3BC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A8D1F-C5AE-4F79-87E2-94D24679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73268-0D05-4CF1-B4C6-D46E9455B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9EA2B-55F0-42B6-8E33-64F42D91A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5AB5-AF16-4F5E-9074-7D283D18B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F37C5-1BB4-4319-9D3C-D51BC81D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F9BFD-56F5-4182-9EC7-B6701EB9E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E327B-7387-4842-A709-591C3C0EC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572C9-7CB6-4779-BCBD-240D2406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08A88-E80A-464B-9065-0BD679843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351F0-FFFD-4B39-B802-82EBF034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28280-089A-469E-B729-6B9D9AE5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6839B-B3EF-4A97-B80C-2C7D8BD19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7FE63-F1FB-4457-9809-ADC8B3A78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6F6DC-D503-4D63-BAAE-FD1F110FE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F7E1-8284-436F-8AFE-7059BA078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33E9A-3E66-46A1-B29F-DF4A99D44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B03E3-7890-4E03-89EB-65028818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7012-5F26-4502-9588-4057CA46C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7C702-EB27-45F2-8138-BE635F8C3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ED5A3-3A40-4F47-859D-4B2FD150B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85FEDC-7D0A-4473-AD54-63C28596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E9BD-493B-49BE-9420-0FB136D65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2F5C93-31A7-4940-AC9A-40217DBD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13878-BF3D-4A10-A189-518E5222C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BDD29-A98A-45B6-B1A3-047F2FE48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A8FB-B2E7-40B1-B763-64A92CA7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92B7A-08B8-4FE6-A6F1-6CA78EAF8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167F6-DF87-47FC-A39D-649C93981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762CAE-9D77-47A1-A25D-0D0BDE1B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CADB4C-2EE5-49FA-8599-31C0299F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6B84BB-1B9C-4836-95F8-A87627BC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EB34B-E2F8-4045-BF69-1C8EF2C1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B3297D-E1C8-42BE-96D9-423FB8A8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F1E6F-100B-46F1-9473-D5BB38F2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42668-05F2-4B6A-8963-AF84EA725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2B911-81D7-4C16-B4C9-A252751FB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B029-6C14-4CBD-B211-4AEC2437E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2B6B3-C0C8-4CF1-AAFA-46459314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082E-BD5C-43F8-8963-00A61FAF0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91837-2EE1-419B-9D57-4A424B9B6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EE95F-7489-4E0B-94CD-92B9BCAB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96F1B-1C4D-46B0-9DE3-0C86FECDE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3F1638-94C2-469C-9D22-49E40C3A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F298AF-7AB8-4F2F-B1ED-59757668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6BEA5C-A8C1-4995-9A4F-504E577FA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5A7AD3-6C0F-475E-A8AA-F4130FC41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3DBA5-60B2-4572-81D3-49CB270CD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FE92-2225-4E4A-B83B-7D39EB9B2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F885B4-EDEE-4F45-BC77-A56A777FD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89B8FD-450D-4FF0-9260-257DCC09E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721DC-F402-429A-B5EF-8BEEDCD8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1E34A-BE7E-4331-9C65-E11DD7B1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A1A1A5-AAD0-4D41-ACB0-41C27BCC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14FD2-4EEE-490F-AD8C-3D221C9B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4E091-EE25-4CE2-97CC-B300988E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721F18-1A7B-44CF-B401-B37D8DB7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ECF64D-E64A-4591-B197-9A13EDA8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738124-5B94-40A4-A53B-B5EBE909C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7EF9-A889-447D-A562-1AACEEED4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F71CA-5A9C-43AA-B54E-3BEB1989A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72F736-6D5E-469C-A0A9-0A5094BE65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C0E524-C739-457B-9513-258700869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21E866-8F22-4AB6-9F51-10C9EC7A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3BA21-9932-4067-9142-4358CB50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4360F-C6EB-4662-B72A-2183951B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0DDDDD-CF4C-4C45-8B41-D416255D5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776114-232F-4C67-AE5B-82CEA94DA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96C5AF-9DE3-4749-B1A2-04F3EE62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79FCF9-5549-421D-8F78-7FACA9B40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998E-B6E0-46FA-95FC-F6E9E287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4F0FEE-08D2-4857-9922-AB3BAC040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5EA528-908D-4464-B271-82C90B80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72912A-3DC2-4254-9C02-AB99A2F6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5E036-18D9-4BCA-8CA7-7F18579A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77DF0A-98E4-4203-BC69-CD3786C68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ADE89-3754-4C95-BA73-15CEAA3C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EA264D-481A-478F-A8B0-3EC8A9A7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54276F-DE67-490D-B154-DEC18A856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8ECFAC-5FFE-4227-9841-3C9D8C792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C2096D-0794-4D63-A83F-6D196858E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2C09-52C0-4B35-BD09-54C58F034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FF60F7-844F-4DA4-8D23-8E3E2807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3A3BEE-4221-4A01-A426-4EA310D5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378B21-8876-43CE-882F-5DA66CFC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9EA9B6-A769-4B0D-8D57-F0C6EF14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D730F-AAAE-4983-B0D9-8B448436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17A603-ACDC-42EB-AE19-0E2AA00F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520A32-8655-4330-B781-E99210F7B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67B748-1E52-47E8-A770-BD9CE16BB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6EA4FF1-3CA1-4F03-90CA-35F9FB9AB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415656-887F-48CE-B7C1-6F5828F3C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56B02-03D4-44B8-BC44-EB9665ECF873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CAA3-EC14-4925-BBF4-2538250F01D1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3BC8C-76C4-4B2B-BE17-D55A32DEB1C6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2E6EE-0C20-41FA-A87F-8343FD4C46D6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E4877-FD65-45B8-815B-A255574DD35A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4F7E-0DEA-4DD1-8331-F856B0C2D437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7605-23C8-47DC-9B7C-A47BE051EB8D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212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368AF-8F5A-4403-9586-AB32FFDF4A9D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212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67A2C-B224-4C16-A653-18198F85DD45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38B8C-1090-4A46-B121-9B5EEA41969B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4A6C8-608F-49B9-8679-FF5CC9FFEC5F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8444-2909-4B57-9EB2-730742A5AD7D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Georgia"/>
              </a:rPr>
              <a:t>ПОДГОТОВИЛА: УЧИТЕЛЬ ХИМИИ МБОУ «СОШ №2» ЗАЙЦЕВА ЯНА АЛЕКСЕЕВ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67c8"/>
                </a:solidFill>
                <a:latin typeface="Georgia"/>
              </a:rPr>
              <a:t>Анализ пищевых продуктов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pic>
        <p:nvPicPr>
          <p:cNvPr id="608" name="Picture 3" descr="C:\Documents and Settings\Admin\Рабочий стол\16 апреля\Мусор\chemistry-flash-purple-md.png"/>
          <p:cNvPicPr/>
          <p:nvPr/>
        </p:nvPicPr>
        <p:blipFill>
          <a:blip r:embed="rId1"/>
          <a:stretch/>
        </p:blipFill>
        <p:spPr>
          <a:xfrm>
            <a:off x="6303960" y="4260960"/>
            <a:ext cx="1474920" cy="1944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Documents and Settings\Admin\Рабочий стол\16 апреля\Мусор\light-green-flask-md.png"/>
          <p:cNvPicPr/>
          <p:nvPr/>
        </p:nvPicPr>
        <p:blipFill>
          <a:blip r:embed="rId2"/>
          <a:stretch/>
        </p:blipFill>
        <p:spPr>
          <a:xfrm>
            <a:off x="7040520" y="4230720"/>
            <a:ext cx="17985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Техника безопасности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24000" y="155736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е пробуйте вещества на вкус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ливайте жидкость и насыпайте твердые вещества в пробирку осторожно. Предварительно проверьте целостность пробирки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пиртовку зажигайте спичкой, тушите колпачком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гревая пробирку с жидкостью, держите ее так, чтобы открытый конец ее был направлен в сторону и от себя, и от соседей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В случае ожога, пореза или попадания едкой и горячей жидкости на кожу или одежду немедленно обращайтесь к учителю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Реактивы расходуйте экономно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е загромождайте свое рабочее место, выполняйте опыты над столом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кончив работу, приведите рабочее место в порядок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Лабораторные опыты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24"/>
              </a:spcBef>
              <a:buClr>
                <a:srgbClr val="4e67c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1 и 2 группы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– определение жиров в семенах подсолнечника и растительном масле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buClr>
                <a:srgbClr val="4e67c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3 и 4 группы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определение белков с помощью качественных реакци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buClr>
                <a:srgbClr val="4e67c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5 и 6 группы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– определение углеводов (крахмала) в продуктах питани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800600" y="2023920"/>
            <a:ext cx="40384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ce47"/>
                </a:solidFill>
                <a:latin typeface="Georgia"/>
              </a:rPr>
              <a:t>Литература</a:t>
            </a:r>
            <a:endParaRPr b="0" lang="en-US" sz="40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бриелян О.С. Химия. 10 класс. Углубленный уровень: учебник/О.С. Габриелян, И.Г. Остроумов, С.Ю. Пономарев. – М.: Дрофа, 2014. – 366 с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арова Т.С. Карты-инструкции для практических занятий по химии 8-11 классы: учеб. Пособие для учащихся 8-11 классов общеобразовательных учреждений/Т.С. Назарова, В. Н. Лаврова. – М.: ВЛАДОС, 2005. – 95 с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Цель занятия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учиться анализировать продукты питания на содержание  белков, жиров и углеводов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3671640" cy="27367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"/>
          <p:cNvPicPr/>
          <p:nvPr/>
        </p:nvPicPr>
        <p:blipFill>
          <a:blip r:embed="rId2"/>
          <a:stretch/>
        </p:blipFill>
        <p:spPr>
          <a:xfrm>
            <a:off x="3979800" y="3284640"/>
            <a:ext cx="4762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3ce47"/>
                </a:solidFill>
                <a:latin typeface="Georgia"/>
              </a:rPr>
              <a:t>Пищевая ценность продуктов питания</a:t>
            </a:r>
            <a:endParaRPr b="0" lang="en-US" sz="30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ищевая ценность продуктов питания определяется прежде всего их составо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сновными источниками энергии в составе продуктов питания являются белки, жиры и углевод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 расщеплении: 1 г жиров выделяется 39 кДж энергии; 1 г углеводов – 20 кДж; 1 г белков – 17 кДж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Белки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700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лок является важным строительным материалом нашего орган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spcBef>
                <a:spcPts val="700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обая разновидность белков исполняет роль ферментов и гормонов в живом организм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spcBef>
                <a:spcPts val="700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лок также может являться источником энерг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дукты богатые белками: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ясо, куриные яйца, молочные продукты, рыба, орехи, крупы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Жиры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Жиры выполняют следующие функци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оительн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нергетическ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пасающ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щитн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ормональна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одукты богатые жирами: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асла, сало, мясо, майонез, сливки, сметан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Углеводы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ункции углеводов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нергетическ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ластическ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пасающ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щитн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гуляторна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одукты богатые углеводами: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ахар, конфеты, сладкая выпечка, изюм, финики, рис, макароны, крупы, мед, хлеб, фрукты, овощ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ce47"/>
                </a:solidFill>
                <a:latin typeface="Georgia"/>
              </a:rPr>
              <a:t>Правильное питание</a:t>
            </a:r>
            <a:endParaRPr b="0" lang="en-US" sz="40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 основания пирамиды находятся наиболее полезные продукты питания, удельный вес которых в рационе должен быть наибольшим. Чем ближе к вершине пирамиды, тем меньше должен быть удельный вес в рационе продуктов питания, указанных в этих секторах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9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ce47"/>
                </a:solidFill>
                <a:latin typeface="Georgia"/>
              </a:rPr>
              <a:t>Анализ пищевых продуктов</a:t>
            </a:r>
            <a:endParaRPr b="0" lang="en-US" sz="40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Качественные реакции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- это химические превращения, сопровождающиеся характерными признаками, с помощью которых проводят распознавание веществ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3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4103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ce47"/>
                </a:solidFill>
                <a:latin typeface="Georgia"/>
              </a:rPr>
              <a:t>Качественные реакции на белки, жиры и углеводы</a:t>
            </a:r>
            <a:endParaRPr b="0" lang="en-US" sz="28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24000" y="155736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елок +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aOH + CuSO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-фиолетовое окраши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nO4 →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цве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Жир +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I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цве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рахмал +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нее окраши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19:11:43Z</dcterms:created>
  <dc:creator>Яна</dc:creator>
  <dc:description/>
  <dc:language>en-US</dc:language>
  <cp:lastModifiedBy>Яна</cp:lastModifiedBy>
  <dcterms:modified xsi:type="dcterms:W3CDTF">2014-12-22T19:27:04Z</dcterms:modified>
  <cp:revision>15</cp:revision>
  <dc:subject/>
  <dc:title>Анализ пищевых продуктов</dc:title>
</cp:coreProperties>
</file>