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2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44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2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476D8-36C3-4F5A-B0BB-A5EC9E829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7F0E9-4C58-4903-8524-64E0F278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6A12D-6435-4E25-A586-C3DE8528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2834F-F7FC-42EA-A8FD-55232841E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6814-4C48-428A-991C-9DD688843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E42E-AA80-4746-87D9-E61FE0E8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47D6-FF4B-4B60-A173-E2335145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A2F6-9AA2-49B2-9DB4-4A2CC9D3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CBCB-F51F-4903-95EE-7D289126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57D5-E354-41E6-B7D4-C42B0F83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8246-3F52-418E-893A-DA22932F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22BC6-7894-48A4-B2A3-1935F4C7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DE3C-9308-4665-92D4-C4DD7D00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9AA1-D0A1-4759-9C34-C14A3B59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77E0-9D96-4882-AAFF-84E04DCA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450F-0F47-4786-8DB4-A9EAD18B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3175-2517-47B2-ADD7-BCC31011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2BC20-7E0F-4FE6-AE85-CFDDC17A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C18B8-7AEC-4E8F-9ECF-78D1C112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3D609-724F-4A6D-BF0E-F560E9ED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7B7C1-CA9E-45FB-9D4F-70E5EF1B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DE1E3-D30B-41C0-90FC-787B91FE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07279-F332-4362-ACC8-FEDB2B1C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A167A-B059-4AB3-9481-D92B9C9C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28B4-3650-4CBC-ADD4-02C25C9D53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4D37-7545-4D87-831C-BDDD717086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3.xm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imes New Roman"/>
              </a:rPr>
              <a:t>Тема: Культура делового общения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овест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о моральное осознание человеком своих действий, благодаря чему мы контролируем свои поступки и даем оценку своим действ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ол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о осознание добросовестного исполнения своих обязанностей (гражданских и служебных). Например, при нарушении долга, благодаря совести, человек несет ответственность не только перед другими, но и перед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ффективное слушание, наоборот, способствует пониманию обсуждаемой проблемы и приводит к ее решению. Выделяются два вида эффективного слушания: нерефлексивное и рефлексивн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рефлексивное слушание — это умение внимательно молчать, не вмешиваясь в речь собеседника своими замечаниями и ком­ментари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флексивное слушание — это процесс расшифровки смысла сообщений и установления активной обратной связи с говорящим. Оно позволяет устранить преграды, искажения в процессе общения и помогает понять смысл и содержание высказываний собесед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 психологии выделяются четыре основных приема рефлексивного слушания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яснение. Представляет собой прямое обращение к говорящему за уточнениями при помощи фраз: «Я не понял», «Пожалуйста, уточните это» и т.п., способствующее лучшему поним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ражение чувств. В этом случае особое внимание обращается на отражение слушающим эмоционального состояния говоря­щего при помощи фраз: «Вы немного расстроены», «Очевидно, Вы чувствуете...» и т.п. Отражая чувства собеседника, мы показывает ему, что понимаем его состояние. Данный прием предполагает использование механизма восприятия — эмпа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ефразирование, т.е. собственная формулировка сообщения говорящего для проверки точности понимания. При этом исполь­зуются фразы: «Если я Вас правильно понял...», «Другими словами, Вы считаете...», «По Вашему мнению...» и т.п., которые по­казывают говорящему, что его слушают и понимают. В случае неправильного понимания этот прием помогает вовремя исправить непоним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зюмирование, т.е. подытоживание основных идей, чувств говорящего. Этот прием уместен при длительных беседах, при за­вершении разговора. Используются фразы типа: «Итак, Вы считаете, что...», «Если подвести итог сказанному, то...»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оме того, всегда необходимо помнить об ошибках, которые подстерегают нас на пути слушания, и стараться избегать их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еребивать собесед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острять внимание на разговорных особенностях партнера по общ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лать поспешные выводы и тем самым возводить преграды для об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спешно возражать, не дослушав собеседника до кон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авать непрошеные сов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ехники общ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ем «имя собственное» основан на частом произнесении вслух имени-отчества партнера по общению. Этот прием вызывает положительные эмоции, снимает сопротивление с собеседника и демонстрирует расположение работника к клиенту или партне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ем «золотые слова», или искусство подачи комплиментов, что позволяет настроить собеседника на сотрудничество, вызвать положительные эмоции и создать атмосферу доверия и взаимоув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ем «зеркало отношений» включает в себя улыбку и доброжелательное выражение лица, что способствует положительному настрою, демонстрирует уважение к клиенту или партнеру по общению и создает у него чувство увер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ем «терпеливый слушатель» означает терпеливое и внимательное выслушивание проблем клиента. В результате удовлет­воряется важнейшая потребность в самоутверждении, что ведет к образованию положительных эмоций и создает доверительное рас­положение кли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просы для самопровер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усская поэтесса Марина Цветаева (1892-1941) говорила: «Одно дело слушать, а другое — слышать». Что вы понимаете под этим высказывани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скройте сущность рефлексивного слуш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 часто в разговоре с друзьями вы используете приемы рефлексивного слушания? Раскройте содержание каждого прие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ля чего нужны «техники общения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Глава 3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ПРОЯВЛЕНИЕ ИНДИВИДУАЛЬНЫ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ОСОБЕННОСТЕЙ ЛИЧНОСТИ В ДЕЛОВ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ОБЩЕН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дивидуальность — это конкретный человек со своеобразными физическими, физиологическими, психологическими и социальными качествами и свой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лова «личность», «темперамент», «воля», «эмоции», «способности» и многие другие широко используются нами в повседневном общении. Например, когда хотят охарактеризовать какого-то человека, то часто говорят о нем то как о личности, то как об индивидуа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ичность — это человек, включенный в систему общественных отношений, который формируется в общении, совместной деятельности и при этом приобретает социальные качества для самостоятельной деятель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3059280" y="4221000"/>
            <a:ext cx="19587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ест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ражается в признании моральных заслуг человека. В репутации. Честь офицера, честь бизнесмена, рыцарская честь – именно она требует от человека поддерживать репутацию социальной или профессиональной группы, к которой он принадлеж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стоинств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ражается в самоуважении, в осознании значимости своей личности; оно не позволяет человеку унижаться, льстить и угодничать ради своей выг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1. Темперамен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ще в древности ученых интересовало, почему при взаимодействии с одними и теми же явлениями люди ведут себя столь по-разному? Чтобы ответить на этот вопрос, возникла наука о темпераменте. Понятие «темперамент» происходит от латинского слова «temperamentum», означающее смесь, надлежащее соотношение час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 темпераменте человека можно судить по нескольким основным его свойствам. С точки зрения психолога Вольфа Соломоновича Мерлина (1892—1982) этими свойствами являются следующи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нзитивность (или чувствительность). Она определяется тем, какова наименьшая сила внешних воздействий, необходимая для возникновения у человека какой-либо психической реакции, и какова скорость возникновения этой реакции. Образно говоря, какой должна быть сила воздействия, чтобы до человека «дошл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активность. Это свойство характеризуется степенью (т.е. силой и энергией) реагирования человека на какое-то воздействие одинаковой величины. Например, мы по-разному реагируем на одно и тоже обидное слово или критическое замечание. Реактивность проявляется в большей или меньшей вспыльчивости, если у человека высокая реактивность, про него говорят: «порох», «заводится с пол-оборот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тивность. О ней можно судить по тому, с какой энергией, настойчивостью человек сам воздействует на окружающую среду и преодолевает при этом внешние и внутренние препятствия на пути достижения целей. Это свойство помогает сделать професси­ональную карьеру и добиться успе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отношение реактивности и активности. Это свойство определяет, от чего зависит деятельность человека: от случайных вне­шних и внутренних причин (настроение, так захотелось, случайные события) или от сознательно поставленных целей, убежд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Темп реакций. Данное свойство характеризует скорость протекания различных психических реакций и процессов (темп речи, динамика жестов, находчивость ума и т.д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моциональная возбудимость. О ней судят по тому, какой силы необходимо воздействие для возникновения эмоциональной ре­акции. Например, одни люди могут спокойно смотреть «ужастики» или триллеры, а другие — пугаются и волнуются по пустя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стичность и ригидность. Они проявляются в том, насколько человек легко и быстро приспосабливается к внешним воздей­ствиям (пластичность) или насколько инертно его поведение (ригиднос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страверсия — интроверсия. Экстраверсия (от лат. extra — вне и versio — обращать) и противоположная ей интроверсия (от лат. intro — внутрь) говорят о направленности реакций человека. У экстраверта реакции зависят от внешних впечатлений, получаемых в данный момент, для него главное «здесь и сейчас». У интроверта реакции зависят от образов, представлений и мыслей, связанных с прошлым и будущим, он любит погружаться в воспоми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просы для самопровер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Что такое темперамент? Какие бывают типы темперамен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айте психологическую характеристику каждому типу темпера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каких жизненных ситуациях темперамент раскрывается наиболее пол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думайте, какие типы темперамента психологически совместимы и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2. Характер и во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«Характер» — слово древнегреческого происхождения и в переводе означает чеканка, печать, особенность. Если Вы, к примеру, случайно кому-то грубо ответили, это еще не означает, что грубость является чертой Вашего характ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Характер человека проявляется черта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ношение человека к другим людям: родным, коллегам, знакомым, малознакомым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ношение человека к самому с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ношение человека к миру вещей, т. е. отношение к общественной собственности, а также аккуратное или небрежное об­ращение со своими вещами, одеждой, книгами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ношение человека к делу, к своему тру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пример, сочетание смелости с осторожностью или импульсивностью, с моральными чувствами или чувством тщеславия по-разному влияет на его характ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ля — это сознательное регулирование человеком своего поведения и деятельности, выраженное в умении преодолевать внут­ренние и внешние трудности при совершении целенаправленных действий и поступков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сновные этапа волевого процесс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зникновение побуждения или постановка ц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адия обсуждения или борьба мотивов (выбор средств, способов и приемов для достижения поставленной цел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нятие решения (выбор действий в соответствии с целью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сполнение принятого реш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Целеустремленность — это способность человека подчинять свои действия целям, которые необходимо достигнуть. Целеустремлен­ные люди ясно видят личные цели и не размениваются на мелочи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амообладание — это волевое качество, помогающее людям управлять своими мыслями, чувствами, действиями и поступками. Люди, которым присуще самообладание, уравновешены и последовательны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кромно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человек должен быть сдержанным в обнаружении своих достоин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лагородств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верен своему слову, если оно даже дано врагу. Он не позволит грубость по отношению к малоприятным для него людям, не будет злословить о них в их отсутств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ешительность — это умение человека принимать своевременные, обоснованные и твердые решения и претворять их в жи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стойчивость — это волевое качество, благодаря которому человек может мобилизовать свои силы для относительно длительной и сложной борьбы с препятствиями и трудностями, встречающимися на пути достижения це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Энергичность — это волевое качество, которое дает возможность человеку действовать быстро и с большим напряжением фи­зических и духовных сил. Энергичные люди, как правило, при достижении целей не пасуют перед трудностями, а наоборот, мо­билизуют свою деятельность. Они всегда к чему-то стремятся, строят планы и увлекают за собой друг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сполнительность — это волевое качество человека, направленное на активное, старательное и систематическое исполнение принятых решений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просы для самопровер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Что такое характе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кие основные черты характера вам извест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окажите на примерах, что характер человека формируется на протяжении всей жизни, а не является неизменным и прирожде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Что такое воля и какова ее основная задач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кие приемы способствуют формированию волевых качеств личнос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дним из проявлений воли является выдержка человека. Может ли в вашей будущей профессиональной деятельности проявиться несдержанность? Если да, то что вы сделаете для ее преодол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кие основные волевые качества человека вы знае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3. Способности — важное условие успеха в профессиональной деятельност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пособности — это индивидуально-психологические особенности личности, которые проявляются в конкретной сфере и являются условием успешной работы в н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Различаются следующие виды способностей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щие способности необходимы для достижения успеха в любом виде деятельности; к ним относятся уровень общего интел­лектуального развития, устойчивость внимания, волевой самоконтроль, трудоспособность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щие и специальные способности связаны, они дополняют и обогащают друг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щие способности, которые обеспечивают относительную легкость и продуктивность в овладении знаниями в различных видах деятельности, часто называются одаренност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сокий уровень развития специальных способностей говорит о талантливости; деятельность талантливого человека отличается новизной и оригинальност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просы для самопров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то такое «способности» и как они связаны с деятельностью челове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ие существуют точки зрения на происхождение способност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ие вы знаете виды способност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ая существует зависимость между способностями, умениями и знания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4. Эмоции и чув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Эмоции — это непосредственное, временное переживание какого-нибудь чувства, например чувство любви к спор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Эмоции — это явления, которые выражаются в переживании человеком своего отношения к окружающей действительности и к самому себе, причем для эмоций характерна субъектив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тенические — сильные, тонизирующие; активизируют деятельность, побуждают к поступкам и высказываниям (радость, гне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стенические — Пассивные, угнетают активность, вызывают скованность, мешают при достижении целей (страх, тоска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моции в зависимости от устойчивости, длительности и силы различают по вид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строение — это длительное эмоциональное состояние, связанное со слабо выраженными положительными или отрицательными эмоциями, окрашивающее все другие переживания, мысли и действия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ффект — это сильное, кратковременное эмоциональное состояние, напоминающее бурю, шквал. Аффект возникает внезапно, резко, и в этот момент человек как бы теряет самоконтроль, весь отдается пережи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расть — это яркое, сильное эмоциональное состояние, направленное на удовлетворение потребностей и захватывающее человека надол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иды чувст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равственные (моральные) чувства основаны на нравственной оценке человеком своих и чужих поступков и действий в со­ответствии с усвоенными моральными нормами и правилами (добро, справедливость, долг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теллектуальные чувства сопровождают процесс познания и творч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стетические чувства представляют собой эмоциональное отношение человека к прекрасному в природе, искусстве, в жизни людей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равственные, интеллектуальные и эстетические чувства переживаются человеком в деятельности и общении. Например, страх выражается в расширение зрачков, в дрожи, бледности; для ужаса характерны широко раскрытые глаза, бледность кожи, дрожащий гол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просы для самопровер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о такое «эмоции»? В чем состоит важное отличие эмоций от чувст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ие вы знаете виды эмоц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ие вы знаете виды чувст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гда ли эмоциональная реакция человека соответствует воздействию? Объясните причины возможного соответствия или несоответствия, свой ответ проиллюстрируйте приме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эмоции проявляются внеш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ое значение в жизни человека играют эмо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кажите на примерах связь эмоциональных реакций с их физиологическим проявл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просы для самопров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возникли и что выражают термины «этика» и «мораль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то такое «добро» и «зло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формулируйте «золотое правило нравственност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ие основные элементы входят в понятие «культура делового общения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Глава 4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КОНФЛИКТЫ В ДЕЛОВОМ ОБЩЕН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1. Конфликт и его 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фликт (от лат. conflictus — столкновение) — это столкновение противоположно направленных целей, интересов, позиций, мнений, точек зрений, взглядов партнеров по общению. В психологии выделяются следующие типы конфли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фликт между группой и личностью проявляется как противоречие между ожиданиями отдельной личности и сложившимися в группе нормами поведения и общ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2987640" y="5013360"/>
            <a:ext cx="287964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сновные типы конфликтоген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ремление к превосходств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явление агресс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явление эго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зрешить конфликт — знач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странить конфликтную ситуа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черпать инцид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просы для самопровер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скройте содержание понятия «конфлик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пределите, к какому типу относятся следующие конфлик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труднику администрация предъявляет противоречивые требования к конечному результату его работы, и он не знает, как посту­пи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уководитель не оценил работу подчиненного и этим обидел ег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и принятии решений в коллективе происходит столкновение взглядов и характе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уществует ли взаимосвязь между формулой конфликта и возможностью его разреш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.2. Стратегия поведения в конфликтных ситуация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структивные конфликты — это конфликты, при которых разрушаются межличностные связи, резко снижается эффективность работы, а решение проблемы становится невозмож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перничество — это открытая «борьба» за свои интерес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трудничество — это поиск решения, удовлетворяющего интересы двух сторо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омпромисс — это урегулирование разногласий через взаимные уступ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збегание — это стремление выйти из конфликта, не решая его, не настаивая на своем, но и не уступая сво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испособление представляет собой тенденцию к сглаживанию противоречий, поступаясь своими интересами. Если нужда другого человека окажется более важной, чем ваша, а переживания — сильнее, то эта стратегия является единственной для раз­решения конфли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тратегия приспособления может применятьс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ас не особо волнует случившееся, а предмет разногласия для вас не важе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 осознаете, что правда на вашей сторо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 чувствуете, что ваши шансы на победу минималь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 считаете, что лучше сохранить добрые отношения с партнером, чем отстаивать собственную пози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просы для самопров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скройте сущность каждой стратегии поведения в продуктивном конфлик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ая стратегия характерна для ва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.3. Правила поведения в конфликт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гневан — потерпи, немного охладев, рассудку уступи, смени на милость гнев. Разбить любой рубин недолго и несложно, но вновь соединить осколки невозмож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онфликте у человека доминирует не разум, а эмоции, что ведет к аффекту, когда сознание просто отключается и человек не отвечает за свои слова и действ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ав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айте партнеру «выпустить пар». Если партнер раздражен и агрессивен (переполнен отрицательными эмоциями), договориться с ним трудно, а зачастую невозможно, поэтому постарайтесь помочь ему снизить внутреннее напряжение. Во время его «взрыва» рекомендуется вести себя спокойно, уверенно, но не высоком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бивайте агрессию неожиданными приемами. Например, задайте неожиданный вопрос совсем о другом, но значимом для партнера деле или доверительно попросите у конфликтующего собеседника со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 давайте партнеру отрицательных оценок, а говорите о своих чувствах. Не говорите: «Вы меня обманываете», лучше звучит: «Я чувствую себя обмануты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2. Профессиональная э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фессиональная моральная нор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ежлив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это выражение уважительного отношения к другим людям, их достоинству. В основе вежливости лежит доброжелательность, которая проявляется в приветствиях и пожеланиях. Например, мы желаем доброй ночи, доброго утра, успехов, здоровья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ежливый человек – эт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едупредительны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человек, он стремится первым оказать любезность, первым уступит место в транспор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708360" y="5157720"/>
            <a:ext cx="14288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просите сформулировать желаемый конечный результат и проблему как цепь препятствий. Проблема — это то, что надо ре­шать, а отношение к человеку — это фон, условия, в которых приходится принимать реш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дложите клиенту высказать свои соображения по разрешению возникшей проблемы и свои варианты решения. Не надо ис­кать виновных и объяснять создавшееся положение. Ищите выход из него. Не останавливайтесь на первом приемлемом варианте, их должно быть найдено много, чтобы выбрать лучший (альтернатива)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любом случае дайте партнеру «сохранить свое лицо». Не позволяйте себе распускаться и отвечать агрессией на агрессию и задевать достоинства партнера; он этого не простит, даже если уступит нажиму. Не затрагивайте его личность, а давайте оценку только действиям и поступкам, например, можно сказать: «Вы уже дважды не выполнили свое обещание», но нельзя говорить: «Вы — необязательный челове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ражайте, как эхо, смысл высказываний и претензий. Употребление фраз типа «Правильно ли я Вас понял?», «Вы хотели сказать...» устраняет недоразумения и демонстрирует внимание к собеседнику, что уменьшает его агресс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 бойтесь извиниться, если чувствуете свою вину. К извинениям способны уверенные и зрелые люди, поэтому это обезору­живает клиента и вызывает у него уважение и довер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ичего не надо доказывать. В конфликте никто никогда и никому ничего не сможет доказать, так как отрицательные эмоции блокируют способность понимать и соглашаться с «врагом». Человек в этот момент не думает, его рациональная часть отключается, а поэтому незачем пытаться что-либо доказы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молчите первым. Если так получилось, что вы не заметили, как «втянулись» в конфликт (по наблюдениям 80 % конфликтов возникает помимо желания их участников), попытайтесь сделать единственное — замолчи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 характеризуйте состояние оппонента. Избегайте словесной констатации отрицательного эмоционального состояния партнера: «Что ты злишься, нервничаешь?», «Чего ты бесишься?» — такие «успокоители» только укрепляют и усиливают конфли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зависимо от результата разрешения противоречия старайтесь не разрушать отношения. Выразите свое уважение и расположение клиенту, партнеру и выскажите согласие по поводу возникших труд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льз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ритически оценивать партн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писывать ему низменные или плохие наме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монстрировать знаки своего превосхо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винять и приписывать ответственность только партне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гнорировать интересы партнера по общ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идеть все только со своей пози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меньшать заслуги партнера и его вклад в общее д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увеличивать свои заслу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здражаться, кричать и напад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девать «болевые точки» и уязвимые места партн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рушивать на партнера множество претенз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просы для самопровер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правила поведения в конфликтной ситуации вы можете взять себе на «вооружение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запрещено в конфлик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рректнос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умение держать себя в рамках приличия в любых ситуациях и особенно в конфликт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ежливость обусловливаетс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акт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увством мер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Быть тактичным – значить умело сделать замечание, не унижая достоинство человека, предоставить ему возможность выйти из затруднения с че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ждый вид профессиональной этики определяется своеобразием профессиональной деятельности и имеет свои специфические требования в области морали. Например, воинской службы, своеобразие медицинской этики. Однако любая специфика невозможна без учета общечеловеческих ценностей и этических 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его хочет покупатель от продавцов? Во-первых, приобретения качественного, модного, удобного товара по приемлемой цене. Во-вторых, компетентности, внимательного и вежливого отношения к себе при выборе покуп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ловое отношение продавца с покупателем начинается с приветствия За приветствием следуют слова: «Пожалуйста, что вас интересует?» или «я вас слушаю», а не «Вы что, не видите, что я заня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Женщины в своем выборе полагаются на себя; они долго рассматривают изделие и поэтому не рекомендуется их тороп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кончанием общения продавцов с нами, покупателями, является прием оплаты за выбранный товар и его упаковка, после чего продавец должен поблагодарить за покуп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просы для самопров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то вы понимаете под понятием «профессиональная этика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ким нравственным требованиям соответствует действия работников в следующих ситуация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)  Кассир сбербанка отлучился с рабочего места и этим вызвал задержку в обслуживании клиентов. Возвратившись на рабочее место, сказал: «Извините, что задержал вас, сейчас быстро все улаж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)  В секции самообслуживания покупательница брала пару туфель для примерки и при этом несколько пар, стоявших рядом упали. Покупательница растерялась и смутилась. Продавщица спокойно подошла и поставила обувь на место, сказав: «Ничего страшного, это происходит част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3 Деловой этикет.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55640" y="1628640"/>
            <a:ext cx="62038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личие – это наименее важный из всех законов общества и наиболее чтим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Ф. Ларошфуко (1613 – 768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Французский писатель-морал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708360" y="4419720"/>
            <a:ext cx="2016000" cy="15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Times New Roman"/>
                <a:hlinkClick r:id="rId1" action="ppaction://hlinksldjump"/>
              </a:rPr>
              <a:t>Этика и культура поведения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Times New Roman"/>
                <a:hlinkClick r:id="rId2" action="ppaction://hlinksldjump"/>
              </a:rPr>
              <a:t>Психологические аспекты делового общения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явление индивидуальных особенностей личности в деловом общ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нфликты в деловом общ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Этике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слово французского происхождения, означающее манеру поведения. Родиной этикета считается Италия. Этикет предписывает нормы поведения на улице, в общественном транспорте, в гостях, в театре, на работе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нер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это способ держать себя, внешняя форма поведения, обращение с другими людьми, а так же тон, интонации и выражения, употребляемые в речь. Кроме того, это жесты, походка, мимика, характерные для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ловой этике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о свод правил поведения в деловых, служебных отношениях. Он является важнейшей стороной морали профессионального поведения делов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жен Ягер в своей книге «Деловой этикет» отмечает, что каждая проблема, связанная с этикетом, начиная от хвастовства и кончая обменом подарками, должна  решаться в свете этических нор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жен Ягер сформулировал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есть основных заповедей делового этик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лайте все воврем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Опоздания не только мешает работе, но и являются первым признаком того, что на человека нельзя полож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болтайте лишнег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Смысл этого принципа в том, что вы обязаны хранить секреты учреждения или конкретной сделки так же бережно, как и тайны личного харак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удьте любезны, доброжелательны и приветливы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ши клиенты, заказчики, покупатели, сослуживцы или подчиненные могут сколько угодно придираться к вам, это неважно: всеравно вы обязаны вести себя вежливо, приветливо и доброжела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умайте о другим, а не только о себе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нимание должно проявляться не только в отношении клиентов или покупателей, оно распространяется на сослуживцев, начальство и подчине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евайтесь, как полож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ворите и пишите хорошим языком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икет выражается в самых разных сторонах нашего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пример, этикетное значение могут иметь разнообразные движения человека, позы, которые он принимает. Сравните вежливое положение лицом к собеседнику и невежливое – спиной к нему. Такой этикет называетс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вербальны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ловесный этик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сидский писатель и мыслитель Саади (между 1203 и 1210 – 1292) сказал: «Умен ты или глуп, велик ты или мал, не знаем мы, пока ты слова не сказал». Сказанное слово, будто индикатор, покажет уровень культуры человека. И. Ильф и Е. Петров в романе «Двенадцать стульев» высмеяли жалкий набор из лексики Эллочки-«людоедки». Жаргон – это «испорченный язык», цель которого обособить какую-то группу людей от остальной част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малое место в деловом этикете занимае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ветств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Встречаясь друг с другом,  мы обмениваемся фразами: «Здравствуйте», «Добрый день ( утро, вечер)», «привет». В одном из стихотворений русский советский писатель Владимир Алексеевич Солоухин (1924 – 1997) написа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дравствуй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клонившись, мы друг другу сказа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отя были совсем незнакомы. Здравствуй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то особого тем мы друг другу сказа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сто «Здравствуйте», больше ведь мы ничего не сказ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чего же на капельку солнца прибавилось в ми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чего же на капельку радостней сделалась жизн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язательным условием делового контакта являетс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ультура речи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Культурная речь – это прежде всего правильная, грамотная речь и, кроме того, верный тон общения, манера разговора, точно подобранные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ециалисты рекоменду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ледить за правильным употреблением слов, их произношением и ударени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 использовать обороты, содержащие лишние слова (например, «абсолютно новый» вместо «новый»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бавляться от слов-«паразитов» («так сказать», «такая», «ну» и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бегать заносчивости, категоричности и самонадея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то означает слово «Этика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формулируйте основные принципы делового этик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чему по речи судят об общей культуре челове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готовьте сообщение (доклад): «Роль этикета в моей будущей профессии»; «Значение культуры речи в профессиональной карьер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помните кинофильм Э. Рязанова «Служебный роман», в котором Лия Ахеджакова замечательно сыграла роль «секретаря». Какие принципы делового этикета ее героиня наруша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кие основные формы обращения и приветствия вы используете в повседневной жизн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4. внешний облик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58920" y="2060280"/>
            <a:ext cx="570060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 одежке встреч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 уму провож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Русская народная мудр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708360" y="3933720"/>
            <a:ext cx="14130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9528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асто приходится слышать о том, что нельзя делать вывод о человеке по первому впечатлению. Однако по подсчетам психологов люди в 85 случаях из 100 свое отношение к другому человеку строят на основе внешнего впечатления. Особенности внешнего вида человека информируют нас о возрасте, социальной, национальной и профессиональной принадлежности. Вот почему в общении важны и сказанные слова, и внешний ви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лавной ошибкой, по словам признанного специалиста в области деловой одежды Дж. Т. Моллой, является слишком преувеличенное значение своей привлекательности и усердное следование м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Глава 1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Этика и культура поведени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2997360"/>
            <a:ext cx="525780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юди, особенно молодежь, забывают, чт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д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о безликий стандарт, который не подчеркивает индивидуальность. Человек должен выбрать сво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ил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одежде, поскольку мода переменчива, а стиль остается. Вы, наверное, заметили: одежда модная, хорошо сидит на фигуре и цвет ваш, но не радует глаз, не греет душу, - это означает, что одежда не вписывается в ваш стиль, не соответствует вашему образу и характе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ажным условием элегант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является учет при покрое одежды объемов тела и пропорций отдельных его частей. Одежду рекомендуется подбирать в соответствии с типом фигуры и лица. Главное – видеть недостатки своего силуэта и умело, при помощи одежды, корректировать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ля создания внешне привлекательного образа человека используется макияж, который помогает не только освежить лицо, но и исправить небольшие индивидуальные недостатки его черт. Хороший макияж – это макияж незаметный, который, как говорят профессионалы, должен «хорошо прилегать к лиц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ичес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Волосы – природное украшение, за которым нужно ежедневно ухажи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е детали вашего наряда – от обуви до заколки в волосах – должны гармонировать друг с дру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прятнос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является основным требованием этикета к внешнему ви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 всегда надо помнить, что внешняя красота может только привлечь внимание окружающих, а для того чтобы удержать его, необходима духовная красота. Внешне красивый, но грубый, злой, некультурный человек с вульгарным лексиконом и поведением производит неприятное впечат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просы для самопров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ие основные требования предъявляются к внешнему виду челове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то означает «быть элегантным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5. Культура телефонного об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47280" y="2349360"/>
            <a:ext cx="7067880" cy="36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 меня зазвонил телеф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то говори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л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ку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 верблю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то вам над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К. Чуковский (1882 – 1969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русский советский писатель, литературов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041800" y="2997360"/>
            <a:ext cx="12128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елефо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удобное и оперативное средство связи, без которого невозможно представить современную жизнь. Человечество пользуется телефоном уже более века: в 1876 г. Был создан первый, еще несовершенный, но уже получивший признание телефонный аппар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лефонный разговор обеспечивает двусторонний обмен информацией независимо от расстояния. Но, как показывает практика, к разговору по телефону, особенно деловому, надо готовиться. Плохая подготовка, неумение лаконично и грамотно излагать свои мысли отнимает от 20 до 30% рабочего времени современного государственного служащего. Культура телефонного общения – это средство формирования у партнеров вашего имиджа и имиджа учреждения, в котором вы служ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445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ядом с телефоном полезно держать ручку, блокнот и календар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сле звонка быстро снимите трубку. Не «срывайте» трубку во время звонка: в электроцепях резко возрастает сила тока, что может привезти к поврежд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рубка снята. Возникает вопрос: какое слово произнести, чтобы контакт был установлен? Жестких рамок здесь нет. Как правило, человек отвечает: «Алло», «Слушаю», «Да», а не «Я вас слуша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комендации специалист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то делать, если во время вашей беседы с клиентом раздается телефонный звонок? Правила телефонного этикета и вежливости предписывают поступать следующим образом: извинитесь перед клиентом, снимите телефонную трубку и, сославшись на занятость, попросите перезвонить или запишите телефонный номер и перезвоните после того как освободите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к пригласить коллегу к телефону? «одну минуту» Иван Петрович – Вас!». После этого аккуратно передайте трубку телефона. При вызове по телефону отсутствующего  в данное время сотрудника надо сказать, что : «Его сейчас нет на месте. Будет тогда-то. Может быть, ему что-нибудь передать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1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ловой телефонный разговор должен быть кратким. Например, в японской фирме не будут долго держать сотрудника, который не решит деловой вопрос по телефону за три мину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ажно, чтобы служебный телефонный разговор велся в спокойном, вежливом тоне. говоря по телефону, мы можем вызвать доверие у собеседника или, наоборот, неприя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икогда не говорите по телефону с набитым ртом. Недопустима во время телефонного разговора жевать, пить и параллельно разговаривать с сотрудн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лефон углубляет недостатки речи, поэтому рекомендуется следить за произношением чисел, имен собственных и фамилий. Не допускается жаргон и такие выражения, как «идет», «лады», «добро», «пока»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сли вдруг при разговоре произошла пауза, то подтвердите свое внимание репликами: «Да, да», «Понимаю». Завершить разговор следует во время, «До свидания, спасибо за звонок», «Приятно было поговорить с вам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ажнейшей стороной профессионального поведения является деловой этикет, который приписывает  нормы поведения на работе, улице, в гостях, в транспорте и т.д. Речевой этикет, искусство ведения телефонных разговоров, правила переписки и внешний вид служат признаками вашей воспитанности, респектабельности и уверенности в с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мните, что в деловых отношениях мелочей не быв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560" y="457200"/>
            <a:ext cx="8569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 случае того, если звоните В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пределите цель телефонного разговора. Если вы определите цель и тактику ведения телефонного разговора, то составьте план бес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омер набран. В начале, согласно по этикету, представьтесь и поздоровайтесь. Если на ваш звонок абонемент не отвечает, помните, что на 5-й сигнал вешают трубку и вызов повторяют поз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вонок по домашнему телефону сослуживцу для служебного разговора может быть оправдан только серьезной причи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рушением этикета считается невыполнение обещания перезвонить. Если обещал, надо позвонить обязательно, иначе создадите себе репутацию несерьезн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просы для самопров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пригласить к телефону коллег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его нельзя делать во время телефонного разгово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чему нельзя использовать служебный телефон для личных разговор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6. деловая бес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еловая беседа имеет свои закономерности и традиции, тщательной подготовки и базируется на этических нормах и правил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ланирование деловой беседы – это разработка стратегии и тактики достижения цели, выбора места за два-три дн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2987640" y="5516640"/>
            <a:ext cx="22924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еловая беседа состоит из нескольких этап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ередача информации (изложение своей позиции) и аргумен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ыслушивание доводов собеседника и реакция на 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нятие ре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чало беседы влияет на весь ее дальнейший ход, этапы являются установление контакта. Прождавший вас с полчаса в приемной, вряд ли будет дружески настроен. Лучше всего сесть напротив друг друга, хозяин всегда предложит гостю чай или коф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 собеседнику лучше обращаться по имени-отчеству и постарайтесь ободрить собеседника и установления контакта является встреча глазами. Проявление любой бестактности и решение, которое должно изолгаться ясно, четко, утверди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чему деловая беседа не может проходить спонтан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то входит в структуру деловой бесе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кажите многогранность задачи начального этапа деловой бес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кие приемы помогают партнеру чувствовать себя уверен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кройте основную сущность заключительного этапа деловой бес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7. Деловая перепис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лужебная переписк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является важной частью делового этикета, «общением в миниатюр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на способствует установлению прочных связей с потребителем, взаимосвязи служб, фир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 составлении делового письма необходимо соблюдать треб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сполнитель должен отчетливо представлять себе сообщение, которое хочет передать, и точно знать, как это выразить в понятной, сжатой фор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исьмо должно быть простым, логичным, конкретным и не допускать двусмысле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исьмо должно составлять только по одному вопро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исьмо должно быть убедительным и достаточно аргументирова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исьмо должно быть написано в нейтральном то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ъем делового письма не должно превышать двух страниц машинописного 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 точки зрения грамматики деловое письмо должно быть безупреч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еловое письмо должно быть корректным, написано вежливым то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авильное письм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имание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«Уважаемая (ый) 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Я хочу сообщить Вам нечто важное (интересное)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терес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«Мы (я) предлагаем Вас то, что может существенно улучшить Вашу жизнь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сьба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«Нам требуется помощь людей, готовых вложить хотя бы … в благодарное, патриотическое дело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йствие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Мы призываем Вас присоединиться к тысячам добрых людей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иды деловых пис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зюме и письмо с просьбой о приеме на раб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исьмо-заявление об ух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комендательное письм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исьмо-отк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исьмо-запрос о ходе исполнения д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исьмо-напомин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исьмо-уведом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исьмо-благодар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1. Общие сведения об этической культу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и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это одна из древнейших отраслей философии, наука о морали (нравственности). Термин «этика» происходит от греческого слова «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tho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 («этика») – обычай, нрав. Термин «этика» был введен Аристотелем (384 – 322 гг. до н.э.) для обозначения учения о нравственности , причем этика считалась «практической философией», которая должна дать ответ на вопрос: «Что мы должны делать, чтобы совершать правильные, нравственные поступки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8244000" y="6380280"/>
            <a:ext cx="647640" cy="28872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418" h="21600">
                <a:moveTo>
                  <a:pt x="0" y="0"/>
                </a:moveTo>
                <a:lnTo>
                  <a:pt x="48418" y="0"/>
                </a:lnTo>
                <a:lnTo>
                  <a:pt x="48418" y="21600"/>
                </a:lnTo>
                <a:lnTo>
                  <a:pt x="0" y="21600"/>
                </a:lnTo>
                <a:close/>
              </a:path>
              <a:path fill="lightenLess" w="48418" h="21600">
                <a:moveTo>
                  <a:pt x="0" y="0"/>
                </a:moveTo>
                <a:lnTo>
                  <a:pt x="48418" y="0"/>
                </a:lnTo>
                <a:lnTo>
                  <a:pt x="47018" y="1400"/>
                </a:lnTo>
                <a:lnTo>
                  <a:pt x="1400" y="1400"/>
                </a:lnTo>
                <a:close/>
              </a:path>
              <a:path fill="darken" w="48418" h="21600">
                <a:moveTo>
                  <a:pt x="48418" y="0"/>
                </a:moveTo>
                <a:lnTo>
                  <a:pt x="48418" y="21600"/>
                </a:lnTo>
                <a:lnTo>
                  <a:pt x="47018" y="20200"/>
                </a:lnTo>
                <a:lnTo>
                  <a:pt x="47018" y="1400"/>
                </a:lnTo>
                <a:close/>
              </a:path>
              <a:path fill="darkenLess" w="48418" h="21600">
                <a:moveTo>
                  <a:pt x="48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18" y="20200"/>
                </a:lnTo>
                <a:close/>
              </a:path>
              <a:path fill="lighten" w="48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18" h="21600">
                <a:moveTo>
                  <a:pt x="20710" y="10800"/>
                </a:moveTo>
                <a:lnTo>
                  <a:pt x="31216" y="3794"/>
                </a:lnTo>
                <a:lnTo>
                  <a:pt x="31216" y="17806"/>
                </a:lnTo>
                <a:close/>
              </a:path>
              <a:path fill="darken" w="48418" h="21600">
                <a:moveTo>
                  <a:pt x="17203" y="3794"/>
                </a:moveTo>
                <a:lnTo>
                  <a:pt x="18865" y="3794"/>
                </a:lnTo>
                <a:lnTo>
                  <a:pt x="18865" y="17806"/>
                </a:lnTo>
                <a:lnTo>
                  <a:pt x="1720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щие прави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исьмо должно быть лаконич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язательно должна проявляться д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исьмо не должно содержать клеветнических измышл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лжна быть разборчивая подп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просы для самопров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ие этические требования предъявляются к деловой перепис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еречислите виды деловых пис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пишите образец любого, выбранного вами, делового пись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8. визитная карточка в деловой жизн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современных условиях трудно представить деловую жизнь без визитной карточки, которая имеет свою историю. Например, в дореволюционной России визитные карточки были весьма распростран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иды визитной карто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андартизированная визитная карточка сотруд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едставительная карточка сотрудника фир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изитная карточка фир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мейная визитная карточ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чие визитные карто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формления визитной кар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умага должна быть плотной, высокого качества, размером приблизительно 5-8 с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умага должна быть белого или светлого ц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екст должен быть простым, легко читаемым, шрифт – черного цвета, без золотых напыл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5435640" y="5373720"/>
            <a:ext cx="178920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просы для само пров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ие типы визитных карточек вам извест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следует вручать и получать визитную карточ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ие правила оформления визитной карточки Вы зна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9. Деловой проток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еловой протоко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это правила, которое регламентируют порядок встреч и проводов, проведения бесед и переговоров, организации приемов, оформление деловой переписки 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3851280" y="4292640"/>
            <a:ext cx="1143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просы для самопров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то входит в понятие «деловой протокол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дготовьте доклады на темы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«Виды деловых приемов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«Организация и порядок проведения деловых прием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10. Интерьер рабочего поме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терье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внутреннее помещение в зд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 оформлению нужно отнестись очень серьезно. В офи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хламленный стол производит отталкивающие впечатление поэтому будьте опрят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старайтесь не обедать за рабочим сто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сли вы привыкли пить кофе за рабочим столом, пользуйтесь чашкой, а не одноразовыми стаканч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пробуйте посмотреть на свое рабочие место глазами постороннего человека и увидите: «Хотелось бы прийти к человеку в таком кабинет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5148360" y="5300640"/>
            <a:ext cx="2232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спринимайте ваш офис как свой дом, продумайте все мелочи с точки зрения хорошего т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достоверьтесь, что любой предмет, даже самый незначительный, в вашем кабинете выбран так, чтобы подчеркнуть ваш имид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ледите, чтобы в вашем кабинете всегда было чисто и прия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сли вам для работы обязательно нужны горы бумаг, устройте аккура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омер телефонов и документов, которые доверили лично 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 возможности не пользуйтесь телефон с микрофо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орал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 лат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ral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равственный) – это система этических ценностей, которые признаются человеком. Она регулирует поведение человека во всех сферах общественной жизни – в труде, в быту, в личных, семейных и международных отнош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йствовать в соответствии с моралью – значит выбирать между добром и злом. Человек стремится построить свою жизнь таким образом, чтобы уменьшить зло и умножить доб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кажите, что интерьер помещения – лицо фир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 какие детали вы обратили бы большее внимание при оформлении своего рабочего ме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11. Особенности национальной э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мериканц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это люди дела с демократичным этикетом без церемоний, не любящие чопор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нглийски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этикет официален и традицион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мецки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этикет основан на порядке, пунктуальности, дисципл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ранцузски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этикет отличается галантным отношением мужчины к женщ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Японц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трудолюбивы, с большим вниманием относятся к традиц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рабские стран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исламские традиции. Все по традиц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просы для самопров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ля чего необходимы знания национального этик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ие общие принципы культуры поведения вы зна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дготовьте доклад о традициях и особенностях той страны, которую вы бы хотели бы посе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Глава 2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Психологические аспекты делового общени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еловек становиться человеком только в общ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еловое общение строиться на таких моральных качествах личности, как честность, долг, совесть, достоин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нтуан де Сент-Экзюпери: «Общение единственное роскошь, которое есть у челове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1. Общение – основа человеческого бы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и Якокка (Американский предприниматель): «Умение контактировать с людьми – это и вс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ще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это сложный, многогранный процесс, взаимодействие между двух или более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еловое обще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это общение, обеспечивающее успех какого-то общего дела и создающее необходимые условия для сотрудничества люде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4500720" y="5300640"/>
            <a:ext cx="17269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бстрактные ти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здорный человек, «нигилист»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Не придерживается темы беседы, нетерпелив, несдерж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зитивный человек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Является самым приятным собеседн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сезнай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Всегда уверен в том, что все знает лучше все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олтун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Любит высказываться пространно, бестактно, прерывает бесе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усишка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Такой собеседник недостаточно уверен в с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ладнокровный, неприступный собеседник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мкнут, держится отчужденно, не включается в деловую бесе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заинтересованный собеседник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ловой разговор, тема беседы его не интересу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ажная птица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акой собеседник не выносит никакой кри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чемучка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стоянно задает вопросы, независимо от того, имеет ли они реальную основу или надум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Что такое общение? Какая основа общ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чем заключается основная задача делового общ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Что означает «уметь общаться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ие «абстрактные типы» собеседников вам извест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ие «абстрактные типы» собеседников вам встречались чаще всего? Приведите прим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2. Классификация общ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епосредственно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щение является исторически первой формой общения людей между собой. Например, опосредованное общение, связанное с помощью с использованием специальных средств и орудий (палка, след на земле и т.п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ямое общени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это естественный контакт «лицом к лицу»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Косвенное общени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это участие в процессе общения «посред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тегории этик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то «добро» и «зло», «ответственность», «справедливость», «долг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Добро» и «зло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показатели нравственного поведения. Этика рассматривает «добро» как объективное моральное значение поступка. Оно объединяет совокупность и выступает как идеал для подражания. «Добру» противостоит «зло», между ними идет борьба в мире. Добро и зло – противоположности, которые не могут существовать друг без друга, они и не равнознач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ежличностное обще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это непосредственная связь между группами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ассовое общени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то множественные связи и контакты незнакомых людей в обществ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2916360" y="4508640"/>
            <a:ext cx="244764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Типы межличностного об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мперативное обще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это авторитарная форма воздействия на партнера по общ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анипулятивное обще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сходное с императив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иалогическое обще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является альтернативой императивному и манипулятивному типам межличностного общ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авила взаимоотнош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сихологический настрой на эмоциональное состояние собесед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верие к намерениям партнера без оценки его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сприятие партнера как ровного, имеющего право на собственное м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щение должно быть направлено на общие проблемы и не решенные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зговор необходимо вести от своего и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иды общ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Контакт масок»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общении нет стремления понять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имитивное общение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ценивают по характе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Формально-ролевое общение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щут роль в его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еловое общение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тересуются кто такой именно это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ветское общение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оворят не о том что думают, а том что положено в таких случа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руктура общ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Коммуникативна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которая проявляется во взаимном обмене информацией между партнерами по общ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нтерактивно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заключившейся в организации межличностного взаимо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ерцептивно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которая проявляется через восприятия, понимание и оценку людьми друг дру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просы для самопров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кие формы общения вам извест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кие виды межличностного общения вы зна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зовите профессии, в которых императивный тип общения используется эффектив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зовите сферы человеческих отношений, где применение императива неумес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кие правила надо соблюдать в диалогическом общ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зовите функции, которые проявляются в общ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кие виды общения вам извест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кие стороны входят в структуру общ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3. Роль восприятия в процессе об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цепция введена американским психологом Дж. Брунером в 1947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 восприятие и оценку людьми друг друга влияют различные факт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следователи утверждаю, что дети и взрослые отличаются по социальным перцепции. Дети ориентированы на внешность (одежда, прическа) эмоциональное состояние по л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фессиональное наблюдательность: продавец будет оценивать внешний вид, филолог – особенности речи, медик физическое здоров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юди отличаются друг от друга но большое влияние на впечатление оказывает внешний вид, прическа, одежда, принадле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акторы превосходств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видетельствующие о принадлежности человека к определенной социальной груп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имер: что в одежде свидетельствует в превосходств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е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илуэт (по форме вытянутый прямоугольни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вет (черно-серо-белое гамм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етали, украшения, ча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анера пове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акторы привлекательнос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приближение к типу внешности, максимально одобряемому той группой, к которой мы принадлеж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факторам восприятия является отношение к нам со стороны окружающих. Люди, хорошо к нам относящиеся, оцениваются гораздо выше тех, которые относятся к нам плох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Типичные искаже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Эффект ореола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юбая информация получаемая о человеке, накладывается на заранее созданный образ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При общении с человекам, превосходящим нас по какому-то важному параметру (рост, ум, материальное положение), он оценивается более положительно, чем если был бы нам равен. При этом человек оценивается выше не только по значимому для нас параметру, н и по остальным. И наоборот, если общее впечатление о человеке отрицательное, то даже благородные его поступки не замечаются или истолковываются как коры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рмы морали получают свое выражение в заповедях и принципах о том, как должно себя вести. Одно из первых правил: «поступай по отношению к другим так, как бы ты хотел бы, чтобы они поступали по отношению к тебе». Это правило появилось 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 – 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в. до н.э. одновременно и независимо друг от друга в различных культурных регионах – Вавилоне, Китае, Индии, Евро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Евангелии от Матфея сказано: «Итак, во всем как хотите, чтобы с вами поступали люди, так и поступайте вы с ними» (гл. 7 стр. 1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равственная жизнь человека и общества разделяется на два уровня: одна сторона: сущее, нравы; вторая сторона: должное, идеальный образец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Эффект проекц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это когда мы приятному для нас человеку приписываем свои достоинства, а не приятному – свои недоста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Эффект упрежд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это когда мы сталкиваемся с противоречивой информацией о челове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просы для самопров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Что оказывает влияние на первое впечатление о челове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ие факторы встречаются при восприятии людьми друг друг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ие типичные искажения при восприятии вы зна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спомните уроки литературы. Как случилось, что Хлестаков был принят за ревизора? Какой фактор восприятия при этом преоблада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4. Понимание в процессе об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«Счастье – это когда тебя понимают» - так написал в сочинении герой кинофильма «Доживем до понедельни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3564000" y="3645000"/>
            <a:ext cx="172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сихологический механизм воспри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дентификац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отождествлять) – это употребление себя другому. Чтобы понять партнера по общению, не обходимо поставить себя на его место, так как нельзя по-настоящему понять человека, пока не побываешь в его «шкур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мпат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сопереживание)- это не рациональное осмысление проблем другого человека, а эмоциональный отклик, вчуствование, сопережи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ттракц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привлекать, притягивать) – это форма познания другого человека, основанную на возникновении к нему положительных чувств. Например, молодые люди (юноши и девушки) гораздо лучше понимают друг друга, чем взрослые, которые их окружают (родителей, преподавател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флекс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обращение назад) – это способность человека представить, как он воспринимает партнеров по общ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узальная атрибуц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причина и придаю, наделяю) – это приписывание причин поведения другому челове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ереотипизац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твердый и отпечато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ереотип – это устойчивый образ какого-либо я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5. Общение как взаимодейств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нтерактивная сторона общения связана с взаимодействием людей, с непосредственной организацией их совместной деятельности, при этом действие является основным содержанием общения. Например: «при решении вопроса мы топтались на одном месте» или «он давил на меня, но я не поддался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3564000" y="5516640"/>
            <a:ext cx="1944720" cy="11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зиции родителя, взрослого и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 Характерные слова и выра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се знают что...; Ты не должен никогда...; Ты всегда должен...; Я не понимаю, как это допускают...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ак? Что? Когда? Где? Почему? Вероятно; возмож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Я сердит на тебя! Вот здорово! Отлично! Отвратительно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 Интон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бвиняющие, снисходительные, критические, пресекающ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вязанные с реальн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чень эмоциона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 Состоя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адменное, сверхправильное, очень прилич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нимательность, поиск информ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еуклюжее, игривое, подавленное, угнетен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 Выражение л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ахмуренное, неудовлетворенное, обеспокоен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ткрытые глаз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максимум вним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Угнетенность, удив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 По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уки в бока, указующий перст, руки сложены на гру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аклон вперед к собеседнику, голова поворачивается вслед за н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просы для самопровер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ким образом связаны между собой «действие» и «взаимодействие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чем сущность трансактного анализа процесса взаимодействия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. Берн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характеризуйте взаимодействие с позиций ориентации на контроль и поним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кие формы взаимодействия являются наиболее распространен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-вашему мнению, какой тип межличностного общения характерен для «контролера» и какой тип для «понимател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6. Общение как коммуник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ммуникативная сторона общения проявляется во взаимном обмене информацией между собеседниками, передаче и приеме знаний, мнений и чувств. Обмен информацией между участниками общения осуществляется как на вербальном так и невербальном уров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 вербальном уровне в качестве средства передачи информации используется человеческая речь. Нередко можно слышать мнение, что речь скрывает истинное лицо человека, но вместе с тем, речь может демонстрировать его, вопреки воле говорящ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нформация проходит фильтр «доверия — недоверия», вот почему нередко истинная информация может оказаться неприятной, а ложь — приятной. В большей степени мы доверяем информации, полученной от близких людей, и в меньшей — от незнаком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редко в деловых отношениях мы сталкиваемся с противоречиями между сущим и должным. Это борьба между идеальными и практическим расчетом внутри человека, в деловом общ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ика делового общени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совокупность нравственных норм, регулирующих поведение и отношения людей в профессиональ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арьеры непонимания. В психологии выделяется четыре уровня непонимания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нетическое непонимание появляется в результате использования непонятного языка, невыразительной речи, речи-скороговорки или речи с большим количеством звуков-паразитов (гм-м, э-э..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антические барьеры непонимания связаны с многозначностью слов любого языка, когда участники общения используют различные значения слов, имеющие иной смыс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илистический барьер непонимания возникает при несоответствии стиля речи говорящего и ситуации общения или стиля речи и состояния того, кто в данный момент слуш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огический барьер непонимания возникает в тех случаях, когда логика рассуждения говорящего либо слишком сложна для пони­мания слушающего, либо кажется ему неверной, либо противоречит присущей ему манере доказатель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евербальные средств общения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инесика изучает внешние проявления человека, включающие в себя: мимику (движение мышц лица), пантомимику (движение тела — осанка, походка, позы), жесты и взгля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кстралингвистика исследует речевые паузы, кашель, плач, смех, а паралингвистика — громкость, тембр, ритм, высоту зву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акесика изучает прикосновения в процессе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ксемика исследует расположение людей в пространстве при общ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авила трактовки невербального общ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читать» следует не отдельные же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жесты следует трактовать в контексте их проявл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обходимо учитывать национальные особ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«прочтении» жестов не следует приписывать свой опыт и свое состояние другому челове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обходимо помнить о формально-ролевом общ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.е. если человек играет роль высокомерного, то и жесты будет использовать соответству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ужно учитывать факторы здоровья: к примеру, у близоруких людей зрачки всегда расширены, у дальнозорких — суж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мериканцы любят повторять: «улыбайтесь». Однако следуя этому принципу, помните, что улыбка должна соответствовать ситуации и не должна вызывать раздражение собесед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згляд — это первый шаг на пути к собеседнику. Он может быть жестким, колючим, добрым, радостным, открытым, враждебным, ласковым, вопрошающим, блуждающим, застывшим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рительный контакт зависит от дистанции между собеседниками. Чем ближе находится собеседник, тем меньше нужно смотреть ему прямо в глаза, чтобы не вызвать у него неприятного чув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 общении чаще всего встречаются следующие виды жесто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73200" y="1989000"/>
            <a:ext cx="82296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есты оценки, при которых человек оценивает информацию: почесывание подбородка, вытягивание указательного пальца вдоль щеки, вставание и прохаж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есты самоконтроля: руки сведены за спину, при этом одна сжимает другую или когда человек, сидящий на стуле, вцепился руками в подлокот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есты доминирования: жесты, связанные с выставлением больших пальцев напоказ, а также резкие взмахи сверху вн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есты расположения: прикладывание руки к груди, означающее честность, и прерывистое прикосновение к собеседн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3132000" y="5300640"/>
            <a:ext cx="230364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за — это положение человеческого тела. Например, высоко поднятые плечи со слегка сутулой спиной и втянутым подбородком свидетельствуют о беспомощности, боязливости и неуверенности, а плечи, спадающие вперед, указывают на чувство подавл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 ходе общения можно наблюдать наиболее «читаемые» поз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открытую, характеризующую искренность и правдивость: открытые ладони рук, развернутых навстречу собеседнику; руки и ноги не скрещены; расстегнутый пиджа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закрытую, или защитную, означающую реакцию на возможные угрозы или конфликтные ситуации: скрещенные руки; посадка на стуле верхом, при этом спинка стула является щитом, защитой; а также когда человек сидит на стуле, закинув ногу на ногу или скрестив и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оза готовности, характеризующая желание активных действий, энтузиазм в достижении цели: руки лежат на бедрах; туловище наклонено вперед, руки опираются на колени, а ноги опираются о пол так, что одна нога выступает чуть-чуть вперед, оставляя другую позад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просы для самопровер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чему эффективность общения связывают с коммуникативной сторон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ие коммуникативные барьеры вам известны? Раскройте сущность каждого барьера и приведите примеры из повседневной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Что означает выражение «читать человека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ова роль невербального общения в межличностном взаимодейств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зовите виды невербальных средств об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7. Успех делового обще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щение не всегда протекает гладко и удачно. В процессе общения мы сталкиваемся с различными преградами, которые связаны с непониманием собеседника. Преграды возникают за счет смысловых барьеров, неодинакового прочтения невербальных символов разными людьми, отсутствия внимания и интереса со стороны партнера по общению, а также плохой обратной связи, которая не позволяет определить, действительно ли ваше сообщение истолковано в том смысле, который вы в него вкладыв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02:11:30Z</dcterms:created>
  <dc:creator>Admin</dc:creator>
  <dc:description/>
  <dc:language>en-US</dc:language>
  <cp:lastModifiedBy>Admin</cp:lastModifiedBy>
  <dcterms:modified xsi:type="dcterms:W3CDTF">2012-09-27T06:35:45Z</dcterms:modified>
  <cp:revision>57</cp:revision>
  <dc:subject/>
  <dc:title>Тема: Культура делового общения</dc:title>
</cp:coreProperties>
</file>