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9CBE-0939-4657-BA49-C46622AD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BCE7-A9F3-4BC4-8E15-3CC9B1BF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6506-ECFD-4349-ABA1-6B921F27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6805-0C1B-4A88-994E-DE2B050A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9599-A7CE-4B7B-B8C8-C990E1DC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4DE2-5211-41BA-9D2C-631DA745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7088-5921-4932-8FD4-3138A9F3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E52-D6BE-462B-8E5B-E41E7744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784B-E038-4A8B-BB15-E395190F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0CC5-EEA0-49B6-B983-E41AD287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1D02-A8DA-4F89-BD91-E97A3A04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6383-9F7A-4381-BDBD-2695ED3B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45B3-7752-4E42-8989-E5712B60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731E-CF62-483C-A159-DBDC18B1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356D-0C46-4DD9-A199-2D12DB46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0D2F-18BA-4F1E-B0E3-A1F6991B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F9BD-B2B8-4715-B148-C6E499C2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1864-6D03-4990-AE12-E60815B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1345-B846-4EE5-B4E9-0926F665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4456-405B-4AA2-B39B-9E258AD5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5BE6-60E5-4C74-997D-FF9CC2C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6ABA7-3DB9-41E1-8CF7-F0F6F0D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94A5-F92F-4363-9B39-6653C1B7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F6E1-DB8F-44CF-9079-D0F2C481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DB24-0FEA-4CF9-B6A2-7C470764A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469D-C6AB-46CC-BB6C-5020ED6C6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3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Тема: Культура делового общени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вест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моральное осознание человеком своих действий, благодаря чему мы контролируем свои поступки и даем оценку своим действ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л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осознание добросовестного исполнения своих обязанностей (гражданских и служебных). Например, при нарушении долга, благодаря совести, человек несет ответственность не только перед другими, но и перед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ффективное слушание, наоборот, способствует пониманию обсуждаемой проблемы и приводит к ее решению. Выделяются два вида эффективного слушания: нерефлексивное и рефлексив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рефлексивное слушание — это умение внимательно молчать, не вмешиваясь в речь собеседника своими замечаниями и ком­ментар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флексивное слушание — это процесс расшифровки смысла сообщений и установления активной обратной связи с говорящим. Оно позволяет устранить преграды, искажения в процессе общения и помогает понять смысл и содержание высказываний собесе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 психологии выделяются четыре основных приема рефлексивного слуш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снение. Представляет собой прямое обращение к говорящему за уточнениями при помощи фраз: «Я не понял», «Пожалуйста, уточните это» и т.п., способствующее лучшему поним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ражение чувств. В этом случае особое внимание обращается на отражение слушающим эмоционального состояния говоря­щего при помощи фраз: «Вы немного расстроены», «Очевидно, Вы чувствуете...» и т.п. Отражая чувства собеседника, мы показывает ему, что понимаем его состояние. Данный прием предполагает использование механизма восприятия — эмпа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фразирование, т.е. собственная формулировка сообщения говорящего для проверки точности понимания. При этом исполь­зуются фразы: «Если я Вас правильно понял...», «Другими словами, Вы считаете...», «По Вашему мнению...» и т.п., которые по­казывают говорящему, что его слушают и понимают. В случае неправильного понимания этот прием помогает вовремя исправить не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зюмирование, т.е. подытоживание основных идей, чувств говорящего. Этот прием уместен при длительных беседах, при за­вершении разговора. Используются фразы типа: «Итак, Вы считаете, что...», «Если подвести итог сказанному, то...»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оме того, всегда необходимо помнить об ошибках, которые подстерегают нас на пути слушания, и стараться избегать их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бивать собесе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острять внимание на разговорных особенностях партнера по общ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ать поспешные выводы и тем самым возводить преграды для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пешно возражать, не дослушав собеседника до кон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вать непрошеные со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хники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ем «имя собственное» основан на частом произнесении вслух имени-отчества партнера по общению. Этот прием вызывает положительные эмоции, снимает сопротивление с собеседника и демонстрирует расположение работника к клиенту или партн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ем «золотые слова», или искусство подачи комплиментов, что позволяет настроить собеседника на сотрудничество, вызвать положительные эмоции и создать атмосферу доверия и взаимоув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ем «зеркало отношений» включает в себя улыбку и доброжелательное выражение лица, что способствует положительному настрою, демонстрирует уважение к клиенту или партнеру по общению и создает у него чувство увер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ем «терпеливый слушатель» означает терпеливое и внимательное выслушивание проблем клиента. В результате удовлет­воряется важнейшая потребность в самоутверждении, что ведет к образованию положительных эмоций и создает доверительное рас­положение кли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усская поэтесса Марина Цветаева (1892-1941) говорила: «Одно дело слушать, а другое — слышать». Что вы понимаете под этим высказыва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кройте сущность рефлексивного слуш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 часто в разговоре с друзьями вы используете приемы рефлексивного слушания? Раскройте содержание каждого при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чего нужны «техники общения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Глава 3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ОЯВЛЕНИЕ ИНДИВИДУАЛЬ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СОБЕННОСТЕЙ ЛИЧНОСТИ В ДЕЛО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БЩ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альность — это конкретный человек со своеобразными физическими, физиологическими, психологическими и социальными качествами и свой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ва «личность», «темперамент», «воля», «эмоции», «способности» и многие другие широко используются нами в повседневном общении. Например, когда хотят охарактеризовать какого-то человека, то часто говорят о нем то как о личности, то как об индивидуа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чность — это человек, включенный в систему общественных отношений, который формируется в общении, совместной деятельности и при этом приобретает социальные качества для самостоятельной деятель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19587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ст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ражается в признании моральных заслуг человека. В репутации. Честь офицера, честь бизнесмена, рыцарская честь – именно она требует от человека поддерживать репутацию социальной или профессиональной группы, к которой он принадлеж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стоинств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ражается в самоуважении, в осознании значимости своей личности; оно не позволяет человеку унижаться, льстить и угодничать ради своей вы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1. Темперамен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ще в древности ученых интересовало, почему при взаимодействии с одними и теми же явлениями люди ведут себя столь по-разному? Чтобы ответить на этот вопрос, возникла наука о темпераменте. Понятие «темперамент» происходит от латинского слова «temperamentum», означающее смесь, надлежащее соотношение ча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темпераменте человека можно судить по нескольким основным его свойствам. С точки зрения психолога Вольфа Соломоновича Мерлина (1892—1982) этими свойствами являются следующ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нзитивность (или чувствительность). Она определяется тем, какова наименьшая сила внешних воздействий, необходимая для возникновения у человека какой-либо психической реакции, и какова скорость возникновения этой реакции. Образно говоря, какой должна быть сила воздействия, чтобы до человека «дошл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активность. Это свойство характеризуется степенью (т.е. силой и энергией) реагирования человека на какое-то воздействие одинаковой величины. Например, мы по-разному реагируем на одно и тоже обидное слово или критическое замечание. Реактивность проявляется в большей или меньшей вспыльчивости, если у человека высокая реактивность, про него говорят: «порох», «заводится с пол-оборот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сть. О ней можно судить по тому, с какой энергией, настойчивостью человек сам воздействует на окружающую среду и преодолевает при этом внешние и внутренние препятствия на пути достижения целей. Это свойство помогает сделать професси­ональную карьеру и добиться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тношение реактивности и активности. Это свойство определяет, от чего зависит деятельность человека: от случайных вне­шних и внутренних причин (настроение, так захотелось, случайные события) или от сознательно поставленных целей, уб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Темп реакций. Данное свойство характеризует скорость протекания различных психических реакций и процессов (темп речи, динамика жестов, находчивость ума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моциональная возбудимость. О ней судят по тому, какой силы необходимо воздействие для возникновения эмоциональной ре­акции. Например, одни люди могут спокойно смотреть «ужастики» или триллеры, а другие — пугаются и волнуются по пустя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астичность и ригидность. Они проявляются в том, насколько человек легко и быстро приспосабливается к внешним воздей­ствиям (пластичность) или насколько инертно его поведение (ригидн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траверсия — интроверсия. Экстраверсия (от лат. extra — вне и versio — обращать) и противоположная ей интроверсия (от лат. intro — внутрь) говорят о направленности реакций человека. У экстраверта реакции зависят от внешних впечатлений, получаемых в данный момент, для него главное «здесь и сейчас». У интроверта реакции зависят от образов, представлений и мыслей, связанных с прошлым и будущим, он любит погружаться в воспоми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такое темперамент? Какие бывают типы темперам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айте психологическую характеристику каждому типу темпера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каких жизненных ситуациях темперамент раскрывается наиболее пол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умайте, какие типы темперамента психологически совместимы и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2. Характер и в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Характер» — слово древнегреческого происхождения и в переводе означает чеканка, печать, особенность. Если Вы, к примеру, случайно кому-то грубо ответили, это еще не означает, что грубость является чертой Ваше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Характер человека проявляется черт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е человека к другим людям: родным, коллегам, знакомым, малознакомым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е человека к самому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е человека к миру вещей, т. е. отношение к общественной собственности, а также аккуратное или небрежное об­ращение со своими вещами, одеждой, книгами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ношение человека к делу, к своему тр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, сочетание смелости с осторожностью или импульсивностью, с моральными чувствами или чувством тщеславия по-разному влияет на его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ля — это сознательное регулирование человеком своего поведения и деятельности, выраженное в умении преодолевать внут­ренние и внешние трудности при совершении целенаправленных действий и поступк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сновные этапа волевого процесс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никновение побуждения или постановка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адия обсуждения или борьба мотивов (выбор средств, способов и приемов для достижения поставленной це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ятие решения (выбор действий в соответствии с цель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нение принятого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леустремленность — это способность человека подчинять свои действия целям, которые необходимо достигнуть. Целеустремлен­ные люди ясно видят личные цели и не размениваются на мелочи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обладание — это волевое качество, помогающее людям управлять своими мыслями, чувствами, действиями и поступками. Люди, которым присуще самообладание, уравновешены и последовательн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ром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человек должен быть сдержанным в обнаружении своих достоин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агородств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верен своему слову, если оно даже дано врагу. Он не позволит грубость по отношению к малоприятным для него людям, не будет злословить о них в их отсутст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ешительность — это умение человека принимать своевременные, обоснованные и твердые решения и претворять их в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стойчивость — это волевое качество, благодаря которому человек может мобилизовать свои силы для относительно длительной и сложной борьбы с препятствиями и трудностями, встречающимися на пути достижения ц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нергичность — это волевое качество, которое дает возможность человеку действовать быстро и с большим напряжением фи­зических и духовных сил. Энергичные люди, как правило, при достижении целей не пасуют перед трудностями, а наоборот, мо­билизуют свою деятельность. Они всегда к чему-то стремятся, строят планы и увлекают за собой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полнительность — это волевое качество человека, направленное на активное, старательное и систематическое исполнение принятых решени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 такое характе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ие основные черты характера вам извест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кажите на примерах, что характер человека формируется на протяжении всей жизни, а не является неизменным и прирожд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 такое воля и какова ее основная зада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ие приемы способствуют формированию волевых качеств лич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им из проявлений воли является выдержка человека. Может ли в вашей будущей профессиональной деятельности проявиться несдержанность? Если да, то что вы сделаете для ее преодо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ие основные волевые качества человека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3. Способности — важное условие успеха в профессиональной деятель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особности — это индивидуально-психологические особенности личности, которые проявляются в конкретной сфере и являются условием успешной работы в н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зличаются следующие виды способностей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ие способности необходимы для достижения успеха в любом виде деятельности; к ним относятся уровень общего интел­лектуального развития, устойчивость внимания, волевой самоконтроль, трудоспособность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ие и специальные способности связаны, они дополняют и обогащают друг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ие способности, которые обеспечивают относительную легкость и продуктивность в овладении знаниями в различных видах деятельности, часто называются одарен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сокий уровень развития специальных способностей говорит о талантливости; деятельность талантливого человека отличается новизной и оригиналь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такое «способности» и как они связаны с деятельностью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существуют точки зрения на происхождение способнос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вы знаете виды способност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ая существует зависимость между способностями, умениями и знани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4. Эмоции и чув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моции — это непосредственное, временное переживание какого-нибудь чувства, например чувство любви к спор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моции — это явления, которые выражаются в переживании человеком своего отношения к окружающей действительности и к самому себе, причем для эмоций характерна субъе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енические — сильные, тонизирующие; активизируют деятельность, побуждают к поступкам и высказываниям (радость, гн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стенические — Пассивные, угнетают активность, вызывают скованность, мешают при достижении целей (страх, тоск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моции в зависимости от устойчивости, длительности и силы различают по ви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строение — это длительное эмоциональное состояние, связанное со слабо выраженными положительными или отрицательными эмоциями, окрашивающее все другие переживания, мысли и действи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ффект — это сильное, кратковременное эмоциональное состояние, напоминающее бурю, шквал. Аффект возникает внезапно, резко, и в этот момент человек как бы теряет самоконтроль, весь отдается пережи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асть — это яркое, сильное эмоциональное состояние, направленное на удовлетворение потребностей и захватывающее человека надол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чувст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равственные (моральные) чувства основаны на нравственной оценке человеком своих и чужих поступков и действий в со­ответствии с усвоенными моральными нормами и правилами (добро, справедливость, долг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ллектуальные чувства сопровождают процесс познания и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стетические чувства представляют собой эмоциональное отношение человека к прекрасному в природе, искусстве, в жизни люде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равственные, интеллектуальные и эстетические чувства переживаются человеком в деятельности и общении. Например, страх выражается в расширение зрачков, в дрожи, бледности; для ужаса характерны широко раскрытые глаза, бледность кожи, дрожащий гол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такое «эмоции»? В чем состоит важное отличие эмоций от чув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вы знаете виды эмоц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вы знаете виды чув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гда ли эмоциональная реакция человека соответствует воздействию? Объясните причины возможного соответствия или несоответствия, свой ответ проиллюстрируйте приме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эмоции проявляются внеш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е значение в жизни человека играют эмо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ажите на примерах связь эмоциональных реакций с их физиологическим прояв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возникли и что выражают термины «этика» и «мораль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такое «добро» и «зло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формулируйте «золотое правило нравственнос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основные элементы входят в понятие «культура делового общения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Глава 4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КОНФЛИКТЫ В ДЕЛОВОМ ОБЩЕН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1. Конфликт и его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фликт (от лат. conflictus — столкновение) — это столкновение противоположно направленных целей, интересов, позиций, мнений, точек зрений, взглядов партнеров по общению. В психологии выделяются следующие типы конфли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фликт между группой и личностью проявляется как противоречие между ожиданиями отдельной личности и сложившимися в группе нормами поведения и об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28796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ые типы конфликтоген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емление к превосходст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явление агре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явление эго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решить конфликт — зна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ранить конфликтную ситу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черпать инцид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кройте содержание понятия «конфлик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ределите, к какому типу относятся следующие конфли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труднику администрация предъявляет противоречивые требования к конечному результату его работы, и он не знает, как посту­п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ководитель не оценил работу подчиненного и этим обидел 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 принятии решений в коллективе происходит столкновение взглядов и характ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ществует ли взаимосвязь между формулой конфликта и возможностью его разреш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2. Стратегия поведения в конфликтных ситуация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структивные конфликты — это конфликты, при которых разрушаются межличностные связи, резко снижается эффективность работы, а решение проблемы становится невозмож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перничество — это открытая «борьба» за свои интере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трудничество — это поиск решения, удовлетворяющего интересы двух стор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мпромисс — это урегулирование разногласий через взаимные уступ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збегание — это стремление выйти из конфликта, не решая его, не настаивая на своем, но и не уступая сво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способление представляет собой тенденцию к сглаживанию противоречий, поступаясь своими интересами. Если нужда другого человека окажется более важной, чем ваша, а переживания — сильнее, то эта стратегия является единственной для раз­решен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тратегия приспособления может применять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ас не особо волнует случившееся, а предмет разногласия для вас не важ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 осознаете, что правда на вашей сторо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 чувствуете, что ваши шансы на победу минималь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 считаете, что лучше сохранить добрые отношения с партнером, чем отстаивать собственную пози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кройте сущность каждой стратегии поведения в продуктивном конфли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ая стратегия характерна для в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3. Правила поведения в конфлик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гневан — потерпи, немного охладев, рассудку уступи, смени на милость гнев. Разбить любой рубин недолго и несложно, но вновь соединить осколки невозмож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фликте у человека доминирует не разум, а эмоции, что ведет к аффекту, когда сознание просто отключается и человек не отвечает за свои слова и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йте партнеру «выпустить пар». Если партнер раздражен и агрессивен (переполнен отрицательными эмоциями), договориться с ним трудно, а зачастую невозможно, поэтому постарайтесь помочь ему снизить внутреннее напряжение. Во время его «взрыва» рекомендуется вести себя спокойно, уверенно, но не высок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ивайте агрессию неожиданными приемами. Например, задайте неожиданный вопрос совсем о другом, но значимом для партнера деле или доверительно попросите у конфликтующего собеседника со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давайте партнеру отрицательных оценок, а говорите о своих чувствах. Не говорите: «Вы меня обманываете», лучше звучит: «Я чувствую себя обмануты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2. Профессиональная э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фессиональная моральная нор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жлив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выражение уважительного отношения к другим людям, их достоинству. В основе вежливости лежит доброжелательность, которая проявляется в приветствиях и пожеланиях. Например, мы желаем доброй ночи, доброго утра, успехов, здоровья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жливый человек – э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упредительны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человек, он стремится первым оказать любезность, первым уступит место в транспо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08360" y="5157720"/>
            <a:ext cx="14288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росите сформулировать желаемый конечный результат и проблему как цепь препятствий. Проблема — это то, что надо ре­шать, а отношение к человеку — это фон, условия, в которых приходится принимать 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жите клиенту высказать свои соображения по разрешению возникшей проблемы и свои варианты решения. Не надо ис­кать виновных и объяснять создавшееся положение. Ищите выход из него. Не останавливайтесь на первом приемлемом варианте, их должно быть найдено много, чтобы выбрать лучший (альтернатива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любом случае дайте партнеру «сохранить свое лицо». Не позволяйте себе распускаться и отвечать агрессией на агрессию и задевать достоинства партнера; он этого не простит, даже если уступит нажиму. Не затрагивайте его личность, а давайте оценку только действиям и поступкам, например, можно сказать: «Вы уже дважды не выполнили свое обещание», но нельзя говорить: «Вы — необязательный челове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ажайте, как эхо, смысл высказываний и претензий. Употребление фраз типа «Правильно ли я Вас понял?», «Вы хотели сказать...» устраняет недоразумения и демонстрирует внимание к собеседнику, что уменьшает его агрес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бойтесь извиниться, если чувствуете свою вину. К извинениям способны уверенные и зрелые люди, поэтому это обезору­живает клиента и вызывает у него уважение и довер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чего не надо доказывать. В конфликте никто никогда и никому ничего не сможет доказать, так как отрицательные эмоции блокируют способность понимать и соглашаться с «врагом». Человек в этот момент не думает, его рациональная часть отключается, а поэтому незачем пытаться что-либо доказ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молчите первым. Если так получилось, что вы не заметили, как «втянулись» в конфликт (по наблюдениям 80 % конфликтов возникает помимо желания их участников), попытайтесь сделать единственное — замолч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характеризуйте состояние оппонента. Избегайте словесной констатации отрицательного эмоционального состояния партнера: «Что ты злишься, нервничаешь?», «Чего ты бесишься?» — такие «успокоители» только укрепляют и усиливают конфл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зависимо от результата разрешения противоречия старайтесь не разрушать отношения. Выразите свое уважение и расположение клиенту, партнеру и выскажите согласие по поводу возникших труд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льз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итически оценивать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писывать ему низменные или плохие на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монстрировать знаки своего превосх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винять и приписывать ответственность только партн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гнорировать интересы партнера по об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ть все только со своей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меньшать заслуги партнера и его вклад в обще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увеличивать свои за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дражаться, кричать и напа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евать «болевые точки» и уязвимые места парт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ушивать на партнера множество претенз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равила поведения в конфликтной ситуации вы можете взять себе на «вооружение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запрещено в конфлик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ррект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мение держать себя в рамках приличия в любых ситуациях и особенно в конфлик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жливость обусловливает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ак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увством м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Быть тактичным – значить умело сделать замечание, не унижая достоинство человека, предоставить ему возможность выйти из затруднения с че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ждый вид профессиональной этики определяется своеобразием профессиональной деятельности и имеет свои специфические требования в области морали. Например, воинской службы, своеобразие медицинской этики. Однако любая специфика невозможна без учета общечеловеческих ценностей и этических 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го хочет покупатель от продавцов? Во-первых, приобретения качественного, модного, удобного товара по приемлемой цене. Во-вторых, компетентности, внимательного и вежливого отношения к себе при выборе пок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овое отношение продавца с покупателем начинается с приветствия За приветствием следуют слова: «Пожалуйста, что вас интересует?» или «я вас слушаю», а не «Вы что, не видите, что я заня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енщины в своем выборе полагаются на себя; они долго рассматривают изделие и поэтому не рекомендуется их тороп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кончанием общения продавцов с нами, покупателями, является прием оплаты за выбранный товар и его упаковка, после чего продавец должен поблагодарить за покуп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вы понимаете под понятием «профессиональная этик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м нравственным требованиям соответствует действия работников в следующих ситуац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  Кассир сбербанка отлучился с рабочего места и этим вызвал задержку в обслуживании клиентов. Возвратившись на рабочее место, сказал: «Извините, что задержал вас, сейчас быстро все улаж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)  В секции самообслуживания покупательница брала пару туфель для примерки и при этом несколько пар, стоявших рядом упали. Покупательница растерялась и смутилась. Продавщица спокойно подошла и поставила обувь на место, сказав: «Ничего страшного, это происходит част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3 Деловой этикет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62038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личие – это наименее важный из всех законов общества и наиболее чтим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Ф. Ларошфуко (1613 – 76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Французский писатель-мор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4419720"/>
            <a:ext cx="201600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Этика и культура поведения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Психологические аспекты делового общения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явление индивидуальных особенностей личности в деловом общ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фликты в деловом общ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тике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лово французского происхождения, означающее манеру поведения. Родиной этикета считается Италия. Этикет предписывает нормы поведения на улице, в общественном транспорте, в гостях, в театре, на работ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н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способ держать себя, внешняя форма поведения, обращение с другими людьми, а так же тон, интонации и выражения, употребляемые в речь. Кроме того, это жесты, походка, мимика, характерные дл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ловой этик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свод правил поведения в деловых, служебных отношениях. Он является важнейшей стороной морали профессионального поведения делов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жен Ягер в своей книге «Деловой этикет» отмечает, что каждая проблема, связанная с этикетом, начиная от хвастовства и кончая обменом подарками, должна  решаться в свете этических н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жен Ягер сформулировал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есть основных заповедей делового этик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лайте все воврем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поздания не только мешает работе, но и являются первым признаком того, что на человека нельзя полож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болтайте лишне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мысл этого принципа в том, что вы обязаны хранить секреты учреждения или конкретной сделки так же бережно, как и тайны личн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ьте любезны, доброжелательны и приветливы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ши клиенты, заказчики, покупатели, сослуживцы или подчиненные могут сколько угодно придираться к вам, это неважно: всеравно вы обязаны вести себя вежливо, приветливо и доброжел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майте о другим, а не только о себ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нимание должно проявляться не только в отношении клиентов или покупателей, оно распространяется на сослуживцев, начальство и подчин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евайтесь, как пол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ворите и пишите хорошим языком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икет выражается в самых разных сторонах наш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пример, этикетное значение могут иметь разнообразные движения человека, позы, которые он принимает. Сравните вежливое положение лицом к собеседнику и невежливое – спиной к нему. Такой этикет называет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вербальны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есный эти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идский писатель и мыслитель Саади (между 1203 и 1210 – 1292) сказал: «Умен ты или глуп, велик ты или мал, не знаем мы, пока ты слова не сказал». Сказанное слово, будто индикатор, покажет уровень культуры человека. И. Ильф и Е. Петров в романе «Двенадцать стульев» высмеяли жалкий набор из лексики Эллочки-«людоедки». Жаргон – это «испорченный язык», цель которого обособить какую-то группу людей от остальной част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малое место в деловом этикете занимае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ветств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Встречаясь друг с другом,  мы обмениваемся фразами: «Здравствуйте», «Добрый день ( утро, вечер)», «привет». В одном из стихотворений русский советский писатель Владимир Алексеевич Солоухин (1924 – 1997) напис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у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клонившись, мы друг другу сказ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отя были совсем незнакомы. Здравству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особого тем мы друг другу сказ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сто «Здравствуйте», больше ведь мы ничего не сказ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чего же на капельку солнца прибавилось в ми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чего же на капельку радостней сделалась жиз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язательным условием делового контакта являетс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льтура реч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ультурная речь – это прежде всего правильная, грамотная речь и, кроме того, верный тон общения, манера разговора, точно подобран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ециалисты рекоменду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едить за правильным употреблением слов, их произношением и ударе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использовать обороты, содержащие лишние слова (например, «абсолютно новый» вместо «новый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бавляться от слов-«паразитов» («так сказать», «такая», «ну»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бегать заносчивости, категоричности и самонадея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означает слово «Этик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формулируйте основные принципы делового этик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чему по речи судят об общей культуре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готовьте сообщение (доклад): «Роль этикета в моей будущей профессии»; «Значение культуры речи в профессиональной карьер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помните кинофильм Э. Рязанова «Служебный роман», в котором Лия Ахеджакова замечательно сыграла роль «секретаря». Какие принципы делового этикета ее героиня наруша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основные формы обращения и приветствия вы используете в повседневной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4. внешний облик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58920" y="2060280"/>
            <a:ext cx="57006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одежке встреч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 уму провож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усская народная муд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1413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о приходится слышать о том, что нельзя делать вывод о человеке по первому впечатлению. Однако по подсчетам психологов люди в 85 случаях из 100 свое отношение к другому человеку строят на основе внешнего впечатления. Особенности внешнего вида человека информируют нас о возрасте, социальной, национальной и профессиональной принадлежности. Вот почему в общении важны и сказанные слова, и внешни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вной ошибкой, по словам признанного специалиста в области деловой одежды Дж. Т. Моллой, является слишком преувеличенное значение своей привлекательности и усердное следование м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Глава 1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Этика и культура повед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997360"/>
            <a:ext cx="52578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ди, особенно молодежь, забывают, ч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о безликий стандарт, который не подчеркивает индивидуальность. Человек должен выбрать св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и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дежде, поскольку мода переменчива, а стиль остается. Вы, наверное, заметили: одежда модная, хорошо сидит на фигуре и цвет ваш, но не радует глаз, не греет душу, - это означает, что одежда не вписывается в ваш стиль, не соответствует вашему образу и характ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жным условием элегант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является учет при покрое одежды объемов тела и пропорций отдельных его частей. Одежду рекомендуется подбирать в соответствии с типом фигуры и лица. Главное – видеть недостатки своего силуэта и умело, при помощи одежды, корректиров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создания внешне привлекательного образа человека используется макияж, который помогает не только освежить лицо, но и исправить небольшие индивидуальные недостатки его черт. Хороший макияж – это макияж незаметный, который, как говорят профессионалы, должен «хорошо прилегать к лиц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че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олосы – природное украшение, за которым нужно ежедневно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детали вашего наряда – от обуви до заколки в волосах – должны гармонировать друг с д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ятност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вляется основным требованием этикета к внешнему ви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всегда надо помнить, что внешняя красота может только привлечь внимание окружающих, а для того чтобы удержать его, необходима духовная красота. Внешне красивый, но грубый, злой, некультурный человек с вульгарным лексиконом и поведением производит неприятное впечат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основные требования предъявляются к внешнему виду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означает «быть элегантным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5. Культура телефонн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2349360"/>
            <a:ext cx="70678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меня зазвонил телеф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то говор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 верблю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вам 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. Чуковский (1882 – 1969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русский советский писатель, литературов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041800" y="2997360"/>
            <a:ext cx="12128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удобное и оперативное средство связи, без которого невозможно представить современную жизнь. Человечество пользуется телефоном уже более века: в 1876 г. Был создан первый, еще несовершенный, но уже получивший признание телефонный аппа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ефонный разговор обеспечивает двусторонний обмен информацией независимо от расстояния. Но, как показывает практика, к разговору по телефону, особенно деловому, надо готовиться. Плохая подготовка, неумение лаконично и грамотно излагать свои мысли отнимает от 20 до 30% рабочего времени современного государственного служащего. Культура телефонного общения – это средство формирования у партнеров вашего имиджа и имиджа учреждения, в котором вы служ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445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ядом с телефоном полезно держать ручку, блокнот и календа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е звонка быстро снимите трубку. Не «срывайте» трубку во время звонка: в электроцепях резко возрастает сила тока, что может привезти к поврежд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убка снята. Возникает вопрос: какое слово произнести, чтобы контакт был установлен? Жестких рамок здесь нет. Как правило, человек отвечает: «Алло», «Слушаю», «Да», а не «Я вас слуша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комендации специалист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делать, если во время вашей беседы с клиентом раздается телефонный звонок? Правила телефонного этикета и вежливости предписывают поступать следующим образом: извинитесь перед клиентом, снимите телефонную трубку и, сославшись на занятость, попросите перезвонить или запишите телефонный номер и перезвоните после того как освободи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 пригласить коллегу к телефону? «одну минуту» Иван Петрович – Вас!». После этого аккуратно передайте трубку телефона. При вызове по телефону отсутствующего  в данное время сотрудника надо сказать, что : «Его сейчас нет на месте. Будет тогда-то. Может быть, ему что-нибудь перед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ловой телефонный разговор должен быть кратким. Например, в японской фирме не будут долго держать сотрудника, который не решит деловой вопрос по телефону за три мин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жно, чтобы служебный телефонный разговор велся в спокойном, вежливом тоне. говоря по телефону, мы можем вызвать доверие у собеседника или, наоборот, неприя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когда не говорите по телефону с набитым ртом. Недопустима во время телефонного разговора жевать, пить и параллельно разговаривать с сотрудн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лефон углубляет недостатки речи, поэтому рекомендуется следить за произношением чисел, имен собственных и фамилий. Не допускается жаргон и такие выражения, как «идет», «лады», «добро», «пока»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вдруг при разговоре произошла пауза, то подтвердите свое внимание репликами: «Да, да», «Понимаю». Завершить разговор следует во время, «До свидания, спасибо за звонок», «Приятно было поговорить с в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ажнейшей стороной профессионального поведения является деловой этикет, который приписывает  нормы поведения на работе, улице, в гостях, в транспорте и т.д. Речевой этикет, искусство ведения телефонных разговоров, правила переписки и внешний вид служат признаками вашей воспитанности, респектабельности и уверенности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ните, что в деловых отношениях мелочей не 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 случае того, если звоните 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ределите цель телефонного разговора. Если вы определите цель и тактику ведения телефонного разговора, то составьте план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мер набран. В начале, согласно по этикету, представьтесь и поздоровайтесь. Если на ваш звонок абонемент не отвечает, помните, что на 5-й сигнал вешают трубку и вызов повторяют поз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вонок по домашнему телефону сослуживцу для служебного разговора может быть оправдан только серьезной прич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ушением этикета считается невыполнение обещания перезвонить. Если обещал, надо позвонить обязательно, иначе создадите себе репутацию несерьезн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пригласить к телефону коллег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го нельзя делать во время телефонного разгов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чему нельзя использовать служебный телефон для личных разгово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6. деловая бес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ловая беседа имеет свои закономерности и традиции, тщательной подготовки и базируется на этических нормах и прави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ирование деловой беседы – это разработка стратегии и тактики достижения цели, выбора места за два-три д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987640" y="5516640"/>
            <a:ext cx="22924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овая беседа состоит из несколь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дача информации (изложение своей позиции) и аргумен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слушивание доводов собеседника и реакция на 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ятие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чало беседы влияет на весь ее дальнейший ход, этапы являются установление контакта. Прождавший вас с полчаса в приемной, вряд ли будет дружески настроен. Лучше всего сесть напротив друг друга, хозяин всегда предложит гостю чай или коф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собеседнику лучше обращаться по имени-отчеству и постарайтесь ободрить собеседника и установления контакта является встреча глазами. Проявление любой бестактности и решение, которое должно изолгаться ясно, четко, утверди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чему деловая беседа не может проходить спонтан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входит в структуру деловой бесе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кажите многогранность задачи начального этапа деловой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приемы помогают партнеру чувствовать себя уверен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кройте основную сущность заключительного этапа деловой бес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7. Деловая пере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ужебная перепис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вляется важной частью делового этикета, «общением в миниатюр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а способствует установлению прочных связей с потребителем, взаимосвязи служб, фи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составлении делового письма необходимо соблюдать треб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полнитель должен отчетливо представлять себе сообщение, которое хочет передать, и точно знать, как это выразить в понятной, сжат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сьмо должно быть простым, логичным, конкретным и не допускать двусмысл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сьмо должно составлять только по одному во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сьмо должно быть убедительным и достаточно аргументирова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сьмо должно быть написано в нейтральном т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м делового письма не должно превышать двух страниц машинописн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точки зрения грамматики деловое письмо должно быть безупреч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ловое письмо должно быть корректным, написано вежливым т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вильное пись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имани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«Уважаемая (ый)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хочу сообщить Вам нечто важное (интересное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ес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«Мы (я) предлагаем Вас то, что может существенно улучшить Вашу жизн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ьб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«Нам требуется помощь людей, готовых вложить хотя бы … в благодарное, патриотическое дел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йствие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Мы призываем Вас присоединиться к тысячам добрых людей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деловых пис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юме и письмо с просьбой о приеме на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заявление об ух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комендательное пись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от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запрос о ходе исполнения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напомин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уведом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сьмо-благодар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1. Общие сведения об этической культу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одна из древнейших отраслей философии, наука о морали (нравственности). Термин «этика» происходит от греческого слова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ho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(«этика») – обычай, нрав. Термин «этика» был введен Аристотелем (384 – 322 гг. до н.э.) для обозначения учения о нравственности , причем этика считалась «практической философией», которая должна дать ответ на вопрос: «Что мы должны делать, чтобы совершать правильные, нравственные поступк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8244000" y="6380280"/>
            <a:ext cx="647640" cy="28872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418" h="21600">
                <a:moveTo>
                  <a:pt x="0" y="0"/>
                </a:moveTo>
                <a:lnTo>
                  <a:pt x="48418" y="0"/>
                </a:lnTo>
                <a:lnTo>
                  <a:pt x="48418" y="21600"/>
                </a:lnTo>
                <a:lnTo>
                  <a:pt x="0" y="21600"/>
                </a:lnTo>
                <a:close/>
              </a:path>
              <a:path fill="lightenLess" w="48418" h="21600">
                <a:moveTo>
                  <a:pt x="0" y="0"/>
                </a:moveTo>
                <a:lnTo>
                  <a:pt x="48418" y="0"/>
                </a:lnTo>
                <a:lnTo>
                  <a:pt x="47018" y="1400"/>
                </a:lnTo>
                <a:lnTo>
                  <a:pt x="1400" y="1400"/>
                </a:lnTo>
                <a:close/>
              </a:path>
              <a:path fill="darken" w="48418" h="21600">
                <a:moveTo>
                  <a:pt x="48418" y="0"/>
                </a:moveTo>
                <a:lnTo>
                  <a:pt x="48418" y="21600"/>
                </a:lnTo>
                <a:lnTo>
                  <a:pt x="47018" y="20200"/>
                </a:lnTo>
                <a:lnTo>
                  <a:pt x="47018" y="1400"/>
                </a:lnTo>
                <a:close/>
              </a:path>
              <a:path fill="darkenLess" w="48418" h="21600">
                <a:moveTo>
                  <a:pt x="48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18" y="20200"/>
                </a:lnTo>
                <a:close/>
              </a:path>
              <a:path fill="lighten" w="48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18" h="21600">
                <a:moveTo>
                  <a:pt x="20710" y="10800"/>
                </a:moveTo>
                <a:lnTo>
                  <a:pt x="31216" y="3794"/>
                </a:lnTo>
                <a:lnTo>
                  <a:pt x="31216" y="17806"/>
                </a:lnTo>
                <a:close/>
              </a:path>
              <a:path fill="darken" w="48418" h="21600">
                <a:moveTo>
                  <a:pt x="17203" y="3794"/>
                </a:moveTo>
                <a:lnTo>
                  <a:pt x="18865" y="3794"/>
                </a:lnTo>
                <a:lnTo>
                  <a:pt x="18865" y="17806"/>
                </a:lnTo>
                <a:lnTo>
                  <a:pt x="1720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ие 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сьмо должно быть лакон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язательно должна проявляться д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сьмо не должно содержать клеветнических измыш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лжна быть разборчивая подп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этические требования предъявляются к деловой перепис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числите виды деловых пи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пишите образец любого, выбранного вами, делового пис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8. визитная карточка в деловой жиз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современных условиях трудно представить деловую жизнь без визитной карточки, которая имеет свою историю. Например, в дореволюционной России визитные карточки были весьма распростран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иды визитной карт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ндартизированная визитная карточка сотру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дставительная карточка сотрудника фи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зитная карточка фи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мейная визитная карт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чие визитные кар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формления визитной кар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умага должна быть плотной, высокого качества, размером приблизительно 5-8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умага должна быть белого или светлого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екст должен быть простым, легко читаемым, шрифт – черного цвета, без золотых напы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435640" y="5373720"/>
            <a:ext cx="17892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типы визитных карточек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следует вручать и получать визитную карточ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правила оформления визитной карточки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9. Деловой прото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ловой протоко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это правила, которое регламентируют порядок встреч и проводов, проведения бесед и переговоров, организации приемов, оформление деловой переписки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851280" y="429264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 входит в понятие «деловой протокол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готовьте доклады на темы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Виды деловых приемов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Организация и порядок проведения деловых прием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10. Интерьер рабочего пом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терье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внутреннее помещение в з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оформлению нужно отнестись очень серьезно. В офи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хламленный стол производит отталкивающие впечатление поэтому будьте опрят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арайтесь не обедать за рабочим сто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вы привыкли пить кофе за рабочим столом, пользуйтесь чашкой, а не одноразовыми стаканч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пробуйте посмотреть на свое рабочие место глазами постороннего человека и увидите: «Хотелось бы прийти к человеку в таком кабинет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148360" y="5300640"/>
            <a:ext cx="2232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спринимайте ваш офис как свой дом, продумайте все мелочи с точки зрения хорошего 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достоверьтесь, что любой предмет, даже самый незначительный, в вашем кабинете выбран так, чтобы подчеркнуть ваш имид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едите, чтобы в вашем кабинете всегда было чисто и прия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сли вам для работы обязательно нужны горы бумаг, устройте аккура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мер телефонов и документов, которые доверили лично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возможности не пользуйтесь телефон с микроф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рал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 лат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r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ственный) – это система этических ценностей, которые признаются человеком. Она регулирует поведение человека во всех сферах общественной жизни – в труде, в быту, в личных, семейных и международных отнош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овать в соответствии с моралью – значит выбирать между добром и злом. Человек стремится построить свою жизнь таким образом, чтобы уменьшить зло и умножить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ажите, что интерьер помещения – лицо фи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какие детали вы обратили бы большее внимание при оформлении своего рабочего ме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11. Особенности национальной э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мериканц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это люди дела с демократичным этикетом без церемоний, не любящие чопор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глийс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этикет официален и традицион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ец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этикет основан на порядке, пунктуальности, дисцип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ранцузск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этикет отличается галантным отношением мужчины к женщ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Японц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трудолюбивы, с большим вниманием относятся к тради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рабские стран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исламские традиции. Все по тради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чего необходимы знания национального этик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общие принципы культуры поведения вы зн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готовьте доклад о традициях и особенностях той страны, которую вы бы хотели бы пос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Глава 2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Психологические аспекты делового общ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ловек становиться человеком только в общ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ловое общение строиться на таких моральных качествах личности, как честность, долг, совесть, достои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туан де Сент-Экзюпери: «Общение единственное роскошь, которое есть у челове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1. Общение – основа человеческого бы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 Якокка (Американский предприниматель): «Умение контактировать с людьми – это и вс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это сложный, многогранный процесс, взаимодействие между двух или более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ловое общ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это общение, обеспечивающее успех какого-то общего дела и создающее необходимые условия для сотрудничества люд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500720" y="5300640"/>
            <a:ext cx="17269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бстрактные т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здорный человек, «нигилист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Не придерживается темы беседы, нетерпелив, несдерж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зитивный человек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Является самым приятным собесед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сезнай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Всегда уверен в том, что все знает лучш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тун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Любит высказываться пространно, бестактно, прерывает бес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усишка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акой собеседник недостаточно уверен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ладнокровный, неприступный собеседник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, держится отчужденно, не включается в деловую бес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заинтересованный собеседник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овой разговор, тема беседы его не интерес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жная птиц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кой собеседник не выносит никакой кри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чемучка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оянно задает вопросы, независимо от того, имеет ли они реальную основу или надум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такое общение? Какая основа об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чем заключается основная задача делового общ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означает «уметь общаться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«абстрактные типы» собеседников вам извест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«абстрактные типы» собеседников вам встречались чаще всего? Приведите при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2. Классификация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посредственно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ение является исторически первой формой общения людей между собой. Например, опосредованное общение, связанное с помощью с использованием специальных средств и орудий (палка, след на земле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ямое общен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это естественный контакт «лицом к лицу»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освенное общ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это участие в процессе общения «посред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тегории эти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«добро» и «зло», «ответственность», «справедливость», «долг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Добро» и «зло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показатели нравственного поведения. Этика рассматривает «добро» как объективное моральное значение поступка. Оно объединяет совокупность и выступает как идеал для подражания. «Добру» противостоит «зло», между ними идет борьба в мире. Добро и зло – противоположности, которые не могут существовать друг без друга, они и не равнознач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жличностное общ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это непосредственная связь между группами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ссовое об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о множественные связи и контакты незнакомых людей в обществ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24476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ипы межличностн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мперативное общ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авторитарная форма воздействия на партнера по об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анипулятивное общ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ходное с императ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алогическое общ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является альтернативой императивному и манипулятивному типам межличностного об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авила взаимо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сихологический настрой на эмоциональное состояние собесе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верие к намерениям партнера без оценки его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сприятие партнера как ровного, имеющего право на собственное м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щение должно быть направлено на общие проблемы и не решен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говор необходимо вести от своего и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Контакт масок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бщении нет стремления понять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митивное общени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енивают по характ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ально-ролевое общени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щут роль в ег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ловое общени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ресуются кто такой именно это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етское общени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ворят не о том что думают, а том что положено в таких случа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руктура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оммуникатив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которая проявляется во взаимном обмене информацией между партнерами по общ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нтерактив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заключившейся в организации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рцептивн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которая проявляется через восприятия, понимание и оценку людьми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формы общения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виды межличностного общения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овите профессии, в которых императивный тип общения используется эффекти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овите сферы человеческих отношений, где применение императива неуме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правила надо соблюдать в диалогическом общ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овите функции, которые проявляются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виды общения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стороны входят в структуру общ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3. Роль восприятия в процессе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цепция введена американским психологом Дж. Брунером в 194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восприятие и оценку людьми друг друга влияют различ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следователи утверждаю, что дети и взрослые отличаются по социальным перцепции. Дети ориентированы на внешность (одежда, прическа) эмоциональное состояние по 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фессиональное наблюдательность: продавец будет оценивать внешний вид, филолог – особенности речи, медик физическ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юди отличаются друг от друга но большое влияние на впечатление оказывает внешний вид, прическа, одежда, принадле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акторы превосходств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видетельствующие о принадлежности человека к определенной социальной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мер: что в одежде свидетельствует в превосходств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луэт (по форме вытянутый прямоуголь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вет (черно-серо-белое гам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тали, украшения,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анера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 привлека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приближение к типу внешности, максимально одобряемому той группой, к которой мы принадле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факторам восприятия является отношение к нам со стороны окружающих. Люди, хорошо к нам относящиеся, оцениваются гораздо выше тех, которые относятся к нам пло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ипичные искаж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ффект ореол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бая информация получаемая о человеке, накладывается на заранее созданный образ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При общении с человекам, превосходящим нас по какому-то важному параметру (рост, ум, материальное положение), он оценивается более положительно, чем если был бы нам равен. При этом человек оценивается выше не только по значимому для нас параметру, н и по остальным. И наоборот, если общее впечатление о человеке отрицательное, то даже благородные его поступки не замечаются или истолковываются как коры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ы морали получают свое выражение в заповедях и принципах о том, как должно себя вести. Одно из первых правил: «поступай по отношению к другим так, как бы ты хотел бы, чтобы они поступали по отношению к тебе». Это правило появилось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 – 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в. до н.э. одновременно и независимо друг от друга в различных культурных регионах – Вавилоне, Китае, Индии, Ев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Евангелии от Матфея сказано: «Итак, во всем как хотите, чтобы с вами поступали люди, так и поступайте вы с ними» (гл. 7 стр. 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равственная жизнь человека и общества разделяется на два уровня: одна сторона: сущее, нравы; вторая сторона: должное, идеальный образец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ффект проекц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это когда мы приятному для нас человеку приписываем свои достоинства, а не приятному – свои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ффект упрежд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когда мы сталкиваемся с противоречивой информацией о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оказывает влияние на первое впечатление о челове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факторы встречаются при восприятии людьми друг дру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типичные искажения при восприятии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спомните уроки литературы. Как случилось, что Хлестаков был принят за ревизора? Какой фактор восприятия при этом преоблад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4. Понимание в процессе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Счастье – это когда тебя понимают» - так написал в сочинении герой кинофильма «Доживем до понедель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172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сихологический механизм вос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дентифик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отождествлять) – это употребление себя другому. Чтобы понять партнера по общению, не обходимо поставить себя на его место, так как нельзя по-настоящему понять человека, пока не побываешь в его «шкур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пат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сопереживание)- это не рациональное осмысление проблем другого человека, а эмоциональный отклик, вчуствование, сопереж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ттрак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привлекать, притягивать) – это форма познания другого человека, основанную на возникновении к нему положительных чувств. Например, молодые люди (юноши и девушки) гораздо лучше понимают друг друга, чем взрослые, которые их окружают (родителей, преподава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обращение назад) – это способность человека представить, как он воспринимает партнеров по об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узальная атрибу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причина и придаю, наделяю) – это приписывание причин поведения другому челов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ереотипизац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твердый и отпечат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ереотип – это устойчивый образ какого-либо 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5. Общение как взаимодей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нтерактивная сторона общения связана с взаимодействием людей, с непосредственной организацией их совместной деятельности, при этом действие является основным содержанием общения. Например: «при решении вопроса мы топтались на одном месте» или «он давил на меня, но я не поддалс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564000" y="5516640"/>
            <a:ext cx="194472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зиции родителя, взрослого и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Характерные слова и выра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се знают что...; Ты не должен никогда...; Ты всегда должен...; Я не понимаю, как это допускают...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ак? Что? Когда? Где? Почему? Вероятно; возмож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Я сердит на тебя! Вот здорово! Отлично! Отвратитель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Интон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виняющие, снисходительные, критические, пресека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язанные с ре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чень эмоцион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Состоя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дменное, сверхправильное, очень прилич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нимательность, поиск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уклюжее, игривое, подавленное, угнете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Выражение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хмуренное, неудовлетворенное, обеспокоен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ткрытые глаз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аксимум в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гнетенность, уди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П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уки в бока, указующий перст, руки сложены на гр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клон вперед к собеседнику, голова поворачивается вслед за н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м образом связаны между собой «действие» и «взаимодействие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чем сущность трансактного анализа процесса взаимодействия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. Бер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характеризуйте взаимодействие с позиций ориентации на контроль и по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кие формы взаимодействия являются наиболее распространен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-вашему мнению, какой тип межличностного общения характерен для «контролера» и какой тип для «понимате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6. Общение как коммун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муникативная сторона общения проявляется во взаимном обмене информацией между собеседниками, передаче и приеме знаний, мнений и чувств. Обмен информацией между участниками общения осуществляется как на вербальном так и невербальном уро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вербальном уровне в качестве средства передачи информации используется человеческая речь. Нередко можно слышать мнение, что речь скрывает истинное лицо человека, но вместе с тем, речь может демонстрировать его, вопреки воле говорящ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я проходит фильтр «доверия — недоверия», вот почему нередко истинная информация может оказаться неприятной, а ложь — приятной. В большей степени мы доверяем информации, полученной от близких людей, и в меньшей — от незна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редко в деловых отношениях мы сталкиваемся с противоречиями между сущим и должным. Это борьба между идеальными и практическим расчетом внутри человека, в деловом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ика делового общ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совокупность нравственных норм, регулирующих поведение и отношения людей в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рьеры непонимания. В психологии выделяется четыре уровня непоним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етическое непонимание появляется в результате использования непонятного языка, невыразительной речи, речи-скороговорки или речи с большим количеством звуков-паразитов (гм-м, э-э..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антические барьеры непонимания связаны с многозначностью слов любого языка, когда участники общения используют различные значения слов, имеющие иной смыс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илистический барьер непонимания возникает при несоответствии стиля речи говорящего и ситуации общения или стиля речи и состояния того, кто в данный момент слуш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гический барьер непонимания возникает в тех случаях, когда логика рассуждения говорящего либо слишком сложна для пони­мания слушающего, либо кажется ему неверной, либо противоречит присущей ему манере доказатель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евербальные средств общени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инесика изучает внешние проявления человека, включающие в себя: мимику (движение мышц лица), пантомимику (движение тела — осанка, походка, позы), жесты и взгл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кстралингвистика исследует речевые паузы, кашель, плач, смех, а паралингвистика — громкость, тембр, ритм, высоту 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есика изучает прикосновения в процессе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ксемика исследует расположение людей в пространстве при общ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а трактовки невербального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читать» следует не отдельные же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есты следует трактовать в контексте их проя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обходимо учитывать национальные 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«прочтении» жестов не следует приписывать свой опыт и свое состояние другому челов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обходимо помнить о формально-ролевом общ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.е. если человек играет роль высокомерного, то и жесты будет использовать соответств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ужно учитывать факторы здоровья: к примеру, у близоруких людей зрачки всегда расширены, у дальнозорких — суж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мериканцы любят повторять: «улыбайтесь». Однако следуя этому принципу, помните, что улыбка должна соответствовать ситуации и не должна вызывать раздражение собесе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згляд — это первый шаг на пути к собеседнику. Он может быть жестким, колючим, добрым, радостным, открытым, враждебным, ласковым, вопрошающим, блуждающим, застывшим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рительный контакт зависит от дистанции между собеседниками. Чем ближе находится собеседник, тем меньше нужно смотреть ему прямо в глаза, чтобы не вызвать у него неприятного чув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общении чаще всего встречаются следующие виды жес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3200" y="198900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сты оценки, при которых человек оценивает информацию: почесывание подбородка, вытягивание указательного пальца вдоль щеки, вставание и проха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сты самоконтроля: руки сведены за спину, при этом одна сжимает другую или когда человек, сидящий на стуле, вцепился руками в подлоко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сты доминирования: жесты, связанные с выставлением больших пальцев напоказ, а также резкие взмахи сверху 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сты расположения: прикладывание руки к груди, означающее честность, и прерывистое прикосновение к собесед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132000" y="5300640"/>
            <a:ext cx="23036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а — это положение человеческого тела. Например, высоко поднятые плечи со слегка сутулой спиной и втянутым подбородком свидетельствуют о беспомощности, боязливости и неуверенности, а плечи, спадающие вперед, указывают на чувство подав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ходе общения можно наблюдать наиболее «читаемые» поз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крытую, характеризующую искренность и правдивость: открытые ладони рук, развернутых навстречу собеседнику; руки и ноги не скрещены; расстегнутый пиджа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закрытую, или защитную, означающую реакцию на возможные угрозы или конфликтные ситуации: скрещенные руки; посадка на стуле верхом, при этом спинка стула является щитом, защитой; а также когда человек сидит на стуле, закинув ногу на ногу или скрестив 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оза готовности, характеризующая желание активных действий, энтузиазм в достижении цели: руки лежат на бедрах; туловище наклонено вперед, руки опираются на колени, а ноги опираются о пол так, что одна нога выступает чуть-чуть вперед, оставляя другую поз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просы для самопровер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эффективность общения связывают с коммуникативной сторо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е коммуникативные барьеры вам известны? Раскройте сущность каждого барьера и приведите примеры из повседнев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означает выражение «читать человека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а роль невербального общения в межличностном взаимодейств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зовите виды невербальных средств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7. Успех делового общ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ение не всегда протекает гладко и удачно. В процессе общения мы сталкиваемся с различными преградами, которые связаны с непониманием собеседника. Преграды возникают за счет смысловых барьеров, неодинакового прочтения невербальных символов разными людьми, отсутствия внимания и интереса со стороны партнера по общению, а также плохой обратной связи, которая не позволяет определить, действительно ли ваше сообщение истолковано в том смысле, который вы в него вкладыв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4400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20680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  <a:path fill="darken" w="48358" h="21600">
                <a:moveTo>
                  <a:pt x="17173" y="3794"/>
                </a:moveTo>
                <a:lnTo>
                  <a:pt x="18835" y="3794"/>
                </a:lnTo>
                <a:lnTo>
                  <a:pt x="18835" y="17806"/>
                </a:lnTo>
                <a:lnTo>
                  <a:pt x="17173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2:11:30Z</dcterms:created>
  <dc:creator>Admin</dc:creator>
  <dc:description/>
  <dc:language>en-US</dc:language>
  <cp:lastModifiedBy>Admin</cp:lastModifiedBy>
  <dcterms:modified xsi:type="dcterms:W3CDTF">2012-09-27T06:35:45Z</dcterms:modified>
  <cp:revision>57</cp:revision>
  <dc:subject/>
  <dc:title>Тема: Культура делового общения</dc:title>
</cp:coreProperties>
</file>