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B7D-4A9C-4470-B63B-29CA9FE1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6A5-5BD3-4F7F-A2E5-C4834768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997-82C9-446C-8EBF-F5D75CC5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1F3-5E63-4BE2-8E27-81F231A0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3E9E-21FC-42A6-A0CD-325FA0FA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241-6F42-4BE1-ACE1-B9ECDFC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3C6-53AF-4000-AA62-D1910E16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0FB-58C6-4E43-A3A5-797FE25D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D71-ED62-4636-A8DE-F1671A9C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351-90F7-44E1-A483-99A8DF34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781-A235-48D3-924E-85057A5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771-87A6-4F76-A5C6-A1A9B90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0091-6CF8-428B-AFAE-09C86791E7D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nsportal.ru/media-gallery/detail/407989/2976402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28520" y="255600"/>
            <a:ext cx="9009000" cy="307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43280" y="5084640"/>
            <a:ext cx="471672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 биологии и хим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ОУ СОШ №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шей квалификационной катег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Никитенко Ольга Дмитриевна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6" descr="DSCN0954"/>
          <p:cNvPicPr/>
          <p:nvPr/>
        </p:nvPicPr>
        <p:blipFill>
          <a:blip r:embed="rId2"/>
          <a:stretch/>
        </p:blipFill>
        <p:spPr>
          <a:xfrm>
            <a:off x="179280" y="3284640"/>
            <a:ext cx="4392720" cy="329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44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286520" cy="3301920"/>
          </a:xfrm>
          <a:prstGeom prst="rect">
            <a:avLst/>
          </a:prstGeom>
          <a:ln w="57240">
            <a:solidFill>
              <a:srgbClr val="41008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P280511_11"/>
          <p:cNvPicPr/>
          <p:nvPr/>
        </p:nvPicPr>
        <p:blipFill>
          <a:blip r:embed="rId3"/>
          <a:stretch/>
        </p:blipFill>
        <p:spPr>
          <a:xfrm>
            <a:off x="4303800" y="3228840"/>
            <a:ext cx="4840200" cy="3629160"/>
          </a:xfrm>
          <a:prstGeom prst="rect">
            <a:avLst/>
          </a:prstGeom>
          <a:ln w="76320">
            <a:solidFill>
              <a:srgbClr val="932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040611_09"/>
          <p:cNvPicPr/>
          <p:nvPr/>
        </p:nvPicPr>
        <p:blipFill>
          <a:blip r:embed="rId1"/>
          <a:stretch/>
        </p:blipFill>
        <p:spPr>
          <a:xfrm>
            <a:off x="900000" y="981000"/>
            <a:ext cx="7561440" cy="5672160"/>
          </a:xfrm>
          <a:prstGeom prst="rect">
            <a:avLst/>
          </a:prstGeom>
          <a:ln w="76320">
            <a:solidFill>
              <a:srgbClr val="410082"/>
            </a:solidFill>
            <a:miter/>
          </a:ln>
        </p:spPr>
      </p:pic>
      <p:sp>
        <p:nvSpPr>
          <p:cNvPr id="87" name="Rectangle 3"/>
          <p:cNvSpPr/>
          <p:nvPr/>
        </p:nvSpPr>
        <p:spPr>
          <a:xfrm>
            <a:off x="1258920" y="0"/>
            <a:ext cx="6985080" cy="865080"/>
          </a:xfrm>
          <a:prstGeom prst="rect">
            <a:avLst/>
          </a:prstGeom>
          <a:solidFill>
            <a:srgbClr val="69676d"/>
          </a:solidFill>
          <a:ln w="93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Так начиналось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646200" y="-6480"/>
            <a:ext cx="8070840" cy="1438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1311120"/>
            <a:ext cx="9144000" cy="5546880"/>
          </a:xfrm>
          <a:prstGeom prst="rect">
            <a:avLst/>
          </a:prstGeom>
          <a:ln cap="rnd" w="76320">
            <a:solidFill>
              <a:srgbClr val="ff0066"/>
            </a:solidFill>
            <a:custDash>
              <a:ds d="100000" sp="1000"/>
            </a:custDash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1628640"/>
            <a:ext cx="8229600" cy="41054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Коммуникационны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мение занимать различные рефлексивные позиции, видеть и понимать взгляды и мнения другого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мение осуществлять понимание явлений и событи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Управление процессом выращивания в себе тех или иных способносте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Деятельностный подход в ситуациях учения–обуч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7451640" cy="5230800"/>
          </a:xfrm>
          <a:prstGeom prst="rect">
            <a:avLst/>
          </a:prstGeom>
          <a:ln w="76320">
            <a:solidFill>
              <a:srgbClr val="9329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14240" y="1785960"/>
          <a:ext cx="7929720" cy="3949560"/>
        </p:xfrm>
        <a:graphic>
          <a:graphicData uri="http://schemas.openxmlformats.org/drawingml/2006/table">
            <a:tbl>
              <a:tblPr/>
              <a:tblGrid>
                <a:gridCol w="551160"/>
                <a:gridCol w="2984400"/>
                <a:gridCol w="1546200"/>
                <a:gridCol w="1382760"/>
                <a:gridCol w="1465200"/>
              </a:tblGrid>
              <a:tr h="8539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И. уч-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балл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ынчук 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нова В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фтын С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920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нчук А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61884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рулева 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</a:tr>
            </a:tbl>
          </a:graphicData>
        </a:graphic>
      </p:graphicFrame>
      <p:pic>
        <p:nvPicPr>
          <p:cNvPr id="97" name="Rectangle 5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nsportal.ru/sites/default/files/styles/media_gallery_large/public/p091111_13.08_04_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43040" y="1285920"/>
            <a:ext cx="6357960" cy="4767120"/>
          </a:xfrm>
          <a:prstGeom prst="rect">
            <a:avLst/>
          </a:prstGeom>
          <a:ln w="7632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Открыть изображение"/>
          <p:cNvPicPr/>
          <p:nvPr/>
        </p:nvPicPr>
        <p:blipFill>
          <a:blip r:embed="rId2"/>
          <a:stretch/>
        </p:blipFill>
        <p:spPr>
          <a:xfrm>
            <a:off x="5072040" y="2714760"/>
            <a:ext cx="3492360" cy="349236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  <p:pic>
        <p:nvPicPr>
          <p:cNvPr id="102" name="Picture 6" descr="Открыть изображение"/>
          <p:cNvPicPr/>
          <p:nvPr/>
        </p:nvPicPr>
        <p:blipFill>
          <a:blip r:embed="rId3"/>
          <a:stretch/>
        </p:blipFill>
        <p:spPr>
          <a:xfrm>
            <a:off x="357120" y="1143000"/>
            <a:ext cx="3529080" cy="3529080"/>
          </a:xfrm>
          <a:prstGeom prst="rect">
            <a:avLst/>
          </a:prstGeom>
          <a:ln w="9360">
            <a:solidFill>
              <a:srgbClr val="4100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57120" y="2214720"/>
            <a:ext cx="8429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Научить  добывать  знания, развивать устойчивую мотивацию к учению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Активизировать процесс обучения,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высить мотивации учащихся к изучению биолог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324000" y="1557360"/>
          <a:ext cx="8496000" cy="4970520"/>
        </p:xfrm>
        <a:graphic>
          <a:graphicData uri="http://schemas.openxmlformats.org/drawingml/2006/table">
            <a:tbl>
              <a:tblPr/>
              <a:tblGrid>
                <a:gridCol w="2832120"/>
                <a:gridCol w="2831760"/>
                <a:gridCol w="2832120"/>
              </a:tblGrid>
              <a:tr h="687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окончания шко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. И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ое завед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 го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нарейкина Ната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медицинский 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51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лина Крист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абинский медицинский 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брагимова Мад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ибирский государственный Аграрный универси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25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 го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шова Виктор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мед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25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Юрина Татья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медколлед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бенок Натал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ибирский государственный Аграрный универси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51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 го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льникова Еле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ский государственный Аграрный универси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77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нова Валент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осибирский педагогический университет (психоло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20000" cy="17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0" name="AutoShape 5"/>
          <p:cNvSpPr/>
          <p:nvPr/>
        </p:nvSpPr>
        <p:spPr>
          <a:xfrm>
            <a:off x="0" y="2852640"/>
            <a:ext cx="2592360" cy="3600720"/>
          </a:xfrm>
          <a:prstGeom prst="parallelogram">
            <a:avLst>
              <a:gd name="adj" fmla="val 25000"/>
            </a:avLst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азо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588000" y="2852640"/>
            <a:ext cx="2305080" cy="352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2771640" y="3141720"/>
            <a:ext cx="3672000" cy="3529080"/>
          </a:xfrm>
          <a:prstGeom prst="pie">
            <a:avLst/>
          </a:prstGeom>
          <a:solidFill>
            <a:srgbClr val="6666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ль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компонен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 rot="4131600">
            <a:off x="7309800" y="2346480"/>
            <a:ext cx="787320" cy="215640"/>
          </a:xfrm>
          <a:prstGeom prst="rightArrow">
            <a:avLst>
              <a:gd name="adj1" fmla="val 50000"/>
              <a:gd name="adj2" fmla="val 9127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 rot="7155600">
            <a:off x="1333080" y="2274480"/>
            <a:ext cx="787680" cy="216000"/>
          </a:xfrm>
          <a:prstGeom prst="rightArrow">
            <a:avLst>
              <a:gd name="adj1" fmla="val 50000"/>
              <a:gd name="adj2" fmla="val 911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 rot="5400000">
            <a:off x="4070160" y="2419200"/>
            <a:ext cx="787320" cy="216000"/>
          </a:xfrm>
          <a:prstGeom prst="rightArrow">
            <a:avLst>
              <a:gd name="adj1" fmla="val 50000"/>
              <a:gd name="adj2" fmla="val 91125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58920" y="333360"/>
            <a:ext cx="7058160" cy="1295280"/>
          </a:xfrm>
          <a:prstGeom prst="rect">
            <a:avLst/>
          </a:prstGeom>
          <a:solidFill>
            <a:srgbClr val="69676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дпрофиль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 учащих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50920" y="1773360"/>
            <a:ext cx="46814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- 4 клас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Осно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56000" y="3645000"/>
            <a:ext cx="4824360" cy="136836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-8 класс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Я и мое здоров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067280" y="5229360"/>
            <a:ext cx="4824360" cy="1368360"/>
          </a:xfrm>
          <a:prstGeom prst="roundRect">
            <a:avLst>
              <a:gd name="adj" fmla="val 16667"/>
            </a:avLst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класс – «Мир растени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Здоровье без лекарств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лияние холода на частоту дыхания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Биоритмы в жизни человека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История возникновения закаливания у разных народов мир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лияние шума на здоровье человека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Добрая зим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542880" y="-17136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Admin\Рабочий стол\политех_шк\Фото ОмГАУ\DSC01733.JPG"/>
          <p:cNvPicPr/>
          <p:nvPr/>
        </p:nvPicPr>
        <p:blipFill>
          <a:blip r:embed="rId2"/>
          <a:stretch/>
        </p:blipFill>
        <p:spPr>
          <a:xfrm>
            <a:off x="1785960" y="1214280"/>
            <a:ext cx="5619600" cy="4214880"/>
          </a:xfrm>
          <a:prstGeom prst="rect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356840" y="1785960"/>
            <a:ext cx="6286680" cy="321480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Чему обучать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Для чего обучать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ffff"/>
                </a:solidFill>
                <a:uFillTx/>
                <a:latin typeface="Times New Roman"/>
              </a:rPr>
              <a:t>Как обучать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5"/>
          <p:cNvSpPr/>
          <p:nvPr/>
        </p:nvSpPr>
        <p:spPr>
          <a:xfrm>
            <a:off x="2771640" y="2276640"/>
            <a:ext cx="3529080" cy="1726920"/>
          </a:xfrm>
          <a:prstGeom prst="ellipse">
            <a:avLst/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10082"/>
                </a:solidFill>
                <a:uFillTx/>
                <a:latin typeface="Times New Roman"/>
              </a:rPr>
              <a:t>Мето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10082"/>
                </a:solidFill>
                <a:uFillTx/>
                <a:latin typeface="Times New Roman"/>
              </a:rPr>
              <a:t>обу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79280" y="620640"/>
            <a:ext cx="2737080" cy="165600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6012000" y="549360"/>
            <a:ext cx="2735280" cy="1152360"/>
          </a:xfrm>
          <a:prstGeom prst="ellipse">
            <a:avLst/>
          </a:prstGeom>
          <a:solidFill>
            <a:srgbClr val="ceb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борато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0" y="2565360"/>
            <a:ext cx="2338560" cy="151128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6696000" y="2565360"/>
            <a:ext cx="2448000" cy="122400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50920" y="4724280"/>
            <a:ext cx="2520720" cy="144144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6156360" y="4724280"/>
            <a:ext cx="2556000" cy="107964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2987640" y="0"/>
            <a:ext cx="2664000" cy="126828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бес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3203640" y="5157720"/>
            <a:ext cx="2592360" cy="1295640"/>
          </a:xfrm>
          <a:prstGeom prst="ellipse">
            <a:avLst/>
          </a:prstGeom>
          <a:solidFill>
            <a:srgbClr val="ceb9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ску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6227640" y="2205000"/>
            <a:ext cx="998640" cy="503280"/>
          </a:xfrm>
          <a:custGeom>
            <a:avLst/>
            <a:gdLst>
              <a:gd name="textAreaLeft" fmla="*/ 174600 w 998640"/>
              <a:gd name="textAreaRight" fmla="*/ 723960 w 998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6"/>
          <p:cNvSpPr/>
          <p:nvPr/>
        </p:nvSpPr>
        <p:spPr>
          <a:xfrm rot="5961600">
            <a:off x="2225880" y="2102400"/>
            <a:ext cx="360360" cy="853920"/>
          </a:xfrm>
          <a:custGeom>
            <a:avLst/>
            <a:gdLst>
              <a:gd name="textAreaLeft" fmla="*/ 48240 w 360360"/>
              <a:gd name="textAreaRight" fmla="*/ 312120 w 360360"/>
              <a:gd name="textAreaTop" fmla="*/ 149400 h 853920"/>
              <a:gd name="textAreaBottom" fmla="*/ 619200 h 85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7"/>
          <p:cNvSpPr/>
          <p:nvPr/>
        </p:nvSpPr>
        <p:spPr>
          <a:xfrm rot="15335400">
            <a:off x="4068000" y="1411920"/>
            <a:ext cx="782640" cy="374400"/>
          </a:xfrm>
          <a:custGeom>
            <a:avLst/>
            <a:gdLst>
              <a:gd name="textAreaLeft" fmla="*/ 136800 w 782640"/>
              <a:gd name="textAreaRight" fmla="*/ 567360 w 782640"/>
              <a:gd name="textAreaTop" fmla="*/ 50040 h 374400"/>
              <a:gd name="textAreaBottom" fmla="*/ 324360 h 37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 rot="11476200">
            <a:off x="5663520" y="1413000"/>
            <a:ext cx="431640" cy="792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 rot="14727000">
            <a:off x="2706480" y="1620360"/>
            <a:ext cx="816120" cy="542880"/>
          </a:xfrm>
          <a:custGeom>
            <a:avLst/>
            <a:gdLst>
              <a:gd name="textAreaLeft" fmla="*/ 142560 w 816120"/>
              <a:gd name="textAreaRight" fmla="*/ 591840 w 81612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21"/>
          <p:cNvSpPr/>
          <p:nvPr/>
        </p:nvSpPr>
        <p:spPr>
          <a:xfrm rot="3607800">
            <a:off x="6052680" y="3820680"/>
            <a:ext cx="998640" cy="503280"/>
          </a:xfrm>
          <a:custGeom>
            <a:avLst/>
            <a:gdLst>
              <a:gd name="textAreaLeft" fmla="*/ 174600 w 998640"/>
              <a:gd name="textAreaRight" fmla="*/ 723960 w 998640"/>
              <a:gd name="textAreaTop" fmla="*/ 67320 h 503280"/>
              <a:gd name="textAreaBottom" fmla="*/ 435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23"/>
          <p:cNvSpPr/>
          <p:nvPr/>
        </p:nvSpPr>
        <p:spPr>
          <a:xfrm rot="396600">
            <a:off x="4140360" y="4076640"/>
            <a:ext cx="504720" cy="927000"/>
          </a:xfrm>
          <a:custGeom>
            <a:avLst/>
            <a:gdLst>
              <a:gd name="textAreaLeft" fmla="*/ 67320 w 504720"/>
              <a:gd name="textAreaRight" fmla="*/ 437400 w 504720"/>
              <a:gd name="textAreaTop" fmla="*/ 162000 h 927000"/>
              <a:gd name="textAreaBottom" fmla="*/ 672120 h 92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4"/>
          <p:cNvSpPr/>
          <p:nvPr/>
        </p:nvSpPr>
        <p:spPr>
          <a:xfrm rot="1915200">
            <a:off x="2339640" y="3644640"/>
            <a:ext cx="544320" cy="1041480"/>
          </a:xfrm>
          <a:custGeom>
            <a:avLst/>
            <a:gdLst>
              <a:gd name="textAreaLeft" fmla="*/ 72720 w 544320"/>
              <a:gd name="textAreaRight" fmla="*/ 471600 w 544320"/>
              <a:gd name="textAreaTop" fmla="*/ 182160 h 1041480"/>
              <a:gd name="textAreaBottom" fmla="*/ 755280 h 104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01:40:20Z</dcterms:created>
  <dc:creator>ро</dc:creator>
  <dc:description/>
  <dc:language>en-US</dc:language>
  <cp:lastModifiedBy>Сергей</cp:lastModifiedBy>
  <dcterms:modified xsi:type="dcterms:W3CDTF">2015-01-07T14:37:26Z</dcterms:modified>
  <cp:revision>43</cp:revision>
  <dc:subject/>
  <dc:title>Преподавание биологии  в условиях агротехнологического профиля</dc:title>
</cp:coreProperties>
</file>