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46F18-23D3-4C92-95D2-9D6A7B6B6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66D30-1303-4A04-A364-57A5ABCA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68FCA96-02FE-4745-AB86-62C6FB65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A5B102-89F7-4C84-AFB4-D3CABF25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2666BE-3F0E-4138-A576-9B071F5D5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11BE93-DE6B-4D46-8A82-E3D7ADD14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77EB03-A968-4FB3-9C89-C668FFAC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8A4D13-BAFD-43D1-97A0-92CBCEB24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301258C-3956-48D8-A71D-1914BFED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AA9F169-19CB-4BA7-9D5F-7CED4FBC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011FFA-35B6-4A7C-B6DB-C52C863FB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D9BEF4A-FA0F-483E-BA52-0A161788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44A6-208C-422E-A87D-8D8BAE32A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2B0186F-DEB3-458C-8DA8-A47F9D48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145397E-A34C-40BE-A3ED-C1E9B8BE0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6C03CC-C85B-42C6-9FB5-57A2E731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F442250-1877-4B43-A28B-A17817F8E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26C874B-D304-4957-9875-A3E12989A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432F01-E48D-4465-81F3-65F96AA27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27C87F2-FEA2-49A0-8868-7BEE3111C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B0AA65B-822C-43BA-A957-9886E4092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D69F37-EA21-4C71-982C-063027A3F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61C9E8C-146E-4A4B-A2DC-8EBC950F9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5711-8CE7-4E79-9F35-88D267A5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190D427-2D60-4BFA-9208-73C1310AF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7AA7E-2140-4D2B-BBDD-1E0905538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B551BC-FDBB-4743-BEF2-FF01B2AA4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76EC05-979C-4642-8060-99B50635B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D5899D-4ECA-4FA3-8EFC-0E743586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200F21-4500-4A7A-BC58-69FAA2D1A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E50A2-B09A-433F-89D3-B5E933FC8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5E288E-6B55-4C00-8D16-C470EFFEE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BB6292-A12E-4730-A5F7-170DDD01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BF293E-5A0F-4506-8934-89E3988C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B2819-A07F-4198-B52A-57A12C294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DF862-8AA4-48E0-A4CF-D90EF6FC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4FD44-DAF2-4030-8BA9-C4597F61F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6CDD5F-346A-472E-8053-907903C2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6C3236-C282-42AA-B3FB-B149F094E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14191F-4A02-4D58-BD67-2EE04C70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D3084D2-ECBB-4576-B8A9-380AEEB5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22034-E50B-4E73-A40E-47271DDC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620252-2B9C-4249-B720-E5187D9D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7604DEC-A57F-435A-A5D4-C74940C4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3B6F19E-DAE4-4971-9CAC-3BFDB5EBE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8FB5A-3A34-4951-A32F-76D48AC00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8E46678-0D0A-47B1-AC12-617DFC17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2481D4D-B02D-472F-A502-192BBB8D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B478A68-256C-4BC8-B3F6-EC59037C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66EAF9-478F-47D9-85F3-4311CDC5B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954125-97AD-48AA-AF55-F71E7E629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4CC2-DCD6-4E72-AAF9-2D6FEA5C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642D-A307-4FE2-B1B7-0855D073E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A22B-3569-4D7C-A543-BD977390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402A-5430-40B3-9360-9C428D17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4946-F876-41B8-B3CF-60F6E110E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F25A-CE1D-4905-B2BD-BBC6F5E4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302B7-214D-42BD-84E6-8AE4A5BA9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8A48-E29F-4EC8-AEA4-4D4F4983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2454D-0DA8-47E7-80C1-2926BA046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C8130-4099-4BF8-A2F9-7AEF8920E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1BE5-78E9-4DA9-9026-E4B4313A5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66BFC-E89C-4B5E-9EC2-D6C2CB44D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8E34B1-415A-486D-A60D-655A29BE8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38FBF1-1407-4E79-BBC2-D3F930643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1CD23-6292-40CC-A7B5-C2ED3542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C50A8-6EB5-456A-8608-7DDE9FB04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5978-EB28-41BF-B95F-E04CEDAA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9CF02-F6D6-4030-9D01-8826611B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98648-37EC-400F-96A5-94C53DCC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4A9DFA-944A-4E36-9006-81DEB8F14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D5124-6C35-46B3-AB95-F869754AB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EC090-4887-46A6-9726-8C4667F5B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3E3D-A0ED-4784-96E0-CD01B77D8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045D5D-2C1F-4D47-B9F1-41D599A4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B1747E-410A-48EB-B6D0-913423623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BA5B74-DB7B-4EEA-9024-6FCF1430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68C49-91C5-46E1-9ED8-0B0E12D9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5D68-22AD-4725-87B6-53C9BA20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C535E-6655-4C9E-83D5-5F0EB4911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50A66-153D-4E8F-9485-41EDA7F8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414898-AE9B-40FB-9FA7-E7F68D278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E5A3E7-3C63-4E07-A295-187ABF61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DACA4-2245-44FF-8B3A-A0F86320D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B43035-DD8E-4D8A-AF3F-59AD3BAD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6824E-5130-46D4-9B40-87D22DB2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EDE475-287D-4A4F-AD7F-A99CDAB54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672A-0C81-46BF-8DE4-3F9364C8C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62AA6-F3FB-45D3-A2BA-24E8A6E6C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0CA9-2CEF-42C1-BC75-9D629F37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EE2BC-2101-4E1B-BBEC-D093D944F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FBA17-207E-4D36-82E8-D3BA1059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40ECCD-D06F-4FEE-A75B-E38828DC7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CE93D4-5389-42D3-A274-BDFA5A56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92383F-E49E-4C51-A700-5755E6883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11D85-46EC-4469-80BE-FBC390943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8930B5-8758-44D0-A6A7-045249BA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4BEEF-BFBC-48B5-AB1B-440385B73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991322-E59B-4F14-9BAE-979E5087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F58D3E-5ABA-4BDD-97F0-0D79A8DA8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23F6-2787-4456-AEAE-AAE7ABD8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EC14D1-390F-47B9-8191-51DBDDE7E2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A2C0E-214E-4B90-8959-78DC97BF6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EFE137-990B-4BC4-AF2C-D2A2FD7A6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1D323D-4E35-4E44-AD99-8FB5F0BFC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EFDDF-A472-407B-98E9-4C0FF624F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C5D1C0-F2AA-4032-9AE3-4C59BED1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77368-7621-4071-87B1-8A1E253BF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34FB3-E5DC-4FD1-A6C9-993681F2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99358-F5E0-46ED-8DF1-A580574BF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2D2443-18DF-4FC6-AF3A-CB5D1FD8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6FF-DE8C-414A-980C-6AF2B3CA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8543A-6D31-46AB-B0B8-0C1C18975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8509E8-42B7-40C8-9E1E-F3A0CAC669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2B68E-BF2F-4A7C-9270-77B8D9B09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5FC00-98F9-4574-8EA4-440D083BB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74568-3EB3-48EC-94C4-524423C98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8F18C-EAD3-48CD-9BE4-914883E5C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40B39-9D86-4FB7-A528-C0974D6E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7DDBD7-7A0D-4F58-B6AA-E6EBAFF1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41510F-15E1-46B9-9BC3-BB96861D3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0BEDFA-5B14-41B6-BCBA-2422A21DD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0D0EE-1D73-4E3C-BA98-2DF86D67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5E8381-1922-4CA6-8F6E-CDE956C9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D9831F-473A-4565-A779-02F2AB2F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7BAFF-18B2-4C62-BB57-6F3FD418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277BA0-4C33-41A9-A7F0-C885F894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6099A8-6EE0-4727-BC86-BC0C47760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D55EE-3362-42FF-A518-124E1E744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7E6DDC-C8AE-40D1-9325-5CAFC2C2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202E4-0C30-42BD-B860-89E4153F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32F594-044A-4E3C-9AF9-66F49A807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274A5-917A-4D88-8359-1F7CC24AF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2772-3F03-41B8-A4B2-C6D282A7E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95D05E-AE23-4412-8E31-5F2ABDA9F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1F1FEA-178F-4FA7-91C3-89C4FCF7D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4211A-0DB9-4A2C-A4C3-F44F2B60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920051-25CD-42EE-BDFB-DD686A35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C024A7-3724-4ECD-A8AB-5D958D9A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ED3887-159C-4ED4-8DDE-22D70D025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21B0C8-0B1C-4D60-B710-947592355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39B9751-9651-4FB1-B318-8F1ACFBF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33A03B9-F492-43B9-98F4-CCC800E35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A8D937E-42CE-4922-8E59-34AD531F7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89E4E-A858-40B5-92B8-239032D70CDC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D150-7A66-43DB-BE8C-01A8AE18BEFB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6755B-31FC-4C83-9A17-D15DC0D917F4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E96FB-1B1F-4B6C-B2F1-F8A3B5EE12E9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89B01-4F97-43C9-BC9B-12B1DCD213AB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A9A8-239D-4772-A7AF-B3107D9C31D6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5BEF2-3A06-4775-A272-7251823C4E4B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6B0EF-966F-4800-8689-C07F88C3AEDE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CAE59-DCCC-49FB-BB88-53D8AA75494D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6EA0-BFB4-4121-A8F6-20A6DB959D92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DA906-B204-43E5-964F-7F5FA1B2915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44D7-E54A-4234-BE17-4BF83E3223B3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Georgia"/>
              </a:rPr>
              <a:t>ПОДГОТОВИЛА: УЧИТЕЛЬ ХИМИИ МБОУ «СОШ №2» ЗАЙЦЕВА ЯНА АЛЕКСЕ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88c"/>
                </a:solidFill>
                <a:latin typeface="Georgia"/>
              </a:rPr>
              <a:t>Обобщение и систематизация знаний по теме: «Углеводы»</a:t>
            </a:r>
            <a:endParaRPr b="0" lang="en-US" sz="38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08" name="Picture 3" descr="C:\Documents and Settings\Admin\Рабочий стол\16 апреля\Мусор\chemistry-flash-purple-md.png"/>
          <p:cNvPicPr/>
          <p:nvPr/>
        </p:nvPicPr>
        <p:blipFill>
          <a:blip r:embed="rId1"/>
          <a:stretch/>
        </p:blipFill>
        <p:spPr>
          <a:xfrm>
            <a:off x="6303960" y="4260960"/>
            <a:ext cx="1474920" cy="1944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Documents and Settings\Admin\Рабочий стол\16 апреля\Мусор\light-green-flask-md.png"/>
          <p:cNvPicPr/>
          <p:nvPr/>
        </p:nvPicPr>
        <p:blipFill>
          <a:blip r:embed="rId2"/>
          <a:stretch/>
        </p:blipFill>
        <p:spPr>
          <a:xfrm>
            <a:off x="7040520" y="4230720"/>
            <a:ext cx="17985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Результаты опытов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324000" y="1557360"/>
          <a:ext cx="8496000" cy="4592520"/>
        </p:xfrm>
        <a:graphic>
          <a:graphicData uri="http://schemas.openxmlformats.org/drawingml/2006/table">
            <a:tbl>
              <a:tblPr/>
              <a:tblGrid>
                <a:gridCol w="2233440"/>
                <a:gridCol w="1731960"/>
                <a:gridCol w="1731960"/>
                <a:gridCol w="2798640"/>
              </a:tblGrid>
              <a:tr h="1057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звани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ула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еак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Характерны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118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люк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179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ахар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11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рахм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Результаты опытов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5280" y="1628640"/>
          <a:ext cx="8353440" cy="4494240"/>
        </p:xfrm>
        <a:graphic>
          <a:graphicData uri="http://schemas.openxmlformats.org/drawingml/2006/table">
            <a:tbl>
              <a:tblPr/>
              <a:tblGrid>
                <a:gridCol w="2195640"/>
                <a:gridCol w="1703160"/>
                <a:gridCol w="1703520"/>
                <a:gridCol w="2751120"/>
              </a:tblGrid>
              <a:tr h="137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звани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ула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еак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Характерны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137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люк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(OH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гре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падение кирпично-красного осадка 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ахар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2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(OH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рко-синее окрашивание раств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рахм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С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(р-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инее окраш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Графический диктант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680" y="1371600"/>
            <a:ext cx="4199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делать заготовку на листе бумаг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Если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согласны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с утверждением, то ставим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Если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не согласны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 утверждением, то ставим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итоге получается график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1 вариант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– глюкоз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2 вариант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– сахароз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3 вариант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– крахмал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"/>
          <a:stretch/>
        </p:blipFill>
        <p:spPr>
          <a:xfrm>
            <a:off x="755640" y="2048040"/>
            <a:ext cx="4462560" cy="274320"/>
          </a:xfrm>
          <a:prstGeom prst="rect">
            <a:avLst/>
          </a:prstGeom>
          <a:ln w="0">
            <a:noFill/>
          </a:ln>
        </p:spPr>
      </p:pic>
      <p:sp>
        <p:nvSpPr>
          <p:cNvPr id="637" name="Прямая соединительная линия 13"/>
          <p:cNvSpPr/>
          <p:nvPr/>
        </p:nvSpPr>
        <p:spPr>
          <a:xfrm flipV="1">
            <a:off x="1778040" y="3516120"/>
            <a:ext cx="407880" cy="417240"/>
          </a:xfrm>
          <a:prstGeom prst="line">
            <a:avLst/>
          </a:prstGeom>
          <a:ln w="50760">
            <a:solidFill>
              <a:srgbClr val="9c007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Прямая соединительная линия 14"/>
          <p:cNvSpPr/>
          <p:nvPr/>
        </p:nvSpPr>
        <p:spPr>
          <a:xfrm>
            <a:off x="2195640" y="3516480"/>
            <a:ext cx="371520" cy="401400"/>
          </a:xfrm>
          <a:prstGeom prst="line">
            <a:avLst/>
          </a:prstGeom>
          <a:ln w="50760">
            <a:solidFill>
              <a:srgbClr val="9c00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Прямая соединительная линия 18" descr=""/>
          <p:cNvPicPr/>
          <p:nvPr/>
        </p:nvPicPr>
        <p:blipFill>
          <a:blip r:embed="rId2"/>
          <a:stretch/>
        </p:blipFill>
        <p:spPr>
          <a:xfrm>
            <a:off x="1670040" y="4657680"/>
            <a:ext cx="1030320" cy="206280"/>
          </a:xfrm>
          <a:prstGeom prst="rect">
            <a:avLst/>
          </a:prstGeom>
          <a:ln w="0">
            <a:noFill/>
          </a:ln>
        </p:spPr>
      </p:pic>
      <p:sp>
        <p:nvSpPr>
          <p:cNvPr id="640" name="Овал 3"/>
          <p:cNvSpPr/>
          <p:nvPr/>
        </p:nvSpPr>
        <p:spPr>
          <a:xfrm>
            <a:off x="3753000" y="2178000"/>
            <a:ext cx="115560" cy="112680"/>
          </a:xfrm>
          <a:prstGeom prst="ellipse">
            <a:avLst/>
          </a:prstGeom>
          <a:solidFill>
            <a:srgbClr val="9c007f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9006f"/>
                </a:solidFill>
                <a:latin typeface="Georgia"/>
              </a:rPr>
              <a:t>Графический диктант</a:t>
            </a:r>
            <a:endParaRPr b="0" lang="en-US" sz="36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Текст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1) Молекулярная формула вещества С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6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12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6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2) Данный углевод относится к дисахаридам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3) Вещество дает синее окрашивание при взаимодействии с йодом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4) Гидролизуется с образованием глюкозы и фруктоз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5) Данный углевод относится к полисахарида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Графический диктант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6) Является альдегидо-спиртом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7) В промышленности данный углевод получают из сока сахарного  тростника и сахарной свекл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8) Вещество дает  реакцию серебряного зеркал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9) Молекулярная формула вещества С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12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22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11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10) Содержится в цитоплазме растительных клеток в виде зерен запасного питательного веществ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Ответы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6626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Экспериментальная задача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Цель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с помощью качественных реакций определить какие углеводы находятся в пробирках №9 и 10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Реактивы: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пробирка №2 –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NaOH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пробирка №3 –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uSO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Georgia"/>
              </a:rPr>
              <a:t>4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Оборудование: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пробирки, штатив для пробирок, спиртовка, спички, держател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Ход опыта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1) В 2-ух чистых пробирках получить С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u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OH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Georgia"/>
              </a:rPr>
              <a:t>2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2) В одну из пробирок прилить немного раствора из пробирки №9, в другую – из пробирки №10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3) Смесь в обеих пробирках нагрет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4) Определить по характерным признакам какие углеводы, находятся в пробирках № 9 и 10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Литература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272880" algn="just">
              <a:lnSpc>
                <a:spcPct val="15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бриелян О.С. Химия. 10 класс. Базовый уровень: учеб. для общеобразовательных учреждений/О.С. Габриелян. – 4-е издание, стереотипное – М.: Дрофа, 2008. – 191 с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272880" algn="just">
              <a:lnSpc>
                <a:spcPct val="15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арова Т.С. Карты-инструкции для практических занятий по химии 8-11 классы: учеб. Пособие для учащихся 8-11 классов общеобразовательных учреждений/Т.С. Назарова, В. Н. Лаврова. – М.: ВЛАДОС, 2005. – 95 с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2728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9006f"/>
                </a:solidFill>
                <a:latin typeface="Georgia"/>
              </a:rPr>
              <a:t>Цель урока</a:t>
            </a:r>
            <a:endParaRPr b="0" lang="en-US" sz="4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Обобщить и систематизировать знания по теме: «Углеводы»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2340000" y="3084480"/>
            <a:ext cx="47624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План урока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 algn="just">
              <a:spcBef>
                <a:spcPts val="751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ыполнить тест «Дополнения»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 algn="just">
              <a:spcBef>
                <a:spcPts val="751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овторить правила по технике безопас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 algn="just">
              <a:spcBef>
                <a:spcPts val="751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ыполнить лабораторные опыты – исследовать пищевые продукты на наличие глюкозы, сахарозы, крахмал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 algn="just">
              <a:spcBef>
                <a:spcPts val="751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формить результаты лабораторных опытов, сделать вывод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 algn="just">
              <a:spcBef>
                <a:spcPts val="751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Написать графический диктант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Тест «Дополнения»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тавьте пропущенные слова и формулы в предложения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глеводы, которые не гидролизуются называются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олекулярная формула глюкозы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люкоза обладает двойственной функцией, являясь … и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глеводы, гидролизующиеся с образованием двух молекул моносахаридов, называются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9006f"/>
                </a:solidFill>
                <a:latin typeface="Georgia"/>
              </a:rPr>
              <a:t>Тест «Дополнения»</a:t>
            </a:r>
            <a:endParaRPr b="0" lang="en-US" sz="36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олекулярная формула сахарозы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рахмал дает синее окрашивание с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вердое волокнистое вещество, не растворяется в воде, выделяется из ваты и фильтровальной бумаги называется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олекулярная формула крахмала и целлюлозы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Ответы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оносахари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6Н12О6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льдегид и многоатомный спир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исахари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12Н22О1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Йод (р-р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Целлюлоз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(С6Н10О5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006f"/>
                </a:solidFill>
                <a:latin typeface="Georgia"/>
              </a:rPr>
              <a:t>Правила по технике безопасности</a:t>
            </a:r>
            <a:endParaRPr b="0" lang="en-US" sz="32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39280" y="1557360"/>
            <a:ext cx="4038840" cy="4681440"/>
          </a:xfrm>
          <a:prstGeom prst="rect">
            <a:avLst/>
          </a:prstGeom>
          <a:solidFill>
            <a:srgbClr val="ffc6d5"/>
          </a:solidFill>
          <a:ln w="9360">
            <a:solidFill>
              <a:srgbClr val="ff388c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1a4f"/>
                </a:solidFill>
                <a:latin typeface="Georgia"/>
              </a:rPr>
              <a:t>Не спеши хватать прибор ты,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1a4f"/>
                </a:solidFill>
                <a:latin typeface="Georgia"/>
              </a:rPr>
              <a:t>А инструкцию чита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1a4f"/>
                </a:solidFill>
                <a:latin typeface="Georgia"/>
              </a:rPr>
              <a:t>Убедись, что ты все понял,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1a4f"/>
                </a:solidFill>
                <a:latin typeface="Georgia"/>
              </a:rPr>
              <a:t>Вот тогда и начина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1a4f"/>
                </a:solidFill>
                <a:latin typeface="Georgia"/>
              </a:rPr>
              <a:t>Если хочешь долго жить,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1a4f"/>
                </a:solidFill>
                <a:latin typeface="Georgia"/>
              </a:rPr>
              <a:t>Надо медленно спешить</a:t>
            </a:r>
            <a:r>
              <a:rPr b="1" i="1" lang="ru-RU" sz="25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249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9006f"/>
                </a:solidFill>
                <a:latin typeface="Georgia"/>
              </a:rPr>
              <a:t>Правила по технике безопасности</a:t>
            </a:r>
            <a:endParaRPr b="0" lang="en-US" sz="3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е пробуйте вещества на вкус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ливайте жидкость и насыпайте твердые вещества в пробирку осторожно. Предварительно проверьте целостность пробирки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пиртовку зажигайте спичкой, тушите колпачком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гревая пробирку с жидкостью, держите ее так, чтобы открытый конец ее был направлен в сторону и от себя, и от соседей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В случае ожога, пореза или попадания едкой и горячей жидкости на кожу или одежду немедленно обращайтесь к учителю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Реактивы расходуйте экономно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е загромождайте свое рабочее место, выполняйте опыты над столом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кончив работу, приведите рабочее место в порядок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Лабораторные опыты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бота по группам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1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– определение глюкозы в  фильтрате шоколада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2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– определение глюкозы в  виноградном сок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3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– определение глюкозы в мед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4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– определение крахмала в  крупа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5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– определение крахмала в  хлебе  и колбас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6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− определение крахмала в йогурте и сметан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7 группа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– определение крахмала  в банане и лук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2246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2:36Z</dcterms:created>
  <dc:creator>Яна</dc:creator>
  <dc:description/>
  <dc:language>en-US</dc:language>
  <cp:lastModifiedBy>Яна</cp:lastModifiedBy>
  <dcterms:modified xsi:type="dcterms:W3CDTF">2014-12-22T20:05:43Z</dcterms:modified>
  <cp:revision>22</cp:revision>
  <dc:subject/>
  <dc:title>Обобщение и систематизация знаний по теме</dc:title>
</cp:coreProperties>
</file>