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wmf" ContentType="image/x-wmf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  <p:sldId id="260" r:id="rId18"/>
    <p:sldId id="261" r:id="rId19"/>
    <p:sldId id="262" r:id="rId20"/>
    <p:sldId id="263" r:id="rId21"/>
    <p:sldId id="264" r:id="rId22"/>
    <p:sldId id="265" r:id="rId23"/>
    <p:sldId id="266" r:id="rId24"/>
    <p:sldId id="267" r:id="rId25"/>
    <p:sldId id="268" r:id="rId26"/>
    <p:sldId id="269" r:id="rId27"/>
    <p:sldId id="270" r:id="rId28"/>
    <p:sldId id="271" r:id="rId29"/>
    <p:sldId id="27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slide" Target="slides/slide5.xml"/><Relationship Id="rId19" Type="http://schemas.openxmlformats.org/officeDocument/2006/relationships/slide" Target="slides/slide6.xml"/><Relationship Id="rId20" Type="http://schemas.openxmlformats.org/officeDocument/2006/relationships/slide" Target="slides/slide7.xml"/><Relationship Id="rId21" Type="http://schemas.openxmlformats.org/officeDocument/2006/relationships/slide" Target="slides/slide8.xml"/><Relationship Id="rId22" Type="http://schemas.openxmlformats.org/officeDocument/2006/relationships/slide" Target="slides/slide9.xml"/><Relationship Id="rId23" Type="http://schemas.openxmlformats.org/officeDocument/2006/relationships/slide" Target="slides/slide10.xml"/><Relationship Id="rId24" Type="http://schemas.openxmlformats.org/officeDocument/2006/relationships/slide" Target="slides/slide11.xml"/><Relationship Id="rId25" Type="http://schemas.openxmlformats.org/officeDocument/2006/relationships/slide" Target="slides/slide12.xml"/><Relationship Id="rId26" Type="http://schemas.openxmlformats.org/officeDocument/2006/relationships/slide" Target="slides/slide13.xml"/><Relationship Id="rId27" Type="http://schemas.openxmlformats.org/officeDocument/2006/relationships/slide" Target="slides/slide14.xml"/><Relationship Id="rId28" Type="http://schemas.openxmlformats.org/officeDocument/2006/relationships/slide" Target="slides/slide15.xml"/><Relationship Id="rId29" Type="http://schemas.openxmlformats.org/officeDocument/2006/relationships/slide" Target="slides/slide16.xml"/><Relationship Id="rId30" Type="http://schemas.openxmlformats.org/officeDocument/2006/relationships/slide" Target="slides/slide17.xml"/><Relationship Id="rId3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C12E60-1DC4-4E12-80D2-69DB59C643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B868D2-A38F-4A6F-BE99-6DE1D9CE87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6ED8E168-9530-4B1D-9613-9DDC4344ED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3166217-8EA2-4248-B00E-14F10AF13B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8E9FDB6-6351-457F-945F-0ED81112DE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264FD7E-C977-45F0-B84A-CCB376F900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13DCE86-08F5-4978-8EF3-695E5DEC6E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6D5F66-D07F-42E4-A210-DA3612868B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D8617E3-45B4-4233-8C42-73DC0E60C0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5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6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2F1214B0-BF36-47C8-8C8E-CCF9647CE5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49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0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1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2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3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19BF1523-1A7B-45CC-B301-AD15ED609F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60A599D3-376E-4A80-92DD-24649F4BAC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CA376-7037-4D74-BD34-FCB81869F2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7638030A-464C-4A9F-B9D4-040B25C142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4554B91A-F268-4114-B09B-ED275925EB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B996B10B-35AF-4E81-A44A-5D34050B4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FD260FC-B087-4C62-B5E8-D5DBB9C70D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16265311-CB54-4293-9F89-585B66E81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5150179D-FB90-4C7B-99AE-7DBF019526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538DCA7-BDDC-40AB-8280-D9FC559AF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C68995BF-FF26-4D57-8D26-6769CAA18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F484F9A1-E099-4698-B0D8-4A18120C51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9DD308AE-36EA-4EC4-ABB4-0969BC236A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9A45D4-7AA8-49E6-ABA3-1970BCD75C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8"/>
          </p:nvPr>
        </p:nvSpPr>
        <p:spPr/>
        <p:txBody>
          <a:bodyPr/>
          <a:p>
            <a:fld id="{0694CE4A-4F0B-4A51-9C01-0560DF431B6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DA3FBB8-609B-481F-A92A-A9876DB240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211955-CDA3-4225-899D-A77812BF8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C1FEA6-6813-4089-A774-BB299D2024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2CD603C-CE25-4193-B6BE-BF535B786D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90DBB03-BEE6-4B2E-8971-4DC104F278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C08611E-2D9A-4352-B9C9-0C3DAC42F8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D9A12196-6FA2-416E-9979-09F35E77E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95EA73D-F02F-4B5F-AF34-39F91DE8CE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63A708-F781-4104-8907-2D57C9562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AE12C5-58C1-4146-84EC-E3809462E4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191F146-6178-4421-B3A7-4222BF6244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CF6356F-F438-4E49-87FF-60B64F89E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B0308D6-608B-4E22-8E88-AF7B149BC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B1A85600-BDDF-4897-B1D5-DB735FFB1D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FA32014-ED73-4603-B1FB-74583E87E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D5AE7A59-9421-456E-9C5B-8D7EF7500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9D94BD6-C8D4-4DB3-95A4-0EAF4B37B1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1EF6273-9BBC-4A8C-9E6E-E6A6316AC3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03E83B82-CE92-490D-8429-8775006EB4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2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848E1-AD92-49FA-B1E9-21F9B944DD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972C0B-FBFB-4D8C-9059-B6B0530ECE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6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2AE0525B-811D-4281-AD36-D058FB71AA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0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2EB23D0-0EC6-4FF7-809A-8BC65FD6F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3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C97298AB-87A9-4893-989F-7C03339C71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8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A8788B3-CF24-47DC-AEA2-6BAF6873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1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2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3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4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5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F92A788A-7CBA-438F-8786-28D52D9C24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D2809C-DEB0-4FB3-919F-0152AA2201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D272AE4-4C74-4D38-B757-CF0E645B2E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FF590F-2095-49B6-8696-7865C1C62D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9D4D8A-8839-4941-9312-9D0D874492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153B6-51D5-4140-AB0A-856F836C4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8A14F-2BAC-45C3-A6AC-F7A1432983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D90686-4B0A-4219-A6B5-DDD6B5AF3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7B1724-E838-48A3-ACB2-3766E181A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D612E0-1439-43AA-9E3C-3F5ECE2246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4128177-BA0D-414B-B26C-DAC372566E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0D6E9-A21A-4FFD-AD08-8977D92218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7A71E59-3924-4CC4-B89F-C3AEE0C28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94F245D-E1A6-4773-90B2-C215CED9BC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945E17D-C101-45CA-9708-724EC7D897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AFA2210-60A0-4714-B66C-20EF9E51A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CD8645D-5CFE-480A-9F85-5DA083732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4FB4F-CFA3-40AA-BC88-9166FB6286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AE51B7-BB9C-4B9C-87B1-0A5638A54D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A14852-795B-4760-B4D2-D8DB569213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D9706-AC72-4FC2-AF3E-D30C95317C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5C4D18D-1C28-439D-A949-7B3FB3BE2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0EE589B-E59A-4484-82BA-34C407D787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B1197CA-CD11-45AD-96A5-19DC7064BE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49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8A7142B-AFE7-49CB-B547-855A96BF237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CBC6E2-515E-460C-8BF3-75D96DA00C2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201324-3622-4DDE-8EC4-CD3636BBB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2EB6E53-2BA9-4833-A957-0AD644CB9C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92905F-5010-4C72-BB23-9DD4EC9459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2D2FF6F-ED5F-4397-9329-3D1FF7AB6B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323638B-F439-47C4-96AF-8862720BE0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F9CE39D-6BE3-446F-BCAF-6B9CB5BE84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B71295A-8520-4850-BE54-052ADF5C16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8967E98-C652-4428-8302-AFAEDF6232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19656E9-D994-4007-9984-7777565E0E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463EB65-1CEC-4D6F-86EB-065B59618A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809159-B052-4D4E-9E3A-A522171949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AA1FD8-D34D-4FE7-A7CB-06AD489C35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4025054-FD33-4264-BBF7-4EFAFE5EC0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3394D-6B53-4FC0-952C-1C1E5A3AA8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4AE27A-63C6-4CE0-BBA9-0FA371CC00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B465A0-1815-44D2-91C5-D9B4B4292E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D4AEDDD-3BFA-499F-9E2B-C8294E9E3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5DCB8F-1C50-416F-9CD3-89BCA718F5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F8748A9-5D26-4A3C-907C-3723F9511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6231C0-3575-4406-9612-C2F9384F37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AC017E9-82AA-436F-B9CF-1D5ABB6E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D2CED16-1AA0-4D35-B55B-493C78019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87D0D3E-C1B9-4846-BAF3-3B6CCBDD43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5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6B7D47-0340-4862-9C54-56ADF14E50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B4724-78AD-4A7E-B0B2-93AD57D7A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1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2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699A482-2346-44B2-9903-79E6EEA54C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97F6DE-69C9-4675-8FFC-2F0834E3EF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7D2C6B-EE81-41FD-B582-DC8D9BE5D4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D441687-C3CE-4245-8383-6EAF58AECC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220F049-6EA4-472B-A192-487F019212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AC41831-A29C-4AC3-AFB5-003CB8E28F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9C4738C-93D9-4212-ADA2-E9F47653B9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118DF10-28D5-474A-98BD-CB42F29EF7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348068B-273F-4CFA-8374-26D50BCA6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A121E28-0A30-4124-A629-A3D34082EB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171C-FF6B-497C-AB3E-BD2D242C2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E670F2-B002-4E1E-892B-27C584A798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1B4EAFC-0AE6-4BD8-8535-6483E868719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99C63-90A7-42A6-8CD0-1A1FEEC8F0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BEF9FB-A0EE-4175-BDE0-A92D7E0FB3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24199BD-D572-47D8-AEDF-9A1573A2971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8C103A-3389-4C49-B954-26788E1561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E535DEC-C9D5-4895-A50C-79A54E085F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0AB7D03-4F0B-4250-93F9-8376C76075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F7F77D7-B089-4E41-8E53-5DAB722305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2019F8F-C4FF-4180-AED6-EF4BDA70CC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D1AC-447C-4A00-B79C-52C547A6E3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4C0FB2-D44A-442C-A611-04DF8B6672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9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82CB764-3607-4BB6-A85F-EA6BB70E49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2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5C14888-E395-4B14-A4A6-001B7C52E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7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730B649-5DAC-4F5A-A3A1-5E1CD41CF9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4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0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1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2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3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4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9D4CDF8-B6DC-4EB7-BACF-2134302717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214405-351A-4634-9D6B-9EA6253B7D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E831035-ABAC-4A9C-8B12-3F87B438B9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9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C1A0AFC-8B90-4064-95DC-0AF3B11B6E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67B928-9DBB-44EB-9A03-A094E8157B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92A04E8-EA5A-479F-AEAF-7EBFB5BB06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F1D2A-AACC-48E1-A19F-CE324933E7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subTitle"/>
          </p:nvPr>
        </p:nvSpPr>
        <p:spPr>
          <a:xfrm>
            <a:off x="301320" y="228600"/>
            <a:ext cx="8534520" cy="351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9F06449-7FEB-4120-8572-6C3F8398BE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78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6577C22-111D-42E7-88E1-7840F8A94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2" name="PlaceHolder 4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1CB7149-85CE-4010-BEBB-24F49880B2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F3212DA-6B2E-41E8-9E60-617E5C1AAA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301320" y="3925800"/>
            <a:ext cx="853452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3D8B305-FABB-426B-84EC-0D849BEBFE7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960" y="152352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30132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4" name="PlaceHolder 5"/>
          <p:cNvSpPr>
            <a:spLocks noGrp="1"/>
          </p:cNvSpPr>
          <p:nvPr>
            <p:ph/>
          </p:nvPr>
        </p:nvSpPr>
        <p:spPr>
          <a:xfrm>
            <a:off x="4674960" y="3925800"/>
            <a:ext cx="416484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E7F8BF8-21D4-4B85-8D41-ADD33B172F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1870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6072480" y="152352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99" name="PlaceHolder 5"/>
          <p:cNvSpPr>
            <a:spLocks noGrp="1"/>
          </p:cNvSpPr>
          <p:nvPr>
            <p:ph/>
          </p:nvPr>
        </p:nvSpPr>
        <p:spPr>
          <a:xfrm>
            <a:off x="30132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0" name="PlaceHolder 6"/>
          <p:cNvSpPr>
            <a:spLocks noGrp="1"/>
          </p:cNvSpPr>
          <p:nvPr>
            <p:ph/>
          </p:nvPr>
        </p:nvSpPr>
        <p:spPr>
          <a:xfrm>
            <a:off x="31870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1" name="PlaceHolder 7"/>
          <p:cNvSpPr>
            <a:spLocks noGrp="1"/>
          </p:cNvSpPr>
          <p:nvPr>
            <p:ph/>
          </p:nvPr>
        </p:nvSpPr>
        <p:spPr>
          <a:xfrm>
            <a:off x="6072480" y="3925800"/>
            <a:ext cx="2747880" cy="219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1A3ACE7-029C-48B7-84C7-071190CFF4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EF513FD-0262-471D-B234-2CD085FDB3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 type="subTitle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0CBD7C09-2F70-45DB-9DCC-1CAE588F58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3DBE03B4-0B3E-4B0E-8A79-1CB493BF49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" name="PlaceHolder 1"/>
          <p:cNvSpPr>
            <a:spLocks noGrp="1"/>
          </p:cNvSpPr>
          <p:nvPr>
            <p:ph type="dt" idx="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ftr" idx="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 type="sldNum" idx="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02AFC2-74BE-4EB5-B47C-835086653D6B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4" name="Прямая соединительная линия 15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5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6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7" name="Прямоугольник 24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8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59" name="Прямоугольник 20"/>
          <p:cNvSpPr/>
          <p:nvPr/>
        </p:nvSpPr>
        <p:spPr>
          <a:xfrm>
            <a:off x="152280" y="152280"/>
            <a:ext cx="8832960" cy="30168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0" name="Прямоугольник 21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1" name="Прямоугольник 23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2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3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4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 type="sldNum" idx="28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8CFC7-8F29-4609-BE4E-1654FF685FAB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 type="dt" idx="29"/>
          </p:nvPr>
        </p:nvSpPr>
        <p:spPr>
          <a:xfrm>
            <a:off x="578808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9" name="PlaceHolder 5"/>
          <p:cNvSpPr>
            <a:spLocks noGrp="1"/>
          </p:cNvSpPr>
          <p:nvPr>
            <p:ph type="ftr" idx="30"/>
          </p:nvPr>
        </p:nvSpPr>
        <p:spPr>
          <a:xfrm>
            <a:off x="301320" y="6409800"/>
            <a:ext cx="35845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7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8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09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0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1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2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3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4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7" name="PlaceHolder 3"/>
          <p:cNvSpPr>
            <a:spLocks noGrp="1"/>
          </p:cNvSpPr>
          <p:nvPr>
            <p:ph type="dt" idx="3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PlaceHolder 4"/>
          <p:cNvSpPr>
            <a:spLocks noGrp="1"/>
          </p:cNvSpPr>
          <p:nvPr>
            <p:ph type="ftr" idx="32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9" name="PlaceHolder 5"/>
          <p:cNvSpPr>
            <a:spLocks noGrp="1"/>
          </p:cNvSpPr>
          <p:nvPr>
            <p:ph type="sldNum" idx="33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CBA467-FCF1-4B3A-93AA-7BD60CC0069A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7" name="Прямоугольник 20"/>
          <p:cNvSpPr/>
          <p:nvPr/>
        </p:nvSpPr>
        <p:spPr>
          <a:xfrm>
            <a:off x="7010280" y="0"/>
            <a:ext cx="213372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8" name="Прямоугольник 23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9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0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1" name="Прямоугольник 20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2" name="Прямая соединительная линия 21"/>
          <p:cNvSpPr/>
          <p:nvPr/>
        </p:nvSpPr>
        <p:spPr>
          <a:xfrm>
            <a:off x="7143840" y="155520"/>
            <a:ext cx="0" cy="624528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3" name="Овал 23"/>
          <p:cNvSpPr/>
          <p:nvPr/>
        </p:nvSpPr>
        <p:spPr>
          <a:xfrm>
            <a:off x="6838920" y="2925720"/>
            <a:ext cx="60948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4" name="Овал 24"/>
          <p:cNvSpPr/>
          <p:nvPr/>
        </p:nvSpPr>
        <p:spPr>
          <a:xfrm>
            <a:off x="6934320" y="3021120"/>
            <a:ext cx="42048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566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7" name="PlaceHolder 3"/>
          <p:cNvSpPr>
            <a:spLocks noGrp="1"/>
          </p:cNvSpPr>
          <p:nvPr>
            <p:ph type="sldNum" idx="34"/>
          </p:nvPr>
        </p:nvSpPr>
        <p:spPr>
          <a:xfrm>
            <a:off x="6915240" y="300996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26F3E5-E986-4157-AA1F-EC18E6DD01D7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8" name="PlaceHolder 4"/>
          <p:cNvSpPr>
            <a:spLocks noGrp="1"/>
          </p:cNvSpPr>
          <p:nvPr>
            <p:ph type="dt" idx="35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9" name="PlaceHolder 5"/>
          <p:cNvSpPr>
            <a:spLocks noGrp="1"/>
          </p:cNvSpPr>
          <p:nvPr>
            <p:ph type="ftr" idx="36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1" name="Прямоугольник 20"/>
          <p:cNvSpPr/>
          <p:nvPr/>
        </p:nvSpPr>
        <p:spPr>
          <a:xfrm>
            <a:off x="8991720" y="324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2" name="Прямоугольник 23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3" name="Прямоугольник 24"/>
          <p:cNvSpPr/>
          <p:nvPr/>
        </p:nvSpPr>
        <p:spPr>
          <a:xfrm>
            <a:off x="0" y="0"/>
            <a:ext cx="9144000" cy="2514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4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5" name="Прямая соединительная линия 20"/>
          <p:cNvSpPr/>
          <p:nvPr/>
        </p:nvSpPr>
        <p:spPr>
          <a:xfrm>
            <a:off x="155520" y="241920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6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7" name="Овал 23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8" name="Овал 24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dt" idx="4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ftr" idx="5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sldNum" idx="6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1FDE07-706F-4A55-AB0A-8B19DF2E7A19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1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2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3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5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6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7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8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 type="dt" idx="7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 type="ftr" idx="8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 type="sldNum" idx="9"/>
          </p:nvPr>
        </p:nvSpPr>
        <p:spPr>
          <a:xfrm>
            <a:off x="4362480" y="10270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861DD0-4C40-4D1F-9272-CFA6522FC55D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Прямоугольник 19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1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2" name="Прямоугольник 23"/>
          <p:cNvSpPr/>
          <p:nvPr/>
        </p:nvSpPr>
        <p:spPr>
          <a:xfrm>
            <a:off x="0" y="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3" name="Прямоугольник 24"/>
          <p:cNvSpPr/>
          <p:nvPr/>
        </p:nvSpPr>
        <p:spPr>
          <a:xfrm>
            <a:off x="8991720" y="1908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4" name="Прямоугольник 25"/>
          <p:cNvSpPr/>
          <p:nvPr/>
        </p:nvSpPr>
        <p:spPr>
          <a:xfrm>
            <a:off x="152280" y="2286000"/>
            <a:ext cx="8832960" cy="304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5" name="Прямоугольник 26"/>
          <p:cNvSpPr/>
          <p:nvPr/>
        </p:nvSpPr>
        <p:spPr>
          <a:xfrm>
            <a:off x="155520" y="142920"/>
            <a:ext cx="8832960" cy="21398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6" name="Прямоугольник 21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7" name="Прямоугольник 23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8" name="Прямая соединительная линия 24"/>
          <p:cNvSpPr/>
          <p:nvPr/>
        </p:nvSpPr>
        <p:spPr>
          <a:xfrm>
            <a:off x="152280" y="243828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59" name="Овал 25"/>
          <p:cNvSpPr/>
          <p:nvPr/>
        </p:nvSpPr>
        <p:spPr>
          <a:xfrm>
            <a:off x="4267080" y="211464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0" name="Овал 26"/>
          <p:cNvSpPr/>
          <p:nvPr/>
        </p:nvSpPr>
        <p:spPr>
          <a:xfrm>
            <a:off x="4362480" y="220968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 type="ftr" idx="1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 type="dt" idx="11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 type="sldNum" idx="12"/>
          </p:nvPr>
        </p:nvSpPr>
        <p:spPr>
          <a:xfrm>
            <a:off x="4343400" y="21985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D0F2A4-653F-46B5-A863-789EFEB0B0FF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3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4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5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6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7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8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09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0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1" name="Прямая соединительная линия 19"/>
          <p:cNvSpPr/>
          <p:nvPr/>
        </p:nvSpPr>
        <p:spPr>
          <a:xfrm flipV="1">
            <a:off x="4562640" y="1576080"/>
            <a:ext cx="9360" cy="481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4" name="PlaceHolder 3"/>
          <p:cNvSpPr>
            <a:spLocks noGrp="1"/>
          </p:cNvSpPr>
          <p:nvPr>
            <p:ph type="dt" idx="13"/>
          </p:nvPr>
        </p:nvSpPr>
        <p:spPr>
          <a:xfrm>
            <a:off x="5791320" y="6409800"/>
            <a:ext cx="30448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PlaceHolder 4"/>
          <p:cNvSpPr>
            <a:spLocks noGrp="1"/>
          </p:cNvSpPr>
          <p:nvPr>
            <p:ph type="ftr" idx="14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16" name="PlaceHolder 5"/>
          <p:cNvSpPr>
            <a:spLocks noGrp="1"/>
          </p:cNvSpPr>
          <p:nvPr>
            <p:ph type="sldNum" idx="15"/>
          </p:nvPr>
        </p:nvSpPr>
        <p:spPr>
          <a:xfrm>
            <a:off x="4343400" y="103968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97487-C96C-4ABC-8913-17C2E5EB850F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d2d2d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Прямая соединительная линия 19"/>
          <p:cNvSpPr/>
          <p:nvPr/>
        </p:nvSpPr>
        <p:spPr>
          <a:xfrm flipV="1">
            <a:off x="4572000" y="2199960"/>
            <a:ext cx="0" cy="4187880"/>
          </a:xfrm>
          <a:prstGeom prst="line">
            <a:avLst/>
          </a:prstGeom>
          <a:ln w="9360">
            <a:solidFill>
              <a:srgbClr val="666666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4" name="Прямоугольник 20"/>
          <p:cNvSpPr/>
          <p:nvPr/>
        </p:nvSpPr>
        <p:spPr>
          <a:xfrm>
            <a:off x="0" y="0"/>
            <a:ext cx="9144000" cy="1447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5" name="Прямоугольник 23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6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7" name="Прямоугольник 25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8" name="Прямоугольник 20"/>
          <p:cNvSpPr/>
          <p:nvPr/>
        </p:nvSpPr>
        <p:spPr>
          <a:xfrm>
            <a:off x="152280" y="1371600"/>
            <a:ext cx="8832960" cy="91440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59" name="Прямоугольник 21"/>
          <p:cNvSpPr/>
          <p:nvPr/>
        </p:nvSpPr>
        <p:spPr>
          <a:xfrm>
            <a:off x="146160" y="6391440"/>
            <a:ext cx="8832600" cy="3110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0" name="Прямая соединительная линия 23"/>
          <p:cNvSpPr/>
          <p:nvPr/>
        </p:nvSpPr>
        <p:spPr>
          <a:xfrm>
            <a:off x="152280" y="127944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1" name="Прямоугольник 24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2" name="Овал 25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3" name="Овал 26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 type="dt" idx="1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 type="ftr" idx="17"/>
          </p:nvPr>
        </p:nvSpPr>
        <p:spPr>
          <a:xfrm>
            <a:off x="304920" y="6409800"/>
            <a:ext cx="3581280" cy="36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268" name="PlaceHolder 5"/>
          <p:cNvSpPr>
            <a:spLocks noGrp="1"/>
          </p:cNvSpPr>
          <p:nvPr>
            <p:ph type="sldNum" idx="18"/>
          </p:nvPr>
        </p:nvSpPr>
        <p:spPr>
          <a:xfrm>
            <a:off x="4343400" y="104292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15BDB4-024C-4C53-9CE4-26B19AA76437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Прямоугольник 16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6" name="Прямоугольник 15"/>
          <p:cNvSpPr/>
          <p:nvPr/>
        </p:nvSpPr>
        <p:spPr>
          <a:xfrm>
            <a:off x="0" y="0"/>
            <a:ext cx="9144000" cy="1393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7" name="Прямоугольник 17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8" name="Прямоугольник 18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09" name="Прямоугольник 8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0" name="Прямоугольник 7"/>
          <p:cNvSpPr/>
          <p:nvPr/>
        </p:nvSpPr>
        <p:spPr>
          <a:xfrm>
            <a:off x="152280" y="15552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1" name="Прямая соединительная линия 9"/>
          <p:cNvSpPr/>
          <p:nvPr/>
        </p:nvSpPr>
        <p:spPr>
          <a:xfrm>
            <a:off x="152280" y="1276200"/>
            <a:ext cx="8832960" cy="0"/>
          </a:xfrm>
          <a:prstGeom prst="line">
            <a:avLst/>
          </a:prstGeom>
          <a:ln w="936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2" name="Овал 11"/>
          <p:cNvSpPr/>
          <p:nvPr/>
        </p:nvSpPr>
        <p:spPr>
          <a:xfrm>
            <a:off x="4267080" y="9558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3" name="Овал 14"/>
          <p:cNvSpPr/>
          <p:nvPr/>
        </p:nvSpPr>
        <p:spPr>
          <a:xfrm>
            <a:off x="4362480" y="1050840"/>
            <a:ext cx="419040" cy="4208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 type="dt" idx="19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 type="ftr" idx="20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 type="sldNum" idx="21"/>
          </p:nvPr>
        </p:nvSpPr>
        <p:spPr>
          <a:xfrm>
            <a:off x="4343400" y="1036440"/>
            <a:ext cx="457200" cy="44100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35F37C-8C40-47F5-AF7F-607500484D05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Прямоугольник 19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6" name="Прямоугольник 20"/>
          <p:cNvSpPr/>
          <p:nvPr/>
        </p:nvSpPr>
        <p:spPr>
          <a:xfrm>
            <a:off x="0" y="0"/>
            <a:ext cx="9144000" cy="1555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7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8" name="Прямоугольник 24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59" name="Прямоугольник 19"/>
          <p:cNvSpPr/>
          <p:nvPr/>
        </p:nvSpPr>
        <p:spPr>
          <a:xfrm>
            <a:off x="146160" y="6391440"/>
            <a:ext cx="8832600" cy="30924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0" name="Прямоугольник 20"/>
          <p:cNvSpPr/>
          <p:nvPr/>
        </p:nvSpPr>
        <p:spPr>
          <a:xfrm>
            <a:off x="152280" y="15876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 type="dt" idx="22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 type="ftr" idx="23"/>
          </p:nvPr>
        </p:nvSpPr>
        <p:spPr>
          <a:xfrm>
            <a:off x="304920" y="6409800"/>
            <a:ext cx="358128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 type="sldNum" idx="24"/>
          </p:nvPr>
        </p:nvSpPr>
        <p:spPr>
          <a:xfrm>
            <a:off x="4267080" y="6324480"/>
            <a:ext cx="60984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A2ED7C-4B01-4B4F-B4B8-6FC8DF15F314}" type="slidenum">
              <a:rPr b="0" lang="ru-RU" sz="16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Прямоугольник 15"/>
          <p:cNvSpPr/>
          <p:nvPr/>
        </p:nvSpPr>
        <p:spPr>
          <a:xfrm>
            <a:off x="152280" y="152280"/>
            <a:ext cx="8832960" cy="30492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3" name="Прямоугольник 20"/>
          <p:cNvSpPr/>
          <p:nvPr/>
        </p:nvSpPr>
        <p:spPr>
          <a:xfrm>
            <a:off x="0" y="6705720"/>
            <a:ext cx="9144000" cy="15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4" name="Прямоугольник 23"/>
          <p:cNvSpPr/>
          <p:nvPr/>
        </p:nvSpPr>
        <p:spPr>
          <a:xfrm>
            <a:off x="899172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5" name="Прямоугольник 24"/>
          <p:cNvSpPr/>
          <p:nvPr/>
        </p:nvSpPr>
        <p:spPr>
          <a:xfrm>
            <a:off x="0" y="0"/>
            <a:ext cx="9144000" cy="1191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6" name="Прямоугольник 25"/>
          <p:cNvSpPr/>
          <p:nvPr/>
        </p:nvSpPr>
        <p:spPr>
          <a:xfrm>
            <a:off x="0" y="0"/>
            <a:ext cx="1522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7" name="Прямоугольник 20"/>
          <p:cNvSpPr/>
          <p:nvPr/>
        </p:nvSpPr>
        <p:spPr>
          <a:xfrm>
            <a:off x="152280" y="609480"/>
            <a:ext cx="2743200" cy="5867640"/>
          </a:xfrm>
          <a:prstGeom prst="rect">
            <a:avLst/>
          </a:prstGeom>
          <a:solidFill>
            <a:srgbClr val="ff388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8" name="Прямоугольник 21"/>
          <p:cNvSpPr/>
          <p:nvPr/>
        </p:nvSpPr>
        <p:spPr>
          <a:xfrm>
            <a:off x="152280" y="152280"/>
            <a:ext cx="8832960" cy="6546960"/>
          </a:xfrm>
          <a:prstGeom prst="rect">
            <a:avLst/>
          </a:prstGeom>
          <a:noFill/>
          <a:ln w="93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09" name="Прямая соединительная линия 23"/>
          <p:cNvSpPr/>
          <p:nvPr/>
        </p:nvSpPr>
        <p:spPr>
          <a:xfrm>
            <a:off x="152280" y="533520"/>
            <a:ext cx="8832960" cy="0"/>
          </a:xfrm>
          <a:prstGeom prst="line">
            <a:avLst/>
          </a:prstGeom>
          <a:ln w="11520">
            <a:solidFill>
              <a:srgbClr val="89006f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0" name="Овал 24"/>
          <p:cNvSpPr/>
          <p:nvPr/>
        </p:nvSpPr>
        <p:spPr>
          <a:xfrm>
            <a:off x="1295280" y="228600"/>
            <a:ext cx="6098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1" name="Овал 25"/>
          <p:cNvSpPr/>
          <p:nvPr/>
        </p:nvSpPr>
        <p:spPr>
          <a:xfrm>
            <a:off x="1390680" y="324000"/>
            <a:ext cx="419040" cy="419040"/>
          </a:xfrm>
          <a:prstGeom prst="ellipse">
            <a:avLst/>
          </a:prstGeom>
          <a:solidFill>
            <a:srgbClr val="ffffff"/>
          </a:solidFill>
          <a:ln cap="rnd" w="50760">
            <a:solidFill>
              <a:srgbClr val="89006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2" name="Прямоугольник 26"/>
          <p:cNvSpPr/>
          <p:nvPr/>
        </p:nvSpPr>
        <p:spPr>
          <a:xfrm>
            <a:off x="149400" y="6388200"/>
            <a:ext cx="8832600" cy="309600"/>
          </a:xfrm>
          <a:prstGeom prst="rect">
            <a:avLst/>
          </a:prstGeom>
          <a:solidFill>
            <a:srgbClr val="9c007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300" spc="-1" strike="noStrike">
                <a:solidFill>
                  <a:srgbClr val="89006f"/>
                </a:solidFill>
                <a:latin typeface="Georgia"/>
              </a:rPr>
              <a:t>Click to edit the title text format</a:t>
            </a:r>
            <a:endParaRPr b="0" lang="en-US" sz="33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301320" y="1523520"/>
            <a:ext cx="8534520" cy="4599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72880" indent="-272880">
              <a:spcBef>
                <a:spcPts val="6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Click to edit the outline text format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1" marL="547560" indent="-272880">
              <a:spcBef>
                <a:spcPts val="675"/>
              </a:spcBef>
              <a:buClr>
                <a:srgbClr val="e40059"/>
              </a:buClr>
              <a:buSzPct val="70000"/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con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2" marL="822240" indent="-228600">
              <a:spcBef>
                <a:spcPts val="675"/>
              </a:spcBef>
              <a:buClr>
                <a:srgbClr val="9c007f"/>
              </a:buClr>
              <a:buSzPct val="75000"/>
              <a:buFont typeface="Wingdings 2" charset="2"/>
              <a:buChar char="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Third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3" marL="1096920" indent="-228600">
              <a:spcBef>
                <a:spcPts val="675"/>
              </a:spcBef>
              <a:buClr>
                <a:srgbClr val="68007f"/>
              </a:buClr>
              <a:buSzPct val="70000"/>
              <a:buFont typeface="Wingdings" charset="2"/>
              <a:buChar char="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our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4" marL="1371600" indent="-228600">
              <a:spcBef>
                <a:spcPts val="675"/>
              </a:spcBef>
              <a:buClr>
                <a:srgbClr val="005bd3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Fif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5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ix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lvl="6" marL="1371600" indent="-228600">
              <a:spcBef>
                <a:spcPts val="675"/>
              </a:spcBef>
              <a:buClr>
                <a:srgbClr val="000000"/>
              </a:buClr>
              <a:buFont typeface="Georgi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Seventh Outline Level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 type="sldNum" idx="25"/>
          </p:nvPr>
        </p:nvSpPr>
        <p:spPr>
          <a:xfrm>
            <a:off x="1371600" y="312840"/>
            <a:ext cx="457200" cy="441360"/>
          </a:xfrm>
          <a:prstGeom prst="rect">
            <a:avLst/>
          </a:prstGeom>
          <a:noFill/>
          <a:ln w="0">
            <a:noFill/>
          </a:ln>
        </p:spPr>
        <p:txBody>
          <a:bodyPr lIns="45720" rIns="4572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600" spc="-1" strike="noStrike">
                <a:solidFill>
                  <a:srgbClr val="89006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23FDE-9F39-4E64-9E1B-8C887FBFE787}" type="slidenum">
              <a:rPr b="0" lang="ru-RU" sz="1600" spc="-1" strike="noStrike">
                <a:solidFill>
                  <a:srgbClr val="89006f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 type="dt" idx="26"/>
          </p:nvPr>
        </p:nvSpPr>
        <p:spPr>
          <a:xfrm>
            <a:off x="5791320" y="6405480"/>
            <a:ext cx="30448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5"/>
          <p:cNvSpPr>
            <a:spLocks noGrp="1"/>
          </p:cNvSpPr>
          <p:nvPr>
            <p:ph type="ftr" idx="27"/>
          </p:nvPr>
        </p:nvSpPr>
        <p:spPr>
          <a:xfrm>
            <a:off x="301320" y="6409800"/>
            <a:ext cx="3382920" cy="366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4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8.wmf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133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666666"/>
                </a:solidFill>
                <a:latin typeface="Georgia"/>
              </a:rPr>
              <a:t>ПОДГОТОВИЛА: УЧИТЕЛЬ ХИМИИ МБОУ «СОШ №2» ЗАЙЦЕВА ЯНА АЛЕКСЕЕВНА</a:t>
            </a:r>
            <a:endParaRPr b="0" lang="en-US" sz="24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800" spc="-1" strike="noStrike">
                <a:solidFill>
                  <a:srgbClr val="ff388c"/>
                </a:solidFill>
                <a:latin typeface="Georgia"/>
              </a:rPr>
              <a:t>Обобщение и систематизация знаний по теме: «Углеводы»</a:t>
            </a:r>
            <a:endParaRPr b="0" lang="en-US" sz="38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08" name="Picture 3" descr="C:\Documents and Settings\Admin\Рабочий стол\16 апреля\Мусор\chemistry-flash-purple-md.png"/>
          <p:cNvPicPr/>
          <p:nvPr/>
        </p:nvPicPr>
        <p:blipFill>
          <a:blip r:embed="rId1"/>
          <a:stretch/>
        </p:blipFill>
        <p:spPr>
          <a:xfrm>
            <a:off x="6303960" y="4260960"/>
            <a:ext cx="1474920" cy="1944720"/>
          </a:xfrm>
          <a:prstGeom prst="rect">
            <a:avLst/>
          </a:prstGeom>
          <a:ln w="0">
            <a:noFill/>
          </a:ln>
        </p:spPr>
      </p:pic>
      <p:pic>
        <p:nvPicPr>
          <p:cNvPr id="609" name="Picture 5" descr="C:\Documents and Settings\Admin\Рабочий стол\16 апреля\Мусор\light-green-flask-md.png"/>
          <p:cNvPicPr/>
          <p:nvPr/>
        </p:nvPicPr>
        <p:blipFill>
          <a:blip r:embed="rId2"/>
          <a:stretch/>
        </p:blipFill>
        <p:spPr>
          <a:xfrm>
            <a:off x="7040520" y="4230720"/>
            <a:ext cx="1798560" cy="197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Результаты опытов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graphicFrame>
        <p:nvGraphicFramePr>
          <p:cNvPr id="630" name=""/>
          <p:cNvGraphicFramePr/>
          <p:nvPr/>
        </p:nvGraphicFramePr>
        <p:xfrm>
          <a:off x="324000" y="1557360"/>
          <a:ext cx="8496000" cy="4592520"/>
        </p:xfrm>
        <a:graphic>
          <a:graphicData uri="http://schemas.openxmlformats.org/drawingml/2006/table">
            <a:tbl>
              <a:tblPr/>
              <a:tblGrid>
                <a:gridCol w="2233440"/>
                <a:gridCol w="1731960"/>
                <a:gridCol w="1731960"/>
                <a:gridCol w="2798640"/>
              </a:tblGrid>
              <a:tr h="105732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звани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ула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еак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Характер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11811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люк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17936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ахар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1174680"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рахм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400" rIns="6840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 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400" marR="684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Результаты опытов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graphicFrame>
        <p:nvGraphicFramePr>
          <p:cNvPr id="632" name=""/>
          <p:cNvGraphicFramePr/>
          <p:nvPr/>
        </p:nvGraphicFramePr>
        <p:xfrm>
          <a:off x="395280" y="1628640"/>
          <a:ext cx="8353440" cy="4494240"/>
        </p:xfrm>
        <a:graphic>
          <a:graphicData uri="http://schemas.openxmlformats.org/drawingml/2006/table">
            <a:tbl>
              <a:tblPr/>
              <a:tblGrid>
                <a:gridCol w="2195640"/>
                <a:gridCol w="1703160"/>
                <a:gridCol w="1703520"/>
                <a:gridCol w="2751120"/>
              </a:tblGrid>
              <a:tr h="137052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Название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Формула веществ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Реактив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Характерные признаки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</a:tr>
              <a:tr h="137016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Глюк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, 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агре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Выпадение кирпично-красного осадка 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↓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  <a:tr h="105228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Сахароз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C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1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H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2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O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11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</a:t>
                      </a: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u(OH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Ярко-синее окрашивание раствора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e8ee"/>
                    </a:solidFill>
                  </a:tcPr>
                </a:tc>
              </a:tr>
              <a:tr h="701640"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2000" spc="-1" strike="noStrike">
                          <a:solidFill>
                            <a:srgbClr val="ffffff"/>
                          </a:solidFill>
                          <a:latin typeface="Georgia"/>
                        </a:rPr>
                        <a:t>Крахмал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388c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(С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6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Н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10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О</a:t>
                      </a:r>
                      <a:r>
                        <a:rPr b="0" lang="ru-RU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5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)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n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I</a:t>
                      </a:r>
                      <a:r>
                        <a:rPr b="0" lang="en-US" sz="2000" spc="-1" strike="noStrike" baseline="-25000">
                          <a:solidFill>
                            <a:srgbClr val="000000"/>
                          </a:solidFill>
                          <a:latin typeface="Georgia"/>
                        </a:rPr>
                        <a:t>2</a:t>
                      </a: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 (р-р)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 algn="ctr"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2000" spc="-1" strike="noStrike">
                          <a:solidFill>
                            <a:srgbClr val="000000"/>
                          </a:solidFill>
                          <a:latin typeface="Georgia"/>
                        </a:rPr>
                        <a:t>Синее окрашивание</a:t>
                      </a:r>
                      <a:endParaRPr b="0" lang="en-US" sz="2000" spc="-1" strike="noStrike">
                        <a:solidFill>
                          <a:srgbClr val="000000"/>
                        </a:solidFill>
                        <a:latin typeface="Georgia"/>
                      </a:endParaRPr>
                    </a:p>
                  </a:txBody>
                  <a:tcPr anchor="t" marL="68760" marR="6876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ffcedb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Графический диктант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34" name=""/>
          <p:cNvSpPr txBox="1"/>
          <p:nvPr/>
        </p:nvSpPr>
        <p:spPr>
          <a:xfrm>
            <a:off x="301680" y="1371600"/>
            <a:ext cx="419904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делать заготовку на листе бумаги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Если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согласны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 с утверждением, то ставим 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Если </a:t>
            </a: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не согласны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с утверждением, то ставим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В итоге получается график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Georgia"/>
              <a:buAutoNum type="arabicParenR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 marL="473040" indent="-473040"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5" name=""/>
          <p:cNvSpPr txBox="1"/>
          <p:nvPr/>
        </p:nvSpPr>
        <p:spPr>
          <a:xfrm>
            <a:off x="480060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1 вариант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– глюкоз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2 вариант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– сахароза;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300" spc="-1" strike="noStrike">
                <a:solidFill>
                  <a:srgbClr val="000000"/>
                </a:solidFill>
                <a:latin typeface="Georgia"/>
              </a:rPr>
              <a:t>3 вариант </a:t>
            </a:r>
            <a:r>
              <a:rPr b="0" lang="ru-RU" sz="2300" spc="-1" strike="noStrike">
                <a:solidFill>
                  <a:srgbClr val="000000"/>
                </a:solidFill>
                <a:latin typeface="Georgia"/>
              </a:rPr>
              <a:t>– крахмал.</a:t>
            </a: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80000"/>
              </a:lnSpc>
              <a:spcBef>
                <a:spcPts val="5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3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6" name="Picture 4" descr=""/>
          <p:cNvPicPr/>
          <p:nvPr/>
        </p:nvPicPr>
        <p:blipFill>
          <a:blip r:embed="rId1"/>
          <a:stretch/>
        </p:blipFill>
        <p:spPr>
          <a:xfrm>
            <a:off x="755640" y="2048040"/>
            <a:ext cx="4462560" cy="274320"/>
          </a:xfrm>
          <a:prstGeom prst="rect">
            <a:avLst/>
          </a:prstGeom>
          <a:ln w="0">
            <a:noFill/>
          </a:ln>
        </p:spPr>
      </p:pic>
      <p:sp>
        <p:nvSpPr>
          <p:cNvPr id="637" name="Прямая соединительная линия 13"/>
          <p:cNvSpPr/>
          <p:nvPr/>
        </p:nvSpPr>
        <p:spPr>
          <a:xfrm flipV="1">
            <a:off x="1778040" y="3516120"/>
            <a:ext cx="407880" cy="417240"/>
          </a:xfrm>
          <a:prstGeom prst="line">
            <a:avLst/>
          </a:prstGeom>
          <a:ln w="50760">
            <a:solidFill>
              <a:srgbClr val="9c007f"/>
            </a:solidFill>
            <a:miter/>
            <a:headEnd len="med" type="oval" w="med"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sp>
        <p:nvSpPr>
          <p:cNvPr id="638" name="Прямая соединительная линия 14"/>
          <p:cNvSpPr/>
          <p:nvPr/>
        </p:nvSpPr>
        <p:spPr>
          <a:xfrm>
            <a:off x="2195640" y="3516480"/>
            <a:ext cx="371520" cy="401400"/>
          </a:xfrm>
          <a:prstGeom prst="line">
            <a:avLst/>
          </a:prstGeom>
          <a:ln w="50760">
            <a:solidFill>
              <a:srgbClr val="9c007f"/>
            </a:solidFill>
            <a:miter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39" name="Прямая соединительная линия 18" descr=""/>
          <p:cNvPicPr/>
          <p:nvPr/>
        </p:nvPicPr>
        <p:blipFill>
          <a:blip r:embed="rId2"/>
          <a:stretch/>
        </p:blipFill>
        <p:spPr>
          <a:xfrm>
            <a:off x="1670040" y="4657680"/>
            <a:ext cx="1030320" cy="206280"/>
          </a:xfrm>
          <a:prstGeom prst="rect">
            <a:avLst/>
          </a:prstGeom>
          <a:ln w="0">
            <a:noFill/>
          </a:ln>
        </p:spPr>
      </p:pic>
      <p:sp>
        <p:nvSpPr>
          <p:cNvPr id="640" name="Овал 3"/>
          <p:cNvSpPr/>
          <p:nvPr/>
        </p:nvSpPr>
        <p:spPr>
          <a:xfrm>
            <a:off x="3753000" y="2178000"/>
            <a:ext cx="115560" cy="112680"/>
          </a:xfrm>
          <a:prstGeom prst="ellipse">
            <a:avLst/>
          </a:prstGeom>
          <a:solidFill>
            <a:srgbClr val="9c007f"/>
          </a:solidFill>
          <a:ln w="11520">
            <a:solidFill>
              <a:srgbClr val="bc2665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33480" bIns="3348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006f"/>
                </a:solidFill>
                <a:latin typeface="Georgia"/>
              </a:rPr>
              <a:t>Графический диктант</a:t>
            </a:r>
            <a:endParaRPr b="0" lang="en-US" sz="36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2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Georgia"/>
              </a:rPr>
              <a:t>Текст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1) Молекулярная формула вещества С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12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6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2) Данный углевод относится к дисахаридам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3) Вещество дает синее окрашивание при взаимодействии с йодом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4) Гидролизуется с образованием глюкозы и фруктоз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5) Данный углевод относится к полисахаридам</a:t>
            </a:r>
            <a:r>
              <a:rPr b="0" lang="ru-RU" sz="26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6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Графический диктант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6) Является альдегидо-спиртом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7) В промышленности данный углевод получают из сока сахарного  тростника и сахарной свекл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8) Вещество дает  реакцию серебряного зеркал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9) Молекулярная формула вещества С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12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22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</a:t>
            </a:r>
            <a:r>
              <a:rPr b="0" lang="ru-RU" sz="3000" spc="-1" strike="noStrike" baseline="-25000">
                <a:solidFill>
                  <a:srgbClr val="000000"/>
                </a:solidFill>
                <a:latin typeface="Georgia"/>
              </a:rPr>
              <a:t>11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10) Содержится в цитоплазме растительных клеток в виде зерен запасного питательного веществ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>
              <a:lnSpc>
                <a:spcPct val="90000"/>
              </a:lnSpc>
              <a:spcBef>
                <a:spcPts val="751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Ответы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pic>
        <p:nvPicPr>
          <p:cNvPr id="646" name="Picture 2" descr=""/>
          <p:cNvPicPr/>
          <p:nvPr/>
        </p:nvPicPr>
        <p:blipFill>
          <a:blip r:embed="rId1"/>
          <a:stretch/>
        </p:blipFill>
        <p:spPr>
          <a:xfrm>
            <a:off x="971640" y="1557360"/>
            <a:ext cx="7662600" cy="475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Экспериментальная задача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4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Цель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– с помощью качественных реакций определить какие углеводы находятся в пробирках №9 и 10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Реактивы: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пробирка №2 –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NaOH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; пробирка №3 – 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CuSO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Georgia"/>
              </a:rPr>
              <a:t>4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Оборудование: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пробирки, штатив для пробирок, спиртовка, спички, держател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Georgia"/>
              </a:rPr>
              <a:t>Ход опыта: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1) В 2-ух чистых пробирках получить С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u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(</a:t>
            </a:r>
            <a:r>
              <a:rPr b="0" lang="en-US" sz="2100" spc="-1" strike="noStrike">
                <a:solidFill>
                  <a:srgbClr val="000000"/>
                </a:solidFill>
                <a:latin typeface="Georgia"/>
              </a:rPr>
              <a:t>OH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)</a:t>
            </a:r>
            <a:r>
              <a:rPr b="0" lang="ru-RU" sz="2100" spc="-1" strike="noStrike" baseline="-25000">
                <a:solidFill>
                  <a:srgbClr val="000000"/>
                </a:solidFill>
                <a:latin typeface="Georgia"/>
              </a:rPr>
              <a:t>2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2) В одну из пробирок прилить немного раствора из пробирки №9, в другую – из пробирки №10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3) Смесь в обеих пробирках нагреть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4) Определить по характерным признакам какие углеводы, находятся в пробирках № 9 и 10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Литература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5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-272880" algn="just">
              <a:lnSpc>
                <a:spcPct val="15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Габриелян О.С. Химия. 10 класс. Базовый уровень: учеб. для общеобразовательных учреждений/О.С. Габриелян. – 4-е издание, стереотипное – М.: Дрофа, 2008. – 191 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272880" algn="just">
              <a:lnSpc>
                <a:spcPct val="150000"/>
              </a:lnSpc>
              <a:spcBef>
                <a:spcPts val="499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Calibri"/>
              </a:rPr>
              <a:t>2. </a:t>
            </a:r>
            <a:r>
              <a:rPr b="0" lang="ru-RU" sz="2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зарова Т.С. Карты-инструкции для практических занятий по химии 8-11 классы: учеб. Пособие для учащихся 8-11 классов общеобразовательных учреждений/Т.С. Назарова, В. Н. Лаврова. – М.: ВЛАДОС, 2005. – 95 с.</a:t>
            </a: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272880" algn="just">
              <a:lnSpc>
                <a:spcPct val="15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  <a:p>
            <a:pPr marL="457200" indent="-2728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89006f"/>
                </a:solidFill>
                <a:latin typeface="Georgia"/>
              </a:rPr>
              <a:t>Цель урока</a:t>
            </a:r>
            <a:endParaRPr b="0" lang="en-US" sz="4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1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11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Georgia"/>
              </a:rPr>
              <a:t>Обобщить и систематизировать знания по теме: «Углеводы»</a:t>
            </a: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1100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12" name="Picture 2" descr=""/>
          <p:cNvPicPr/>
          <p:nvPr/>
        </p:nvPicPr>
        <p:blipFill>
          <a:blip r:embed="rId1"/>
          <a:stretch/>
        </p:blipFill>
        <p:spPr>
          <a:xfrm>
            <a:off x="2340000" y="3084480"/>
            <a:ext cx="4762440" cy="3008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План урока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4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ыполнить тест «Дополнения»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Повторить правила по технике безопасности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Выполнить лабораторные опыты – исследовать пищевые продукты на наличие глюкозы, сахарозы, крахмала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Оформить результаты лабораторных опытов, сделать выводы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  <a:p>
            <a:pPr marL="509040" indent="-509040" algn="just">
              <a:spcBef>
                <a:spcPts val="751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000000"/>
                </a:solidFill>
                <a:latin typeface="Georgia"/>
              </a:rPr>
              <a:t>Написать графический диктант.</a:t>
            </a:r>
            <a:endParaRPr b="0" lang="en-US" sz="30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Тест «Дополнения»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6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spcBef>
                <a:spcPts val="6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Вставьте пропущенные слова и формулы в предложения: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глеводы, которые не гидролизуются называются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лекулярная формула глюкозы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Глюкоза обладает двойственной функцией, являясь … и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Углеводы, гидролизующиеся с образованием двух молекул моносахаридов, называются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89006f"/>
                </a:solidFill>
                <a:latin typeface="Georgia"/>
              </a:rPr>
              <a:t>Тест «Дополнения»</a:t>
            </a:r>
            <a:endParaRPr b="0" lang="en-US" sz="36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18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лекулярная формула сахарозы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Крахмал дает синее окрашивание с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Твердое волокнистое вещество, не растворяется в воде, выделяется из ваты и фильтровальной бумаги называется 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лекулярная формула крахмала и целлюлозы…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Ответы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0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Моносахари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6Н12О6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Альдегид и многоатомный спирт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Дисахариды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С12Н22О11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Йод (р-р)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Целлюлоза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  <a:p>
            <a:pPr marL="514440" indent="-514440" algn="just">
              <a:spcBef>
                <a:spcPts val="675"/>
              </a:spcBef>
              <a:buClr>
                <a:srgbClr val="ff388c"/>
              </a:buClr>
              <a:buSzPct val="85000"/>
              <a:buFont typeface="Georgia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(С6Н10О5)</a:t>
            </a:r>
            <a:r>
              <a:rPr b="0" lang="en-US" sz="2700" spc="-1" strike="noStrike">
                <a:solidFill>
                  <a:srgbClr val="000000"/>
                </a:solidFill>
                <a:latin typeface="Georgia"/>
              </a:rPr>
              <a:t>n</a:t>
            </a:r>
            <a:r>
              <a:rPr b="0" lang="ru-RU" sz="27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7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89006f"/>
                </a:solidFill>
                <a:latin typeface="Georgia"/>
              </a:rPr>
              <a:t>Правила по технике безопасности</a:t>
            </a:r>
            <a:endParaRPr b="0" lang="en-US" sz="32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2" name=""/>
          <p:cNvSpPr txBox="1"/>
          <p:nvPr/>
        </p:nvSpPr>
        <p:spPr>
          <a:xfrm>
            <a:off x="539280" y="1557360"/>
            <a:ext cx="4038840" cy="4681440"/>
          </a:xfrm>
          <a:prstGeom prst="rect">
            <a:avLst/>
          </a:prstGeom>
          <a:solidFill>
            <a:srgbClr val="ffc6d5"/>
          </a:solidFill>
          <a:ln w="9360">
            <a:solidFill>
              <a:srgbClr val="ff388c"/>
            </a:solidFill>
            <a:miter/>
          </a:ln>
          <a:effectLst>
            <a:outerShdw dist="25560" dir="5400000" blurRad="0" rotWithShape="0">
              <a:srgbClr val="000000">
                <a:alpha val="35000"/>
              </a:srgbClr>
            </a:outerShdw>
          </a:effectLst>
        </p:spPr>
        <p:txBody>
          <a:bodyPr anchor="t">
            <a:norm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Не спеши хватать прибор ты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А инструкцию чита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Убедись, что ты все понял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Вот тогда и начинай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001a4f"/>
                </a:solidFill>
                <a:latin typeface="Georgia"/>
              </a:rPr>
              <a:t>Если хочешь долго жить,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500" spc="-1" strike="noStrike">
                <a:solidFill>
                  <a:srgbClr val="001a4f"/>
                </a:solidFill>
                <a:latin typeface="Georgia"/>
              </a:rPr>
              <a:t>Надо медленно спешить</a:t>
            </a:r>
            <a:r>
              <a:rPr b="1" i="1" lang="ru-RU" sz="2500" spc="-1" strike="noStrike">
                <a:solidFill>
                  <a:srgbClr val="000000"/>
                </a:solidFill>
                <a:latin typeface="Georgia"/>
              </a:rPr>
              <a:t>.</a:t>
            </a:r>
            <a:endParaRPr b="0" lang="en-US" sz="25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3" name="Picture 2" descr=""/>
          <p:cNvPicPr/>
          <p:nvPr/>
        </p:nvPicPr>
        <p:blipFill>
          <a:blip r:embed="rId1"/>
          <a:stretch/>
        </p:blipFill>
        <p:spPr>
          <a:xfrm>
            <a:off x="4643280" y="1557360"/>
            <a:ext cx="4249800" cy="468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400" spc="-1" strike="noStrike">
                <a:solidFill>
                  <a:srgbClr val="89006f"/>
                </a:solidFill>
                <a:latin typeface="Georgia"/>
              </a:rPr>
              <a:t>Правила по технике безопасности</a:t>
            </a:r>
            <a:endParaRPr b="0" lang="en-US" sz="34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5" name=""/>
          <p:cNvSpPr txBox="1"/>
          <p:nvPr/>
        </p:nvSpPr>
        <p:spPr>
          <a:xfrm>
            <a:off x="301320" y="1527120"/>
            <a:ext cx="8504280" cy="457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е пробуйте вещества на вкус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ливайте жидкость и насыпайте твердые вещества в пробирку осторожно. Предварительно проверьте целостность пробирки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Спиртовку зажигайте спичкой, тушите колпачк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агревая пробирку с жидкостью, держите ее так, чтобы открытый конец ее был направлен в сторону и от себя, и от соседей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В случае ожога, пореза или попадания едкой и горячей жидкости на кожу или одежду немедленно обращайтесь к учителю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Реактивы расходуйте экономно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Не загромождайте свое рабочее место, выполняйте опыты над столом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0" lang="ru-RU" sz="2100" spc="-1" strike="noStrike">
                <a:solidFill>
                  <a:srgbClr val="000000"/>
                </a:solidFill>
                <a:latin typeface="Georgia"/>
              </a:rPr>
              <a:t>Закончив работу, приведите рабочее место в порядок.</a:t>
            </a: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  <a:p>
            <a:pPr marL="272880" indent="-272880" algn="just">
              <a:lnSpc>
                <a:spcPct val="80000"/>
              </a:lnSpc>
              <a:spcBef>
                <a:spcPts val="524"/>
              </a:spcBef>
              <a:buClr>
                <a:srgbClr val="ff388c"/>
              </a:buClr>
              <a:buSzPct val="85000"/>
              <a:buFont typeface="Wingdings 2" charset="2"/>
              <a:buChar char="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Georgi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301320" y="228600"/>
            <a:ext cx="8534520" cy="75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89006f"/>
                </a:solidFill>
                <a:latin typeface="Georgia"/>
              </a:rPr>
              <a:t>Лабораторные опыты</a:t>
            </a:r>
            <a:endParaRPr b="0" lang="en-US" sz="4000" spc="-1" strike="noStrike">
              <a:solidFill>
                <a:srgbClr val="89006f"/>
              </a:solidFill>
              <a:latin typeface="Georgia"/>
            </a:endParaRPr>
          </a:p>
        </p:txBody>
      </p:sp>
      <p:sp>
        <p:nvSpPr>
          <p:cNvPr id="627" name=""/>
          <p:cNvSpPr txBox="1"/>
          <p:nvPr/>
        </p:nvSpPr>
        <p:spPr>
          <a:xfrm>
            <a:off x="301680" y="1371600"/>
            <a:ext cx="4038480" cy="4681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just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Работа по группам: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1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глюкозы в  фильтрате шоколада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2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глюкозы в  виноградном сок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</a:t>
            </a: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3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глюкозы в мед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4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крахмала в  крупах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5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– определение крахмала в  хлебе  и колбасе;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6 группа 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− определение крахмала в йогурте и сметан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900" spc="-1" strike="noStrike">
                <a:solidFill>
                  <a:srgbClr val="000000"/>
                </a:solidFill>
                <a:latin typeface="Georgia"/>
              </a:rPr>
              <a:t>7 группа</a:t>
            </a:r>
            <a:r>
              <a:rPr b="0" lang="ru-RU" sz="1900" spc="-1" strike="noStrike">
                <a:solidFill>
                  <a:srgbClr val="000000"/>
                </a:solidFill>
                <a:latin typeface="Georgia"/>
              </a:rPr>
              <a:t> – определение крахмала  в банане и луке.</a:t>
            </a: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  <a:p>
            <a:pPr algn="just">
              <a:lnSpc>
                <a:spcPct val="80000"/>
              </a:lnSpc>
              <a:spcBef>
                <a:spcPts val="476"/>
              </a:spcBef>
              <a:buClr>
                <a:srgbClr val="ff388c"/>
              </a:buClr>
              <a:buSzPct val="85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Georgia"/>
            </a:endParaRPr>
          </a:p>
        </p:txBody>
      </p:sp>
      <p:pic>
        <p:nvPicPr>
          <p:cNvPr id="628" name="Picture 2" descr=""/>
          <p:cNvPicPr/>
          <p:nvPr/>
        </p:nvPicPr>
        <p:blipFill>
          <a:blip r:embed="rId1"/>
          <a:stretch/>
        </p:blipFill>
        <p:spPr>
          <a:xfrm>
            <a:off x="4643280" y="1989000"/>
            <a:ext cx="4224600" cy="353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3-18T18:02:36Z</dcterms:created>
  <dc:creator>Яна</dc:creator>
  <dc:description/>
  <dc:language>en-US</dc:language>
  <cp:lastModifiedBy>Яна</cp:lastModifiedBy>
  <dcterms:modified xsi:type="dcterms:W3CDTF">2014-12-22T20:05:43Z</dcterms:modified>
  <cp:revision>22</cp:revision>
  <dc:subject/>
  <dc:title>Обобщение и систематизация знаний по теме</dc:title>
</cp:coreProperties>
</file>