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068-BE59-4C61-83DE-5EA20B81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A6D-033C-4B15-B951-18F1D9FE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C7C-9523-48EE-BA08-55A69171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473-5A2E-4933-B487-AE469E22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9BF4-CBFF-4064-A2AE-EDEDB3EC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A18A-2610-4612-B985-7CA219F0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5FED-6E58-4DE7-BFF5-B2C7E1E5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3374-EDC2-4902-9A7D-17679E85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5861-BC12-4AB8-8455-9C11384C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A243-0882-4257-A485-18433A7B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21F9-A0BE-4169-A498-D56D5E8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59B-3119-456E-9413-1AA9AFF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A7C3-2C55-4AF6-A735-97BBB9C2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F714-F9A2-4D71-8D41-6936AEB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2DE5-8097-4D61-B554-6CFA3105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C103-816C-4DDA-B5C7-F3793634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D2DA-96FF-41AE-8480-9FAAE42F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C04-B135-41F4-97D4-6152B532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171-B2A3-4F5F-8B57-AC1D316E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B43-DCCA-43D7-943C-719C0220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797-8CFF-481D-9D96-DA5FFC39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0BA-B4E9-4A69-9917-E73B0C0A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EF0-06F3-4677-89D5-CAD9E23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4F1-F001-4C35-B609-086A06B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DA59-E9B5-40F9-8521-4F13F4F5FE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E1A-B742-489C-9498-8665F965B2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Зимние Олимпийские игр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Скоростной спуск, гигантский слалом, сноубординг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751280" cy="3155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463392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Огромных скоростей достигают спорт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мены при спуске на санях или в бобслее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87640" y="4076640"/>
            <a:ext cx="3600360" cy="2631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3673440" cy="2729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219640" y="126828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И, конечно, все мы болеем за наших хоккеистов!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392360" cy="3819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11640" y="314172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Все мы любим разные виды спорта и радуемся медалям, которые выигрывают наши российские спортсмен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7770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то – гордость нашей страны!!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859200" cy="5376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4471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9efee"/>
                </a:solidFill>
                <a:latin typeface="Garamond"/>
              </a:rPr>
              <a:t>Мы гордимся, что следующие Зимние Олимпийские игры пройдут в России, в городе Сочи. Мы будем все вместе болеть за российских спортсменов и надеемся, что символы Зимней Олимпиады-2014 в Сочи – Зайка, Белый Мишка и Леопард Барсик </a:t>
            </a:r>
            <a:r>
              <a:rPr b="1" lang="en-US" sz="2200" spc="-1" strike="noStrike">
                <a:solidFill>
                  <a:srgbClr val="b9efee"/>
                </a:solidFill>
                <a:latin typeface="Garamond"/>
              </a:rPr>
              <a:t>- </a:t>
            </a:r>
            <a:r>
              <a:rPr b="1" lang="ru-RU" sz="2200" spc="-1" strike="noStrike">
                <a:solidFill>
                  <a:srgbClr val="b9efee"/>
                </a:solidFill>
                <a:latin typeface="Garamond"/>
              </a:rPr>
              <a:t>помогут нашей команде победить</a:t>
            </a:r>
            <a:endParaRPr b="1" lang="en-US" sz="2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В Древней Греции есть старинный город Олимпия. Один раз в 4 года люди со всех концов Греции приезжали сюда чтобы посмотреть на соревнования самых сильных и смелых. А назывались эти соревнования Олимпийские игры.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7" name="Рисунок 4" descr="olympos.jpg"/>
          <p:cNvPicPr/>
          <p:nvPr/>
        </p:nvPicPr>
        <p:blipFill>
          <a:blip r:embed="rId2"/>
          <a:stretch/>
        </p:blipFill>
        <p:spPr>
          <a:xfrm>
            <a:off x="971640" y="2205000"/>
            <a:ext cx="7389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Сегодня Олимпийские  игры – это спортивные соревнования, которые проходят один раз в четыре года, в них участвуют спортсмены из разных частей света. 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оводить Олимпийские игры – это очень древняя традиция, но Зимние Олимпийские игры появились в 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XX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веке, впервые они состоялись в 1924 году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69120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Церемония открытия – всегда торжественная и красочная. Это настоящий праздник и для участников, и для зрителе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5080" y="1557360"/>
            <a:ext cx="4498920" cy="5157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4908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На время Олимпиады зажигают олимпийский огонь – символ дружбы и честной спортивной борьб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5076720" cy="491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4108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Один из самых красивых видов спорта – фигурное катание. В программу Зимних Олимпийских Игр входит одиночное и парное катание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2697120" cy="338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00720" y="1557360"/>
            <a:ext cx="2355840" cy="28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84360" y="4122720"/>
            <a:ext cx="2541600" cy="254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084720" y="3933720"/>
            <a:ext cx="2808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водится много гонок на лыжах среди мужчин и женщин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70664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00720" y="3213000"/>
            <a:ext cx="44733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Большой интерес вызывают соревнования «стреляющих лыжников» - биатлон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5689440" cy="355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003640" y="3141720"/>
            <a:ext cx="3700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Некоторые виды спорта – только для очень смелых людей, например, прыжки с трамплина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5640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1:48:06Z</dcterms:created>
  <dc:creator>VR</dc:creator>
  <dc:description/>
  <dc:language>en-US</dc:language>
  <cp:lastModifiedBy>лена</cp:lastModifiedBy>
  <dcterms:modified xsi:type="dcterms:W3CDTF">2014-02-02T09:08:35Z</dcterms:modified>
  <cp:revision>22</cp:revision>
  <dc:subject/>
  <dc:title>Зимние олимпийские игры</dc:title>
</cp:coreProperties>
</file>