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DEA-1E6E-43AE-9E13-2D16D5DC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E9E-DD98-456F-97B4-4F12AD5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C590-D1BA-486A-944E-98AC35D7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C02-831F-4625-B765-592540A6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A1B-D40C-4858-8AAB-2B04CB93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FAB-B1D7-4584-9A80-8B53421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789-98EA-4A66-95B8-0043045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6859-4BAD-47FD-95C0-7133B29A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560-71D4-4344-BD32-6D8804BD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795-B46C-4782-BA69-EDA201B3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BA68-9BD0-4300-A856-361C9C6D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D05-2B7C-4B95-B712-3297EB1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FB6C-8BA7-446E-9ED7-2FEA361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46FE-A0A6-4A07-894F-6BD7600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A5D3-D1D8-44CB-A72F-576BB9B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4E0F-1963-4689-A0ED-E8FEB1C2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A290-C54C-4746-8E5F-34C333DE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A77-FC1E-45E7-B9F2-832F463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124-1EF6-4DBF-A243-C62FDECF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B5D-E435-4B5D-9A9F-5EC0B46E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7A5-1866-4026-8191-D80F3DD3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A26-F140-4415-B3C4-2760EB9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C72-01B7-4706-B3B7-F6AA0F96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F34-4170-44D8-90B5-BFE77B1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8C3F-238A-4B53-AAC5-EA7E13EAFA0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020C-C5ED-4D5C-A5CE-389DA0055C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Зимние Олимпийские игр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Скоростной спуск, гигантский слалом, сноубординг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751280" cy="3155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84720" y="3213000"/>
            <a:ext cx="46339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Огромных скоростей достигают спорт</a:t>
            </a: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мены при спуске на санях или в бобсле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987640" y="407664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3673440" cy="272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126828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И, конечно, все мы болеем за наших хоккеистов!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392360" cy="3819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11640" y="314172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Все мы любим разные виды спорта и радуемся медалям, которые выигрывают наши российские спортсмен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7708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то – гордость нашей страны!!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859200" cy="5376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4471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9efee"/>
                </a:solidFill>
                <a:latin typeface="Garamond"/>
              </a:rPr>
              <a:t>Мы гордимся, что следующие Зимние Олимпийские игры пройдут в России, в городе Сочи. Мы будем все вместе болеть за российских спортсменов и надеемся, что символы Зимней Олимпиады-2014 в Сочи – Зайка, Белый Мишка и Леопард Барсик </a:t>
            </a:r>
            <a:r>
              <a:rPr b="1" lang="en-US" sz="2200" spc="-1" strike="noStrike">
                <a:solidFill>
                  <a:srgbClr val="b9efee"/>
                </a:solidFill>
                <a:latin typeface="Garamond"/>
              </a:rPr>
              <a:t>- </a:t>
            </a:r>
            <a:r>
              <a:rPr b="1" lang="ru-RU" sz="2200" spc="-1" strike="noStrike">
                <a:solidFill>
                  <a:srgbClr val="b9efee"/>
                </a:solidFill>
                <a:latin typeface="Garamond"/>
              </a:rPr>
              <a:t>помогут нашей команде победить</a:t>
            </a:r>
            <a:endParaRPr b="1" lang="en-US" sz="2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5545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В Древней Греции есть старинный город Олимпия. Один раз в 4 года люди со всех концов Греции приезжали сюда чтобы посмотреть на соревнования самых сильных и смелых. А назывались эти соревнования Олимпийские игры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Рисунок 4" descr="olympos.jpg"/>
          <p:cNvPicPr/>
          <p:nvPr/>
        </p:nvPicPr>
        <p:blipFill>
          <a:blip r:embed="rId2"/>
          <a:stretch/>
        </p:blipFill>
        <p:spPr>
          <a:xfrm>
            <a:off x="971640" y="2205000"/>
            <a:ext cx="7389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Сегодня Олимпийские  игры – это спортивные соревнования, которые проходят один раз в четыре года, в них участвуют спортсмены из разных частей света. 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оводить Олимпийские игры – это очень древняя традиция, но Зимние Олимпийские игры появились в 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XX</a:t>
            </a: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веке, впервые они состоялись в 1924 году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912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Церемония открытия – всегда торжественная и красочная. Это настоящий праздник и для участников, и для зрителе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45080" y="1557360"/>
            <a:ext cx="4498920" cy="5157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1557360"/>
            <a:ext cx="4908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а время Олимпиады зажигают олимпийский огонь – символ дружбы и честной спортивной борьб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5076720" cy="491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4108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Один из самых красивых видов спорта – фигурное катание. В программу Зимних Олимпийских Игр входит одиночное и парное ката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697120" cy="3384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00720" y="1557360"/>
            <a:ext cx="235584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484360" y="4122720"/>
            <a:ext cx="2541600" cy="25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2808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Проводится много гонок на лыжах среди мужчин и женщи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70664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00720" y="3213000"/>
            <a:ext cx="44733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Большой интерес вызывают соревнования «стреляющих лыжников» - биатлон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689440" cy="355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003640" y="3141720"/>
            <a:ext cx="3700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екоторые виды спорта – только для очень смелых людей, например, прыжки с трамплина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5640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1:48:06Z</dcterms:created>
  <dc:creator>VR</dc:creator>
  <dc:description/>
  <dc:language>en-US</dc:language>
  <cp:lastModifiedBy>лена</cp:lastModifiedBy>
  <dcterms:modified xsi:type="dcterms:W3CDTF">2014-02-02T09:08:35Z</dcterms:modified>
  <cp:revision>22</cp:revision>
  <dc:subject/>
  <dc:title>Зимние олимпийские игры</dc:title>
</cp:coreProperties>
</file>