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5A8-2D61-4C24-A228-741F7296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CED-C36D-4B38-BF1E-07083DE9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EAD-53C8-44E0-B6CA-71D83274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0B5-F77A-483C-A075-B427069F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686-D3FA-4267-A5BE-132E560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A26-A2E7-4D94-9926-445041A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4D5-8CE1-4B15-AC39-C92B2136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5EB-0419-49CB-8D68-1D126BA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CF1-BB95-4A11-AC4A-58ED929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03F-BB73-44E0-AA93-C821633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627-417F-449F-A1EF-65BA4220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B02-9103-4433-9C0B-B806C7B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DDA-CEB9-4D3A-9BB8-2F14D084D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1680" y="476280"/>
            <a:ext cx="85406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увашия - моя малая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russian_flag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rusflaga"/>
          <p:cNvPicPr/>
          <p:nvPr/>
        </p:nvPicPr>
        <p:blipFill>
          <a:blip r:embed="rId3"/>
          <a:stretch/>
        </p:blipFill>
        <p:spPr>
          <a:xfrm flipH="1">
            <a:off x="0" y="2565360"/>
            <a:ext cx="2664000" cy="215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lag"/>
          <p:cNvPicPr/>
          <p:nvPr/>
        </p:nvPicPr>
        <p:blipFill>
          <a:blip r:embed="rId4"/>
          <a:stretch/>
        </p:blipFill>
        <p:spPr>
          <a:xfrm>
            <a:off x="2627280" y="3933720"/>
            <a:ext cx="2411280" cy="199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uzor"/>
          <p:cNvPicPr/>
          <p:nvPr/>
        </p:nvPicPr>
        <p:blipFill>
          <a:blip r:embed="rId5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uzor"/>
          <p:cNvPicPr/>
          <p:nvPr/>
        </p:nvPicPr>
        <p:blipFill>
          <a:blip r:embed="rId6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108000" y="191628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ил Васильевич Игнат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од. 8 января 1961 год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лые Торх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боксарский район, Чувашская АСС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СФ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государственный деятель, 2-й Президент Чувашии, ранее — член Кабинета Министров Чувашской Республики. По национальности 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ува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90480" y="69228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хаил Васильевич Игнат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ig250"/>
          <p:cNvPicPr/>
          <p:nvPr/>
        </p:nvPicPr>
        <p:blipFill>
          <a:blip r:embed="rId3"/>
          <a:stretch/>
        </p:blipFill>
        <p:spPr>
          <a:xfrm>
            <a:off x="5508720" y="1700280"/>
            <a:ext cx="3089160" cy="41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0370"/>
          <p:cNvPicPr/>
          <p:nvPr/>
        </p:nvPicPr>
        <p:blipFill>
          <a:blip r:embed="rId3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russian_flag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t0.gstatic.com/images?q=tbn:Ewfsv_JNKLAkRM:http://image038.mylivepage.ru/chunk38/765706/1013/%D0%A4%D0%9B%D0%90%D0%93%2520%D0%A0%D0%A4.JPG"/>
          <p:cNvPicPr/>
          <p:nvPr/>
        </p:nvPicPr>
        <p:blipFill>
          <a:blip r:embed="rId2"/>
          <a:stretch/>
        </p:blipFill>
        <p:spPr>
          <a:xfrm>
            <a:off x="324000" y="907920"/>
            <a:ext cx="413856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7_1"/>
          <p:cNvPicPr/>
          <p:nvPr/>
        </p:nvPicPr>
        <p:blipFill>
          <a:blip r:embed="rId3"/>
          <a:stretch/>
        </p:blipFill>
        <p:spPr>
          <a:xfrm>
            <a:off x="5651640" y="981000"/>
            <a:ext cx="2492280" cy="239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flag"/>
          <p:cNvPicPr/>
          <p:nvPr/>
        </p:nvPicPr>
        <p:blipFill>
          <a:blip r:embed="rId4"/>
          <a:stretch/>
        </p:blipFill>
        <p:spPr>
          <a:xfrm>
            <a:off x="5219640" y="3429000"/>
            <a:ext cx="3313080" cy="247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герб"/>
          <p:cNvPicPr/>
          <p:nvPr/>
        </p:nvPicPr>
        <p:blipFill>
          <a:blip r:embed="rId5"/>
          <a:stretch/>
        </p:blipFill>
        <p:spPr>
          <a:xfrm>
            <a:off x="785880" y="3454560"/>
            <a:ext cx="2922480" cy="263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uzor"/>
          <p:cNvPicPr/>
          <p:nvPr/>
        </p:nvPicPr>
        <p:blipFill>
          <a:blip r:embed="rId6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animflower2"/>
          <p:cNvPicPr/>
          <p:nvPr/>
        </p:nvPicPr>
        <p:blipFill>
          <a:blip r:embed="rId3"/>
          <a:stretch/>
        </p:blipFill>
        <p:spPr>
          <a:xfrm>
            <a:off x="2411280" y="549360"/>
            <a:ext cx="41752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2"/>
          <p:cNvPicPr/>
          <p:nvPr/>
        </p:nvPicPr>
        <p:blipFill>
          <a:blip r:embed="rId4"/>
          <a:stretch/>
        </p:blipFill>
        <p:spPr>
          <a:xfrm>
            <a:off x="3059280" y="1268280"/>
            <a:ext cx="2879640" cy="279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lag"/>
          <p:cNvPicPr/>
          <p:nvPr/>
        </p:nvPicPr>
        <p:blipFill>
          <a:blip r:embed="rId5"/>
          <a:stretch/>
        </p:blipFill>
        <p:spPr>
          <a:xfrm>
            <a:off x="6372360" y="2421000"/>
            <a:ext cx="2411280" cy="19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usflaga"/>
          <p:cNvPicPr/>
          <p:nvPr/>
        </p:nvPicPr>
        <p:blipFill>
          <a:blip r:embed="rId6"/>
          <a:stretch/>
        </p:blipFill>
        <p:spPr>
          <a:xfrm flipH="1">
            <a:off x="-360" y="2565360"/>
            <a:ext cx="2987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95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емля моих отцов, земля род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Любовь моя, забота и на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верно, земли есть и краше, и теп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верно есть, других мне и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rusflaga"/>
          <p:cNvPicPr/>
          <p:nvPr/>
        </p:nvPicPr>
        <p:blipFill>
          <a:blip r:embed="rId7"/>
          <a:stretch/>
        </p:blipFill>
        <p:spPr>
          <a:xfrm flipH="1">
            <a:off x="-360" y="2565360"/>
            <a:ext cx="298764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герб"/>
          <p:cNvPicPr/>
          <p:nvPr/>
        </p:nvPicPr>
        <p:blipFill>
          <a:blip r:embed="rId3"/>
          <a:stretch/>
        </p:blipFill>
        <p:spPr>
          <a:xfrm>
            <a:off x="2050920" y="1197000"/>
            <a:ext cx="5313600" cy="5084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900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сударственный 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uzor"/>
          <p:cNvPicPr/>
          <p:nvPr/>
        </p:nvPicPr>
        <p:blipFill>
          <a:blip r:embed="rId4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imflower2"/>
          <p:cNvPicPr/>
          <p:nvPr/>
        </p:nvPicPr>
        <p:blipFill>
          <a:blip r:embed="rId3"/>
          <a:stretch/>
        </p:blipFill>
        <p:spPr>
          <a:xfrm>
            <a:off x="2627280" y="1268280"/>
            <a:ext cx="417528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huvasia"/>
          <p:cNvPicPr/>
          <p:nvPr/>
        </p:nvPicPr>
        <p:blipFill>
          <a:blip r:embed="rId4"/>
          <a:stretch/>
        </p:blipFill>
        <p:spPr>
          <a:xfrm>
            <a:off x="684360" y="549360"/>
            <a:ext cx="1439640" cy="1474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9640" y="198900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29 апреля 1992 года Постановлением Верховного Совета было утверждено Положение о Государственном гербе Чувашской Республики. Тогда же внесены изменения в соответствующие статьи Конституции. Согласно пункту 2 этого По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"... Государственный герб Чувашской Республики представляет собой изображение золотого, окаймлённого, пересечённого геральдического щита с пурпуровой эмблемой "Древа жизни" (символ возрождения), увенчанного древней чувашской эмблемой "Три солнца"; обрамлённого пурпуровой, окаймлённой золотом лентой с надписью золотыми буквами "ЧAВАШ РЕСПУБЛИКИ - ЧУВАШСКАЯ РЕСПУБЛИКА", заканчивающейся стилизованным изображением листьев и шишек хмеля. Пурпурная оконечность (основание) геральдического щита обозначает чувашскую землю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Шишки хмеля - образ традиционного богатства чувашского на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Герб подтверждён Законом Чувашской Республики "О государственных символах Чувашской Республики" от 1 июля 1997 го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флаг"/>
          <p:cNvPicPr/>
          <p:nvPr/>
        </p:nvPicPr>
        <p:blipFill>
          <a:blip r:embed="rId3"/>
          <a:stretch/>
        </p:blipFill>
        <p:spPr>
          <a:xfrm>
            <a:off x="539640" y="1268280"/>
            <a:ext cx="7993080" cy="50007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лаг Чувашской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Государственный флаг Чувашской Республики представляет собой прямоугольное полотнище с соотношением сторон 5:8. Основная эмблема Государственного герба - "Древо жизни" - знак долгого исторического пути, пройденного чувашским народом. Пурпурный (темно-красный) цвет символизирует извечное стремление народа к свободе, которое позволило ему сохранить свои традиции и самобытность. Светло-желтый цвет - цвет Солнца, дарующего жизнь всему на земле. 8-угольная звезда - один из наиболее распространенных элементов чувашского орнамента, выражающий красоту и совершен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флаг"/>
          <p:cNvPicPr/>
          <p:nvPr/>
        </p:nvPicPr>
        <p:blipFill>
          <a:blip r:embed="rId3"/>
          <a:stretch/>
        </p:blipFill>
        <p:spPr>
          <a:xfrm>
            <a:off x="250920" y="47628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imflower2"/>
          <p:cNvPicPr/>
          <p:nvPr/>
        </p:nvPicPr>
        <p:blipFill>
          <a:blip r:embed="rId4"/>
          <a:stretch/>
        </p:blipFill>
        <p:spPr>
          <a:xfrm>
            <a:off x="2987640" y="836640"/>
            <a:ext cx="4175280" cy="6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волюция флаг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3"/>
          <p:cNvPicPr/>
          <p:nvPr/>
        </p:nvPicPr>
        <p:blipFill>
          <a:blip r:embed="rId3"/>
          <a:stretch/>
        </p:blipFill>
        <p:spPr>
          <a:xfrm>
            <a:off x="826920" y="1557360"/>
            <a:ext cx="352296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6"/>
          <p:cNvPicPr/>
          <p:nvPr/>
        </p:nvPicPr>
        <p:blipFill>
          <a:blip r:embed="rId4"/>
          <a:stretch/>
        </p:blipFill>
        <p:spPr>
          <a:xfrm>
            <a:off x="5148360" y="1484280"/>
            <a:ext cx="3456000" cy="243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7"/>
          <p:cNvPicPr/>
          <p:nvPr/>
        </p:nvPicPr>
        <p:blipFill>
          <a:blip r:embed="rId5"/>
          <a:stretch/>
        </p:blipFill>
        <p:spPr>
          <a:xfrm>
            <a:off x="971640" y="3933720"/>
            <a:ext cx="3168720" cy="22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10"/>
          <p:cNvPicPr/>
          <p:nvPr/>
        </p:nvPicPr>
        <p:blipFill>
          <a:blip r:embed="rId6"/>
          <a:stretch/>
        </p:blipFill>
        <p:spPr>
          <a:xfrm>
            <a:off x="5148360" y="4076640"/>
            <a:ext cx="3527280" cy="220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сударственный  гимн Чувашской Республ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600200"/>
            <a:ext cx="325116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а - И.Тукташ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 - Г.Лебеде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ашский текст Государственного гимна Чувашской Республики выражает три круга образов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уждение природы к новой жизни;"родные, отец, мать, дети - круг семь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ение и согласие всех родных в "чувашском мире" - Чувашской Республи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одия и слова гимна очень близки к чувашской народной песне, но имеют также современное звучание и 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427640" y="1413000"/>
            <a:ext cx="439236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весны широкий свод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и живые щедро льет,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обрый лад судьбу верш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крае родном поёт душ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лон теб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Род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ав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се врем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лон теб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Род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cлав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ная страна!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ца на смену выйдя в пу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, юность, им опорой буд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обрый лад судьбу верш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жизни большой поёт душ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 народу - друг и бр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ыне и чуваш крыл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обрый лад судьбу верш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силе людской поёт душ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вторы гимн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вашской Республ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ebedev2%5b1%5d"/>
          <p:cNvPicPr/>
          <p:nvPr/>
        </p:nvPicPr>
        <p:blipFill>
          <a:blip r:embed="rId3"/>
          <a:stretch/>
        </p:blipFill>
        <p:spPr>
          <a:xfrm>
            <a:off x="468360" y="2421000"/>
            <a:ext cx="2392200" cy="333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tuctash2"/>
          <p:cNvPicPr/>
          <p:nvPr/>
        </p:nvPicPr>
        <p:blipFill>
          <a:blip r:embed="rId4"/>
          <a:stretch/>
        </p:blipFill>
        <p:spPr>
          <a:xfrm>
            <a:off x="6227640" y="2349360"/>
            <a:ext cx="2371680" cy="3333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1557360"/>
            <a:ext cx="36831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ЕВ Герман Степан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13-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298120" y="155664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ёнов (ТУКТАШ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я Семён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07-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flag"/>
          <p:cNvPicPr/>
          <p:nvPr/>
        </p:nvPicPr>
        <p:blipFill>
          <a:blip r:embed="rId5"/>
          <a:stretch/>
        </p:blipFill>
        <p:spPr>
          <a:xfrm>
            <a:off x="3564000" y="4653000"/>
            <a:ext cx="1639800" cy="125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01:20Z</dcterms:created>
  <dc:creator>Uchitel</dc:creator>
  <dc:description/>
  <dc:language>en-US</dc:language>
  <cp:lastModifiedBy>Пользователь Windows</cp:lastModifiedBy>
  <dcterms:modified xsi:type="dcterms:W3CDTF">2015-01-07T22:10:27Z</dcterms:modified>
  <cp:revision>22</cp:revision>
  <dc:subject/>
  <dc:title>Слайд 1</dc:title>
</cp:coreProperties>
</file>