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68A-DAA6-4EDB-AE98-514C1655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A5D-0F9A-4C46-807E-D5B35595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D81F-F89F-44D1-87C4-00EE66F1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BC6-198B-4428-A156-3B53BFB5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4609-782A-4391-A9D3-6CF9F464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F7DA-4D8C-4598-B80F-B9840EF5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56D5-719D-4F3B-9DBF-C5D0A884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9B29-8D4D-42F4-AC31-B5ADA7E7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3F4D-E61A-44C3-ACD9-D36F79B8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D389-FD02-491E-A6F1-E124909F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4C11-9EE9-4C77-9D8B-795538D6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809-A771-4562-8A3D-A0B1D4E8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6A97-2199-4D3A-B79A-CC441DCE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FC27-DEA9-49F6-BDD3-66343F98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79E9-6C2C-46BA-92BD-7C5158B1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DCB2-51A2-4C82-A092-D8DAD9DE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F868-AFE2-4DE8-B85D-831EA93A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F71-9B47-4A41-A35B-177913EF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FC0-EF54-4BE0-B40E-744F22F3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709-A1DB-467F-83BE-A9A507BE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91F-8DF5-4A7A-9E1D-244CCF29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3D9-A3B5-4B41-BFF0-9712FDAA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2DB-61E6-4C0A-8D39-68474A08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CFF3-B342-4529-8449-A37DEE24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92AC-2A81-4E42-A7E5-D38F1DB843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23E6-2D97-4764-8B78-51C43B064C04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Script MT Bold"/>
              </a:rPr>
              <a:t>   </a:t>
            </a:r>
            <a:r>
              <a:rPr b="1" lang="ru-RU" sz="6600" spc="-1" strike="noStrike">
                <a:solidFill>
                  <a:srgbClr val="ffffff"/>
                </a:solidFill>
                <a:latin typeface="Script MT Bold"/>
              </a:rPr>
              <a:t>Weddings in Brazil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A church wedding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Picture 7" descr="5-450"/>
          <p:cNvPicPr/>
          <p:nvPr/>
        </p:nvPicPr>
        <p:blipFill>
          <a:blip r:embed="rId1"/>
          <a:stretch/>
        </p:blipFill>
        <p:spPr>
          <a:xfrm>
            <a:off x="533520" y="144792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8"/>
          <p:cNvSpPr/>
          <p:nvPr/>
        </p:nvSpPr>
        <p:spPr>
          <a:xfrm>
            <a:off x="3493080" y="324576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a church wedding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The ceremony on the beach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0" name="Picture 6" descr="Maldivyi-foto-9"/>
          <p:cNvPicPr/>
          <p:nvPr/>
        </p:nvPicPr>
        <p:blipFill>
          <a:blip r:embed="rId1"/>
          <a:stretch/>
        </p:blipFill>
        <p:spPr>
          <a:xfrm>
            <a:off x="838080" y="1219320"/>
            <a:ext cx="754380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49418d713b27671d7af373a2d3a1ba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esents to paren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Picture 6" descr="cf069c7cc0baa19ffd2eb0d137848478"/>
          <p:cNvPicPr/>
          <p:nvPr/>
        </p:nvPicPr>
        <p:blipFill>
          <a:blip r:embed="rId1"/>
          <a:stretch/>
        </p:blipFill>
        <p:spPr>
          <a:xfrm>
            <a:off x="762120" y="1905120"/>
            <a:ext cx="74674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5" descr="91582_0"/>
          <p:cNvPicPr/>
          <p:nvPr/>
        </p:nvPicPr>
        <p:blipFill>
          <a:blip r:embed="rId1"/>
          <a:stretch/>
        </p:blipFill>
        <p:spPr>
          <a:xfrm>
            <a:off x="457200" y="457200"/>
            <a:ext cx="8381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In Brazil, a country that is famous for its grand carnival, all the holidays are a big way. Weddings are no exception.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Picture 9" descr="Свадьба-в-Бразилии-2"/>
          <p:cNvPicPr/>
          <p:nvPr/>
        </p:nvPicPr>
        <p:blipFill>
          <a:blip r:embed="rId1"/>
          <a:stretch/>
        </p:blipFill>
        <p:spPr>
          <a:xfrm>
            <a:off x="1981080" y="24382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533376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In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Brazil, preparing for the wedding does not begin with an engagement and a certain ritual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Picture 7" descr="3-450"/>
          <p:cNvPicPr/>
          <p:nvPr/>
        </p:nvPicPr>
        <p:blipFill>
          <a:blip r:embed="rId1"/>
          <a:stretch/>
        </p:blipFill>
        <p:spPr>
          <a:xfrm>
            <a:off x="228600" y="380880"/>
            <a:ext cx="54100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Before the wedding is usually held an engagement earlier this celebration couple invited only relatives , but today the number of invited guests can be unlimited.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Picture 7" descr="6-450"/>
          <p:cNvPicPr/>
          <p:nvPr/>
        </p:nvPicPr>
        <p:blipFill>
          <a:blip r:embed="rId1"/>
          <a:stretch/>
        </p:blipFill>
        <p:spPr>
          <a:xfrm>
            <a:off x="685800" y="380880"/>
            <a:ext cx="544824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Wedding dres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Picture 6" descr="581736s"/>
          <p:cNvPicPr/>
          <p:nvPr/>
        </p:nvPicPr>
        <p:blipFill>
          <a:blip r:embed="rId1"/>
          <a:stretch/>
        </p:blipFill>
        <p:spPr>
          <a:xfrm>
            <a:off x="1752480" y="1447920"/>
            <a:ext cx="5105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Some </a:t>
            </a:r>
            <a:r>
              <a:rPr b="0" lang="ru-RU" sz="4400" spc="-1" strike="noStrike">
                <a:solidFill>
                  <a:srgbClr val="ff3399"/>
                </a:solidFill>
                <a:latin typeface="Arial Black"/>
              </a:rPr>
              <a:t>lovely photos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Picture 5" descr="th_d076b18fc03801a2e512e55ff90f2674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12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After the registration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Picture 7" descr="1349244158_object_71"/>
          <p:cNvPicPr/>
          <p:nvPr/>
        </p:nvPicPr>
        <p:blipFill>
          <a:blip r:embed="rId1"/>
          <a:stretch/>
        </p:blipFill>
        <p:spPr>
          <a:xfrm>
            <a:off x="685800" y="2133720"/>
            <a:ext cx="7620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5" descr="povod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4-02-13T07:13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