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7F1F0-1020-45EB-B919-A19BB54D2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B7DFB-67CB-4BA0-AD67-1A2FA9F26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35537-83D0-4AB9-A112-C1F7BAFB1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24468-8EC9-429E-BFC3-989CA0510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9BD39-D645-483C-BC3E-6697834AB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389B0-FA0B-4AE4-A2DC-9B17DED06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6E278-50F9-4BCA-A975-C60F19268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41082-9ABD-4578-AB46-040017156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E9746-1C58-44F9-8FF3-EEF053878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67294-D21D-4F53-9C40-2B0ABF7F2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89613-9D65-40B3-9358-AFBBDA2CF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71DC-F9D3-4C84-ABD8-7CD66C410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C10EC-7418-4D7A-B714-DE0BBF9CA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2E776-1956-45E6-A62D-ACC9CEF43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738DD-8838-4477-897C-D5FFF504F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FAFEA-2F25-4F82-9DAB-5B48BB94F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0698E-3125-4EFD-96E4-5CA87EBEE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B0273-617F-4E0C-B63C-EA5B6E6F5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7003A-AAE0-4B0A-9A1C-7356DB500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1AD17-04EB-42C3-85F5-0565FC9FA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2B589-B540-455C-B29F-489EA480F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7A72B-456F-433B-820D-4A21112A6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F65A6-2533-4EBF-A700-239C2F193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8CE6-61CE-49F1-A52B-9C15F458D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ABE0-7EAD-48A8-98CB-8F8A33DEDCE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91EE-7F36-4CD1-86DC-BB711DFA8D4E}"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12" name="PlaceHolder 2"/>
          <p:cNvSpPr>
            <a:spLocks noGrp="1"/>
          </p:cNvSpPr>
          <p:nvPr>
            <p:ph/>
          </p:nvPr>
        </p:nvSpPr>
        <p:spPr>
          <a:xfrm>
            <a:off x="-108000" y="2133360"/>
            <a:ext cx="9648720" cy="3367080"/>
          </a:xfrm>
          <a:prstGeom prst="rect">
            <a:avLst/>
          </a:prstGeom>
          <a:noFill/>
          <a:ln w="0">
            <a:noFill/>
          </a:ln>
        </p:spPr>
        <p:txBody>
          <a:bodyPr anchor="t">
            <a:normAutofit fontScale="86000"/>
          </a:bodyPr>
          <a:p>
            <a:pPr marL="29484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c00000"/>
                </a:solidFill>
                <a:uFillTx/>
                <a:latin typeface="Comic Sans MS"/>
              </a:rPr>
              <a:t>the USA flag</a:t>
            </a:r>
            <a:endParaRPr b="0" lang="en-US" sz="8000" spc="-1" strike="noStrike">
              <a:solidFill>
                <a:srgbClr val="ffffff"/>
              </a:solidFill>
              <a:latin typeface="Arial"/>
            </a:endParaRPr>
          </a:p>
          <a:p>
            <a:pPr marL="29484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marL="2948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Выполнила </a:t>
            </a:r>
            <a:endParaRPr b="0" lang="en-US" sz="2000" spc="-1" strike="noStrike">
              <a:solidFill>
                <a:srgbClr val="ffffff"/>
              </a:solidFill>
              <a:latin typeface="Arial"/>
            </a:endParaRPr>
          </a:p>
          <a:p>
            <a:pPr marL="2948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Ученица 9 б класса МБОУ СОШ №7</a:t>
            </a:r>
            <a:endParaRPr b="0" lang="en-US" sz="2000" spc="-1" strike="noStrike">
              <a:solidFill>
                <a:srgbClr val="ffffff"/>
              </a:solidFill>
              <a:latin typeface="Arial"/>
            </a:endParaRPr>
          </a:p>
          <a:p>
            <a:pPr marL="2948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Осипова Анастас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8651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ccecff"/>
                </a:solidFill>
                <a:latin typeface="Arial"/>
              </a:rPr>
              <a:t> </a:t>
            </a:r>
            <a:r>
              <a:rPr b="0" lang="en-US" sz="2400" spc="-1" strike="noStrike">
                <a:solidFill>
                  <a:srgbClr val="ccecff"/>
                </a:solidFill>
                <a:latin typeface="Arial"/>
              </a:rPr>
              <a:t>Modern U.S. flag is a rectangular cloth with seven red and six white horizontal stripes. A total of 13 bands. In the upper left corner there is a dark blue rectangle. In the rectangle there are 50 five-pointed stars in white. An aspect ratio of 10:19. </a:t>
            </a:r>
            <a:br>
              <a:rPr sz="2400"/>
            </a:br>
            <a:endParaRPr b="0" lang="en-US" sz="2400" spc="-1" strike="noStrike">
              <a:solidFill>
                <a:srgbClr val="ccecff"/>
              </a:solidFill>
              <a:latin typeface="Arial"/>
            </a:endParaRPr>
          </a:p>
        </p:txBody>
      </p:sp>
      <p:pic>
        <p:nvPicPr>
          <p:cNvPr id="214" name="Picture 5" descr="Флаг США"/>
          <p:cNvPicPr/>
          <p:nvPr/>
        </p:nvPicPr>
        <p:blipFill>
          <a:blip r:embed="rId1"/>
          <a:stretch/>
        </p:blipFill>
        <p:spPr>
          <a:xfrm>
            <a:off x="1476360" y="3429000"/>
            <a:ext cx="6095880" cy="321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15560"/>
            <a:ext cx="8229600" cy="557676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tripes - 13 colonies (States), which in 1776 became an independent state in the USA (Delaware, Pennsylvania, new Jersey, Georgia, Connecticut, Massachusetts, Maryland, South Carolina, New Hampshire, Virginia, new York, North Carolina, Rhode island). The number of stars in the blue rectangle corresponds to the number of States. Today 50. The blue rectangle on the left side symbolizes the Union.</a:t>
            </a:r>
            <a:br>
              <a:rPr sz="1800"/>
            </a:br>
            <a:r>
              <a:rPr b="0" lang="en-US" sz="1800" spc="-1" strike="noStrike">
                <a:solidFill>
                  <a:srgbClr val="ffffff"/>
                </a:solidFill>
                <a:latin typeface="Arial"/>
              </a:rPr>
              <a:t>White - innocence and purity. And George Washington explained the design in their own way: "the Stars we took from heaven, red is the color of our Motherland, the white stripes, who share, means that we are separated from it; the white stripes shall go down in history as a symbol of freedom".</a:t>
            </a:r>
            <a:br>
              <a:rPr sz="1800"/>
            </a:br>
            <a:r>
              <a:rPr b="0" lang="en-US" sz="1800" spc="-1" strike="noStrike">
                <a:solidFill>
                  <a:srgbClr val="ffffff"/>
                </a:solidFill>
                <a:latin typeface="Arial"/>
              </a:rPr>
              <a:t>An interesting fact is that the blue color of the flag of the US is much darker than on the flags of other States. The fact that in the 18th century was not resistant dyes and paints quickly lost its rich color. As well as the flag was mainly hung out under the open sky, in the sea, the blue color turned to pale blue. Thick, dark blue color faded significantly longer. The blue color of the US flag is officially called Navy Blue (Navy Blue). Red color is also a little darker.</a:t>
            </a:r>
            <a:br>
              <a:rPr sz="1800"/>
            </a:br>
            <a:r>
              <a:rPr b="0" lang="en-US" sz="1800" spc="-1" strike="noStrike">
                <a:solidFill>
                  <a:srgbClr val="ffffff"/>
                </a:solidFill>
                <a:latin typeface="Arial"/>
              </a:rPr>
              <a:t>During its rich history, the U.S. flag has changed 26 times! Each time the flag was added to stars, the number of States in the US. Traditionally, a new star added to flag 4 July, after entering the new Union state. The number of bands does not change. Only once, in 1795, with two new stars added two stripes, symbolizing two new state - Vermont and Kentucky. But in 1818 he removed two strips and since then was added to stars. The last time the flag was changed in 1960, when the Hawaiian  Islands became the fiftieth state of Amer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17" name="Picture 5" descr="Флаг США с 51 звездой"/>
          <p:cNvPicPr/>
          <p:nvPr/>
        </p:nvPicPr>
        <p:blipFill>
          <a:blip r:embed="rId1"/>
          <a:stretch/>
        </p:blipFill>
        <p:spPr>
          <a:xfrm>
            <a:off x="324000" y="333360"/>
            <a:ext cx="4392360" cy="2319480"/>
          </a:xfrm>
          <a:prstGeom prst="rect">
            <a:avLst/>
          </a:prstGeom>
          <a:ln w="0">
            <a:noFill/>
          </a:ln>
        </p:spPr>
      </p:pic>
      <p:pic>
        <p:nvPicPr>
          <p:cNvPr id="218" name="Picture 7" descr="Альтернативный флаг США с 51 звездой"/>
          <p:cNvPicPr/>
          <p:nvPr/>
        </p:nvPicPr>
        <p:blipFill>
          <a:blip r:embed="rId2"/>
          <a:stretch/>
        </p:blipFill>
        <p:spPr>
          <a:xfrm>
            <a:off x="4788000" y="1916280"/>
            <a:ext cx="4356000" cy="2376360"/>
          </a:xfrm>
          <a:prstGeom prst="rect">
            <a:avLst/>
          </a:prstGeom>
          <a:ln w="0">
            <a:noFill/>
          </a:ln>
        </p:spPr>
      </p:pic>
      <p:sp>
        <p:nvSpPr>
          <p:cNvPr id="219" name="Прямоугольник 5"/>
          <p:cNvSpPr/>
          <p:nvPr/>
        </p:nvSpPr>
        <p:spPr>
          <a:xfrm>
            <a:off x="428760" y="2967120"/>
            <a:ext cx="3357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case when in the United States of America will be the 51 state, already proposed two variants of the fla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81080" y="-360"/>
            <a:ext cx="8229600" cy="5792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 </a:t>
            </a:r>
            <a:r>
              <a:rPr b="0" lang="en-US" sz="2400" spc="-1" strike="noStrike">
                <a:solidFill>
                  <a:srgbClr val="ffffff"/>
                </a:solidFill>
                <a:latin typeface="Arial"/>
              </a:rPr>
              <a:t>The national flag of the USA is one of the oldest national flags in the world. At the time of signing of the Declaration of independence, 4 July 1776, the United States still did not have an official national flag.The urgent need for a new flag of America was connected with the beginning of the War for independence. Needed a new character. The first unofficial flag of the United States became a continental flag, also known as the flag of the Congress and the Cambridge flag. The flag was almost an exact copy of the flag of the British East India company. The only difference was in the number of bands.</a:t>
            </a:r>
            <a:endParaRPr b="0" lang="en-US" sz="2400" spc="-1" strike="noStrike">
              <a:solidFill>
                <a:srgbClr val="ffffff"/>
              </a:solidFill>
              <a:latin typeface="Arial"/>
            </a:endParaRPr>
          </a:p>
        </p:txBody>
      </p:sp>
      <p:pic>
        <p:nvPicPr>
          <p:cNvPr id="221" name="Picture 5" descr="Континентальный флаг"/>
          <p:cNvPicPr/>
          <p:nvPr/>
        </p:nvPicPr>
        <p:blipFill>
          <a:blip r:embed="rId1"/>
          <a:stretch/>
        </p:blipFill>
        <p:spPr>
          <a:xfrm>
            <a:off x="5381640" y="4343400"/>
            <a:ext cx="37623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60" y="2357280"/>
            <a:ext cx="8913960" cy="450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en-US" sz="2400" spc="-1" strike="noStrike">
                <a:solidFill>
                  <a:srgbClr val="ffffff"/>
                </a:solidFill>
                <a:latin typeface="Arial"/>
              </a:rPr>
              <a:t>The new symbol of America was raised on 2 December 1775 by Lieutenant John Paul Jones on the ship "Alfred" in the Harbor of Philadelphia. Since then it has been used Continental forces as a naval flag and garrison flag. Thus began the history of the U.S. flag.</a:t>
            </a:r>
            <a:br>
              <a:rPr sz="2400"/>
            </a:br>
            <a:r>
              <a:rPr b="0" lang="en-US" sz="2400" spc="-1" strike="noStrike">
                <a:solidFill>
                  <a:srgbClr val="ffffff"/>
                </a:solidFill>
                <a:latin typeface="Arial"/>
              </a:rPr>
              <a:t>Later, on June 14, 1777, the law on the national flag was fixed resolution, which were saved 13 red and white horizontal stripes, but instead of the British flag was placed a blue rectangle with the image of the thirteen white five-pointed equal stars.</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223" name="Picture 5" descr="Первый флаг США"/>
          <p:cNvPicPr/>
          <p:nvPr/>
        </p:nvPicPr>
        <p:blipFill>
          <a:blip r:embed="rId1"/>
          <a:stretch/>
        </p:blipFill>
        <p:spPr>
          <a:xfrm>
            <a:off x="0" y="0"/>
            <a:ext cx="476244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0" y="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en-US" sz="3200" spc="-1" strike="noStrike">
                <a:solidFill>
                  <a:srgbClr val="ffffff"/>
                </a:solidFill>
                <a:latin typeface="Arial"/>
              </a:rPr>
              <a:t>It has not been documented by the authorship of the first stars and stripes flag. Historians believe that Francis Hopkinson, one of the "founding fathers" which signed the Declaration of independence, made changes in the design of the Continental flag.</a:t>
            </a:r>
            <a:endParaRPr b="0" lang="en-US" sz="3200" spc="-1" strike="noStrike">
              <a:solidFill>
                <a:srgbClr val="ffffff"/>
              </a:solidFill>
              <a:latin typeface="Arial"/>
            </a:endParaRPr>
          </a:p>
        </p:txBody>
      </p:sp>
      <p:pic>
        <p:nvPicPr>
          <p:cNvPr id="225" name="Picture 5" descr="Первый флаг США"/>
          <p:cNvPicPr/>
          <p:nvPr/>
        </p:nvPicPr>
        <p:blipFill>
          <a:blip r:embed="rId1"/>
          <a:stretch/>
        </p:blipFill>
        <p:spPr>
          <a:xfrm>
            <a:off x="3564000" y="4005360"/>
            <a:ext cx="476244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214200"/>
            <a:ext cx="8229600" cy="5911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United States it is a very popular and beloved story about a seamstress from Philadelphia Betsy Ross, which, according to legend, sewed the first American flag.</a:t>
            </a:r>
            <a:br>
              <a:rPr sz="2000"/>
            </a:br>
            <a:r>
              <a:rPr b="0" lang="en-US" sz="2000" spc="-1" strike="noStrike">
                <a:solidFill>
                  <a:srgbClr val="ffffff"/>
                </a:solidFill>
                <a:latin typeface="Arial"/>
              </a:rPr>
              <a:t>The legend says that in June of 1776, Betsy Ross was invited to a meeting with U.S. President George Washington, financier George Ross and Colonel Robert Morris, who was her late husband's uncle. At the meeting it was presented the project of a United States flag, which had to do for the coming Declaration of independence. The original flag was assumed hexagonal star that was seen to be more simple for sewing. But Betsy was offered to represent the five-pointed star and as proof of his skill cut like stars scissors. </a:t>
            </a:r>
            <a:br>
              <a:rPr sz="2000"/>
            </a:br>
            <a:r>
              <a:rPr b="0" lang="en-US" sz="2000" spc="-1" strike="noStrike">
                <a:solidFill>
                  <a:srgbClr val="ffffff"/>
                </a:solidFill>
                <a:latin typeface="Arial"/>
              </a:rPr>
              <a:t>Under the impression </a:t>
            </a:r>
            <a:br>
              <a:rPr sz="2000"/>
            </a:br>
            <a:r>
              <a:rPr b="0" lang="en-US" sz="2000" spc="-1" strike="noStrike">
                <a:solidFill>
                  <a:srgbClr val="ffffff"/>
                </a:solidFill>
                <a:latin typeface="Arial"/>
              </a:rPr>
              <a:t>from what I have seen the Committee took her proposal.</a:t>
            </a:r>
            <a:endParaRPr b="0" lang="en-US" sz="2000" spc="-1" strike="noStrike">
              <a:solidFill>
                <a:srgbClr val="ffffff"/>
              </a:solidFill>
              <a:latin typeface="Arial"/>
            </a:endParaRPr>
          </a:p>
        </p:txBody>
      </p:sp>
      <p:pic>
        <p:nvPicPr>
          <p:cNvPr id="227" name="Picture 5" descr="Бетси Росс"/>
          <p:cNvPicPr/>
          <p:nvPr/>
        </p:nvPicPr>
        <p:blipFill>
          <a:blip r:embed="rId1"/>
          <a:stretch/>
        </p:blipFill>
        <p:spPr>
          <a:xfrm>
            <a:off x="6915240" y="3657600"/>
            <a:ext cx="2228760" cy="3200400"/>
          </a:xfrm>
          <a:prstGeom prst="rect">
            <a:avLst/>
          </a:prstGeom>
          <a:ln w="0">
            <a:noFill/>
          </a:ln>
        </p:spPr>
      </p:pic>
      <p:pic>
        <p:nvPicPr>
          <p:cNvPr id="228" name="Picture 7" descr="Бетси Росс показывает флаг"/>
          <p:cNvPicPr/>
          <p:nvPr/>
        </p:nvPicPr>
        <p:blipFill>
          <a:blip r:embed="rId2"/>
          <a:stretch/>
        </p:blipFill>
        <p:spPr>
          <a:xfrm>
            <a:off x="2484360" y="3657600"/>
            <a:ext cx="42292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14:16:27Z</dcterms:created>
  <dc:creator>1</dc:creator>
  <dc:description/>
  <dc:language>en-US</dc:language>
  <cp:lastModifiedBy>Admin</cp:lastModifiedBy>
  <dcterms:modified xsi:type="dcterms:W3CDTF">2015-01-09T14:36:40Z</dcterms:modified>
  <cp:revision>7</cp:revision>
  <dc:subject/>
  <dc:title>Слайд 1</dc:title>
</cp:coreProperties>
</file>