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CBF9-2AC7-42A2-B686-2C88DAB9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9148-9406-4D16-B2BA-CEDBA83E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799-55A7-4803-922C-E7B9CC0C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585-770B-45D4-871D-9E54195B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4C29-98C7-458B-ABDA-530D2324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961-3125-4F6D-ADF4-D14DD8F6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D5D6-5030-4905-B977-0DD8C6F7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10E-44C1-48D4-9BDB-85848F64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4EB3-96CD-45A5-AE40-9F7E85DC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C9D-8B65-4E35-B49D-7517AEAC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044-490B-42CA-BDD9-3B9E6621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9A0-7D15-4592-9417-DC9C77B6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34EE-B6B1-43C3-9AF1-7A6EB547E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ЖИЛ СХЕМА СЛОВ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" descr="ЖИЛ СХЕМА СЛОВ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ЖИЛ СХЕМА СЛОВ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Конкурс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« Дополни пословицу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з труда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к живи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мер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рузья 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16002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не вытащишь рыбку из пру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32280" y="2057400"/>
            <a:ext cx="23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век учис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60880" y="2514600"/>
            <a:ext cx="26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одного не ждут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3048120"/>
            <a:ext cx="33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познаются в бе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Конкур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« Можем мы диктант писать на «4» и на «5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люблю уроки русского языка. На этих уроках мы учимся понимать силу и красоту родного язык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Конкур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« Добавь слово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олоден, как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дут, как …    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ботает, как 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прям, как … 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2209680"/>
            <a:ext cx="21654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( вол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(индю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(лошад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(осё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Конкур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« Осы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ОС_ _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этой осе в октябре позоло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ОС _ _ 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эта растёт на лугу у болот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_ ОС _ 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этой спит в колыбели малыш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_ ОС _ _ _ А _ _ 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а оса на луну улетает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_ ОС _ _ _ _ 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эта на солнце худеет и т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153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Конкурс капитанов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2666520"/>
            <a:ext cx="87631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адила мама в печь пироги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пустой п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10080" y="1411200"/>
            <a:ext cx="66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ить части речи каждого сло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3300"/>
                </a:solidFill>
                <a:latin typeface="Berlin Sans FB Demi"/>
              </a:rPr>
              <a:t>Спасибо за работу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Учите русский – годы к ря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С душой, с усердием, с умо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Вас ждёт великая наград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И та награда – в нём самом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7652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Мы весёлые ребят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И не любим мы скуч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С удовольствием сег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Будем в КВН игр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1676520"/>
            <a:ext cx="9426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Конкурс</a:t>
            </a: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«Словесная перестрел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то больше назовёт слов на букву «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ди пару и соеди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609480"/>
            <a:ext cx="916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Конкурс</a:t>
            </a:r>
            <a:r>
              <a:rPr b="1" i="1" lang="en-US" sz="36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«Замени фразеологиз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2286000"/>
            <a:ext cx="528804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лец о палец не удари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уши не ча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Без году неде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двух шаг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ать стрекоч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Яблоку негде упас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2209680"/>
            <a:ext cx="3716280" cy="48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ет мес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ядом, близк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ичего не дела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чень люби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бежа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едав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2666880"/>
            <a:ext cx="8380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3352680"/>
            <a:ext cx="2666880" cy="1295640"/>
          </a:xfrm>
          <a:prstGeom prst="line">
            <a:avLst/>
          </a:prstGeom>
          <a:ln w="93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114800"/>
            <a:ext cx="2209680" cy="2133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24080" y="3200040"/>
            <a:ext cx="2590920" cy="1523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5562720"/>
            <a:ext cx="2438280" cy="0"/>
          </a:xfrm>
          <a:prstGeom prst="line">
            <a:avLst/>
          </a:prstGeom>
          <a:ln w="93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191120" y="2590920"/>
            <a:ext cx="1523880" cy="3657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менить в слове букву так, чтобы получилось но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12952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Конкурс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«Превращение сло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3657600"/>
            <a:ext cx="1905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х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гл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л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инт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895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р:  сом -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3657600"/>
            <a:ext cx="1752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р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щ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вет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ка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51040" y="3657600"/>
            <a:ext cx="146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ф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657600"/>
            <a:ext cx="1676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ух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ик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бу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б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Конкур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«Отгадай слово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1848240"/>
            <a:ext cx="495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ень из слова СКАЗ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ффикс, что в слове ИЗВОЗЧИ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ставка в слове РАСХО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кончание в слове Д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3276720"/>
            <a:ext cx="472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ень в слове ВЯЗ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ставка в слове ЗАМОЛЧ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ффикс в слове СКАЗ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кончание в слове РЫ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4876920"/>
            <a:ext cx="4876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ень в слове СНЕЖИН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ставка в слове ПОДЪЕЗЖ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ффикс в слове ЛЕСНИ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кончание в слове СТ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3526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рассказч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47242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завяз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5867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подснежн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2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Конкур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« Путаница»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219320"/>
            <a:ext cx="91882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читайте стихотворение К.Чуковского. Раздел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го на предложения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поставьте, где надо, 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реке там рыба на буг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ычит корова в кон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бака лает на заб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ёт синичка в корид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грают дети на стене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сит картина на ок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оры инея в печур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ят дрова в руках девчу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рядная кукла в клет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учной щегол поёт салф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и на столе лежат конь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 зиме готовят там 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жат для бабушки тетр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гда содержатся в поряд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75880" y="2220840"/>
            <a:ext cx="4048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 реке там рыба. На буг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мычит корова. В кон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собака лает. На заб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ёт синичка. В корид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играют дети. На стене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исит картина. На ок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узоры инея. В печур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горят дрова. в руках девчу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нарядная кукла. В клет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ручной щегол поёт. Салф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Таи на столе лежат. Конь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к зиме готовят там. 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лежат для бабушки. Тетр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сегда содержатся в поряд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1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Конкур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«Пословицы  шутят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53396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а сапога – та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сь человека не крас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 хорошо, а два лучше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утится как булка в колес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1981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4038480"/>
            <a:ext cx="6933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Два сапога – па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Ложь человека не крас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Ум хорошо, а два лучш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рутится как белка в колес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li 2.1 Full</cp:lastModifiedBy>
  <dcterms:modified xsi:type="dcterms:W3CDTF">2014-11-16T16:56:0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