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CB9E-0376-4CC0-940D-395A445D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EBA5-5B8E-44E6-B75F-E04FDC6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B6449-280B-469A-80E3-8FB54E9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A4210-1887-4EDD-977D-A9BD9DF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64A2F-28D2-43E1-86CA-A07FA543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EB7F9-5C7A-489C-859F-9B61F133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71199-47D8-46F6-A16F-D855E05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9C573-DE0C-41D5-B6D7-B8D0384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D94C1-2F98-4402-B448-87FFE6FC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C9E7F-4B15-408D-B021-C394C603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80224-4A72-414A-993A-A098892D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F8E6-CA3D-4D79-8A7D-A281A36B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91FB-60C3-45EF-A17C-2614409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0924F-567B-422D-A38C-E82C117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B5B8A-7ED6-4804-A1DD-3EA89710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60E5E-A021-457F-96B7-B7D517D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0D48-ED51-485C-B0B6-31EFCAA2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0936D-6080-49FC-A23B-805A1FDF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B0EB8-DA7D-4C90-AFDC-56145E7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3AF55-D176-448E-9522-3F0EE736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97A1D-34C8-42AB-AE73-1E0EB9D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66BB8-6206-40AB-AF83-B3A952D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F25A9-A33C-489A-88B3-FBAAF420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A4DC-7B8A-4DE3-8FF4-3ABBBB53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68204-0498-4343-9B69-915D287A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A59D7-9A57-42E4-ACBB-49416AC4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D07BF-0227-4B7B-9963-76FBE5B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4471-96E3-4BE5-8AFC-58E80F3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AF51-F0C4-4A8F-826D-BFEAC7DA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634F-E5C2-4C6B-8472-07674F9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82B40-732B-4CC6-980C-FAC5F8C2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907BC-5288-497E-8FD7-1E9BE86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0157-A870-40C8-B64A-080F08F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74E2-04A6-41DB-B581-C25CB48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57E1-4F3E-40F3-BD62-BAA9A22D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C7C2-B45C-4C10-B3E0-CA7B0A07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9BB29-358F-4100-82E0-54332F78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E605D-D72D-4888-A602-5CB30FE9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EAE6C-5B68-4D7F-AF16-F150C7BF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0578-962A-467D-AC6B-A3BA0734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3ABFA-255F-434A-A8D9-756ECFA2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48BBC-9033-4B57-B114-41A2BB1A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FC426-E90F-4309-9BDE-20CE78AD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D9C42-EF45-49A0-892A-22631CB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45CE0-30A3-471C-A30B-EB81F8C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712-B87A-4B96-B0DC-F0097068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1B021-B527-4C06-94E3-85BFE4B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2D0AD-9FE5-4E15-8EB0-8AAF141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C9A5-686E-4F35-B466-C3D1B82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0B0D0-D804-419C-BEFF-0AAE0A3C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FF55B-E1BA-4EE1-B6D6-2CFDC53C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46878-2ADB-4E7C-B533-BB35E714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D229C-3248-424E-B7B1-4120C79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0B8E4-D94B-4707-B055-01DB5E7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31DB9-29A9-4D9F-A246-65A15AB9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E555D-33FB-44E1-AC26-1120DDB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E298-E7AD-4696-B610-5912F49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2F66D-E78F-40AC-86A9-B82D39C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321D3-1995-44E2-BAFB-2BA25948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F78FE-1F5C-4190-9381-1F43FDC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C78F0-EBC5-434E-943B-9694EF1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F5E79-1C3B-4A65-AEAF-1C69AC2B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068EA-0774-481A-8AF6-337121B3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1F94B-5644-4FBA-A4F3-4753D32E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333C-6830-4BB8-A941-A7086B02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C3C-7CE3-4F57-895D-6D1DFB81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CEB-3822-4B5C-A140-232D497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854-BC10-4727-A72A-52BDE9F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33F4-A185-46C2-88F2-C52ADE6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8C3-1306-4C29-BBD2-311F95E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E99C-3B61-461D-908D-94CD8A3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338-F620-4BB3-A740-D0BB53F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2093-3F53-4D48-994D-828DA814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C62-104C-4588-8342-8AF8FCDE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4B1D-B85F-429A-A82B-98C804DF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E092-E8E3-4337-845A-867306A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69ED-0BD9-4B53-99A5-DC15BF7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91F3-EEE6-4265-847C-23FD06E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D9CC-AA9A-4671-896D-0052F23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ECC4-944D-4BE2-BE92-6603F5A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593D-3598-4DC1-A359-7F60B53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A822-51A6-44C7-B960-8563AEBF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CC8A-CB97-4C2B-8E45-7C608BB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E18F-264B-4A18-93B6-352259E8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E538-869D-4D6E-99B7-86C9071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1C7D-1ED5-46EA-BD79-00000CF2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E7A3-3C3F-4CF0-BFF7-497D8E79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9D78-C1A2-40D3-8596-2D49FFEE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31FD-706C-4BF6-8CD3-14D49FF2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FB0B-70F1-4B89-A9E1-4C6B25E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8D13-93DA-445C-B17E-0F968A0A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9404-FEBD-421F-82A1-50C90A94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2A2E-24B8-413C-AC0F-7AA55B1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D011-AD33-4169-98A6-E2C83AF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C5DB-BE1A-495C-A08C-A75EDFF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1B78C-FEF5-4B16-9964-86B169F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A9BA-83E7-4ABF-B0E9-10086FC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490F-B9F5-4607-9295-E74475A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B839-3D2F-4232-B07F-71B1BDA4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01D0-631A-4E5D-A4D9-637F1FB8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8E2D-9BFE-440E-8673-EAFD2F26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3F6E-E153-4DEE-830A-BF82545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31F8-042F-4C4C-AB55-63332E23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608A-1F6B-405C-90A1-55EEDEBD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BB46-370A-4EB8-B51C-C8B6DD7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D0E7-DE11-4F23-9910-CA1AA71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9D1E-3288-427F-B892-3C2A8B27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7E1A-B0DC-4089-B0E2-EF367C0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6CD9-1863-4FFB-86F6-DD1DF1E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B47F1-FC8E-4102-A8CE-1174BA3B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527C-02AB-4495-9681-3095D6B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F5FD-8CFF-4647-8035-8F4A9389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DD21-234B-48CE-8B29-7DD6BA9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BACB-3A6B-4206-BE81-1014276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AB7FF-2146-461F-BAC1-40421C22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3EFB1-0C60-4FC6-ADD4-B43E446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849C-1AE8-4A70-92C9-3E29897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C70E-A7D8-49A9-9F74-10EBEED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C24D-7B13-4CC5-B085-57384E4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E77F-7900-4DBD-A0FF-66768995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A30F-A62B-4BA4-B687-CA3AFFF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4A3D-43B9-4ED4-AE22-5A457F99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4BCF-1C59-4D54-B37B-A29C1D98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0EE2-C32F-4DB1-945F-5046BA6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A537-F02A-46A1-A4DE-F1E27A0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3ACD-7C7C-4302-8DCF-D5F97E83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6C38-7D09-4A9B-89DE-63FFCE88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C4E1-6105-4574-9876-21C3EFD7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6ABC-32C1-45D0-A928-7E59C743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759D-1836-4714-8E6C-5678F39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B170C-B69A-48BD-9A5E-A3CCBDF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E146-6EA9-49D8-8F13-AC49073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41CB-0D21-44DB-ADEA-74FD082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ADFE-5A01-4071-B7F7-B943D40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5C7D-045D-4E96-8592-D2391E66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83ED-60D9-42F6-83D5-64AD75F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A0DF-E29D-4E7C-87F8-8DBAA9F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0669-E8AB-4EE0-B4B0-370A5664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4AD33-DBE3-422A-9823-21A5A24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C2D0-907C-49A4-B03F-DEFEF737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522D-EF1E-442A-A2D0-DA6F7A2F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824DF-DDB4-4217-AE22-5AF08BF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517E-763D-4120-9691-4CF50D53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8AF9A-B91B-4522-BFD0-B333C7C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0799D-BB3E-4B7E-970E-14BAA468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65D0-51A3-4BF4-9AA5-49AB3EA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BE034-F030-4474-952F-DF32414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6B262-94D6-4437-A852-A5C7C49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A2C19-27FF-467C-835C-3218DC1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58AB-4955-4783-BC5A-33688CFB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C72C-6DE1-493D-8D62-4649E08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A63D-48F6-4EB7-902E-56A8E767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2BB1E-76C8-416A-BA1A-93A1D012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50CCD-760A-4F4D-A1E2-5E8CA79F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5313A-1528-480C-8F98-452E8B1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610C2-BC69-4165-B81E-268F849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9E53-6AA8-4540-96CB-BE7D8364D6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9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9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9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70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72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2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74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4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75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5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75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75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75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E1D3-4564-4EE7-BB13-534AEB062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0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F78-9FCA-4D71-9252-F83CB49126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89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9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7CBF-5737-4089-A8F0-C6A3077320F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6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EF5-6394-4B23-ABC4-C830DF3D44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8990-39CA-480A-AECD-43E6E2B84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668-B5A6-406D-83DA-5840879AB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8C7-9A4F-4295-98CD-69E01922A9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6FB-225E-4953-B9A0-7DD2A63179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FA55-5625-4664-95F7-CDF8E71D2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165-9299-497E-AE18-4A4CF0982A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8D92-B4F6-47B0-956D-0D5A9392A0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3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3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3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3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4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4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4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CB60-F1D8-4E2F-901F-D556FF213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533520" y="4876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уководитель:                                                                              исполнител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ль химии                                                                        ученица 11 А к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чарова Ольга Николаевна                                                 Хитрина Наталь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-732240" y="1523880"/>
            <a:ext cx="10897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Западный Административный округ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редняя школа №1008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информационный проект по хими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тема: «Химическая связь»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пособы разрыва ковалентной связ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4038480" y="1828800"/>
            <a:ext cx="4953240" cy="3576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Йонный разрыв характерен для ковалентной сильнополярной связи (образование йоно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ободнорадикальный характерен для ковалентной малополярной связи при этом образуются свободные радика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380880" y="5105520"/>
            <a:ext cx="8382240" cy="825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ободные радикалы – это частицы, несущие свободные электро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7" name="Picture 8" descr="image3"/>
          <p:cNvPicPr/>
          <p:nvPr/>
        </p:nvPicPr>
        <p:blipFill>
          <a:blip r:embed="rId1"/>
          <a:stretch/>
        </p:blipFill>
        <p:spPr>
          <a:xfrm>
            <a:off x="0" y="2666880"/>
            <a:ext cx="38768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e0ff"/>
                </a:solidFill>
                <a:latin typeface="Tahoma"/>
              </a:rPr>
              <a:t>Свойства ковалентной связ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0" y="1143000"/>
            <a:ext cx="9144000" cy="6342120"/>
          </a:xfrm>
          <a:prstGeom prst="rect">
            <a:avLst/>
          </a:prstGeom>
          <a:solidFill>
            <a:srgbClr val="5e0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Энергия связи – это энергия, которая выделяется при образовании этой связи или затрачивается на ее разрыв.  Определяется:       радиусом атома,                                                                          глубиной перекрывания электронных облаков,                          кратностью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2. Длина связи – это расстояние между центрами взаимодействующих атом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3. Полярность связи – это смешение общей электронной пары к атому с большим значением э.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4. Поляризуемость – это смещение облака П-связи вдоль сигма связи под действием реаг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5. Насыщаемость – это ограниченное число ковалентных связей, определяемое валентными возможностями атомов: числом неспаренных и спаренных валентных электрон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e6f0"/>
                </a:solidFill>
                <a:latin typeface="Tahoma"/>
              </a:rPr>
              <a:t>Электроотрицатель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1" name="Text Box 5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свойство атомов в соединениях оттягивать на себя общ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онные па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2" name="Text Box 6"/>
          <p:cNvSpPr/>
          <p:nvPr/>
        </p:nvSpPr>
        <p:spPr>
          <a:xfrm>
            <a:off x="380880" y="2182680"/>
            <a:ext cx="8153640" cy="825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висит от строения атома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заряд яд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радиус ато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3" name="Text Box 7"/>
          <p:cNvSpPr/>
          <p:nvPr/>
        </p:nvSpPr>
        <p:spPr>
          <a:xfrm>
            <a:off x="380880" y="3173400"/>
            <a:ext cx="8458200" cy="3020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периоде заряды ядер атомов увеличиваются, а радиусы 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ньшаются, то электроотрицательность атомов возраста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главных подгруппах с увеличением порядкового номер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оотрицательность атомов химических элементов, как правило, уменьша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4" name="Picture 8" descr="docu0007 2"/>
          <p:cNvPicPr/>
          <p:nvPr/>
        </p:nvPicPr>
        <p:blipFill>
          <a:blip r:embed="rId1"/>
          <a:stretch/>
        </p:blipFill>
        <p:spPr>
          <a:xfrm>
            <a:off x="914400" y="5111640"/>
            <a:ext cx="69357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228600" y="304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Garamond"/>
              </a:rPr>
              <a:t>Металлическая связь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 – в металлах и сплавах, которую выполняют относительно свободные электроны между ионами металлов в металлической кристаллической решет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6" name="Rectangle 8"/>
          <p:cNvSpPr/>
          <p:nvPr/>
        </p:nvSpPr>
        <p:spPr>
          <a:xfrm>
            <a:off x="5867280" y="14479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язь в металлах между ионами посредством обобществленных электронов называется металлическ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лектроны, из которых состоит «электронный газ», непрерывно и беспорядочно движутся внутри кристаллической реше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7" name="Picture 10" descr="Image833"/>
          <p:cNvPicPr/>
          <p:nvPr/>
        </p:nvPicPr>
        <p:blipFill>
          <a:blip r:embed="rId1"/>
          <a:stretch/>
        </p:blipFill>
        <p:spPr>
          <a:xfrm>
            <a:off x="228600" y="1371600"/>
            <a:ext cx="5334120" cy="33526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1" descr="металл"/>
          <p:cNvPicPr/>
          <p:nvPr/>
        </p:nvPicPr>
        <p:blipFill>
          <a:blip r:embed="rId2"/>
          <a:stretch/>
        </p:blipFill>
        <p:spPr>
          <a:xfrm>
            <a:off x="4826160" y="4800600"/>
            <a:ext cx="4317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де представлена?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л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щества с металлической связью имеют металлическую кристаллическую решетку. В ее узлах находятся ионы или атомы металла, между которыми свободно перемещаются электро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1" name="Picture 4" descr="целофановый пакет"/>
          <p:cNvPicPr/>
          <p:nvPr/>
        </p:nvPicPr>
        <p:blipFill>
          <a:blip r:embed="rId1"/>
          <a:stretch/>
        </p:blipFill>
        <p:spPr>
          <a:xfrm>
            <a:off x="1905120" y="5075280"/>
            <a:ext cx="4686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4"/>
          <p:cNvSpPr/>
          <p:nvPr/>
        </p:nvSpPr>
        <p:spPr>
          <a:xfrm>
            <a:off x="228600" y="60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Garamond"/>
              </a:rPr>
              <a:t>Водородная связь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 – химическая связь между положительно поляризованными атомами водорода одной молекулы ( или её части) и отрицательно поляризованными атомами сильно электроотрицательных элементов, имеющих неподелённые электронные пары (</a:t>
            </a:r>
            <a:r>
              <a:rPr b="0" lang="en-US" sz="2400" spc="-1" strike="noStrike">
                <a:solidFill>
                  <a:srgbClr val="7cf73f"/>
                </a:solidFill>
                <a:latin typeface="Garamond"/>
              </a:rPr>
              <a:t> F, O, N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 и реже</a:t>
            </a:r>
            <a:r>
              <a:rPr b="0" lang="en-US" sz="2400" spc="-1" strike="noStrike">
                <a:solidFill>
                  <a:srgbClr val="7cf73f"/>
                </a:solidFill>
                <a:latin typeface="Garamond"/>
              </a:rPr>
              <a:t> Cl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 и</a:t>
            </a:r>
            <a:r>
              <a:rPr b="0" lang="en-US" sz="2400" spc="-1" strike="noStrike">
                <a:solidFill>
                  <a:srgbClr val="7cf73f"/>
                </a:solidFill>
                <a:latin typeface="Garamond"/>
              </a:rPr>
              <a:t> S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) другой молекулы (или её част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3" name="Picture 7" descr="Безымянный"/>
          <p:cNvPicPr/>
          <p:nvPr/>
        </p:nvPicPr>
        <p:blipFill>
          <a:blip r:embed="rId1"/>
          <a:stretch/>
        </p:blipFill>
        <p:spPr>
          <a:xfrm>
            <a:off x="4419720" y="2971800"/>
            <a:ext cx="3962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сточники данных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.С. Габриелян, Г.Г. Лысова Химия 11 класс, издательство «Дрофа», Москва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.А. Цветков Органическая химия 10-11 класс, издательство «Московский учебник», 200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.Е. Минченков, А.А. Журин Химия 9 класс, издательство «Московский учебник»,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. Кременчук, С. Васильева Химия Справочник школьника, издательство Филологическое общество «Слово» 19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Г. Хомченко Общая химия, издательство «Химия», 19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Интернет источ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знакомиться с понятиями: химическая связь, типы химических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едставить способы образования и разрыва ковалентной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едставить свойства ковалентной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едставить примеры веществ с разными типами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учить работе с программн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Power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убление материала по заданной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4"/>
          <p:cNvSpPr/>
          <p:nvPr/>
        </p:nvSpPr>
        <p:spPr>
          <a:xfrm>
            <a:off x="1371600" y="1600200"/>
            <a:ext cx="60199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Garamond"/>
              </a:rPr>
              <a:t>Химическая связ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Что такое химическая связь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f73f"/>
                </a:solidFill>
                <a:latin typeface="Arial"/>
              </a:rPr>
              <a:t>Химическая связ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заимодействие атомов, которое связывает их в молекулы, ионы, радикалы, кристал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химической связ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3" name="Text Box 4"/>
          <p:cNvSpPr/>
          <p:nvPr/>
        </p:nvSpPr>
        <p:spPr>
          <a:xfrm>
            <a:off x="0" y="1828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Garamond"/>
              </a:rPr>
              <a:t>Ион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Text Box 5"/>
          <p:cNvSpPr/>
          <p:nvPr/>
        </p:nvSpPr>
        <p:spPr>
          <a:xfrm>
            <a:off x="1143000" y="2362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Garamond"/>
              </a:rPr>
              <a:t>Ковалент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5" name="Text Box 6"/>
          <p:cNvSpPr/>
          <p:nvPr/>
        </p:nvSpPr>
        <p:spPr>
          <a:xfrm>
            <a:off x="594360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Garamond"/>
              </a:rPr>
              <a:t>Металличе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6" name="Text Box 7"/>
          <p:cNvSpPr/>
          <p:nvPr/>
        </p:nvSpPr>
        <p:spPr>
          <a:xfrm>
            <a:off x="36576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Garamond"/>
              </a:rPr>
              <a:t>Водород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7" name="Line 14"/>
          <p:cNvSpPr/>
          <p:nvPr/>
        </p:nvSpPr>
        <p:spPr>
          <a:xfrm flipH="1">
            <a:off x="914400" y="1143000"/>
            <a:ext cx="3200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8" name="Line 15"/>
          <p:cNvSpPr/>
          <p:nvPr/>
        </p:nvSpPr>
        <p:spPr>
          <a:xfrm flipH="1">
            <a:off x="2666880" y="1143000"/>
            <a:ext cx="14479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Line 16"/>
          <p:cNvSpPr/>
          <p:nvPr/>
        </p:nvSpPr>
        <p:spPr>
          <a:xfrm>
            <a:off x="4114800" y="1143000"/>
            <a:ext cx="8380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0" name="Line 17"/>
          <p:cNvSpPr/>
          <p:nvPr/>
        </p:nvSpPr>
        <p:spPr>
          <a:xfrm>
            <a:off x="4114800" y="1143000"/>
            <a:ext cx="335268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1" name="Picture 19" descr="chemical_bonds_rus1_720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5"/>
          <p:cNvSpPr/>
          <p:nvPr/>
        </p:nvSpPr>
        <p:spPr>
          <a:xfrm>
            <a:off x="685800" y="685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онная химическая связь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это связь, образовавшаяся за счет электростатического притяжения катионов к анион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3" name="Picture 6" descr="8[1]"/>
          <p:cNvPicPr/>
          <p:nvPr/>
        </p:nvPicPr>
        <p:blipFill>
          <a:blip r:embed="rId1"/>
          <a:stretch/>
        </p:blipFill>
        <p:spPr>
          <a:xfrm>
            <a:off x="4267080" y="4191120"/>
            <a:ext cx="2032200" cy="1193760"/>
          </a:xfrm>
          <a:prstGeom prst="rect">
            <a:avLst/>
          </a:prstGeom>
          <a:ln w="0">
            <a:noFill/>
          </a:ln>
        </p:spPr>
      </p:pic>
      <p:sp>
        <p:nvSpPr>
          <p:cNvPr id="1144" name="Text Box 7"/>
          <p:cNvSpPr/>
          <p:nvPr/>
        </p:nvSpPr>
        <p:spPr>
          <a:xfrm>
            <a:off x="3429000" y="16765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Катион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– положительно заряженные ио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4648320" y="32767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6" name="Text Box 9"/>
          <p:cNvSpPr/>
          <p:nvPr/>
        </p:nvSpPr>
        <p:spPr>
          <a:xfrm>
            <a:off x="3581280" y="31240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Анионы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7" name="Picture 12" descr="gl381"/>
          <p:cNvPicPr/>
          <p:nvPr/>
        </p:nvPicPr>
        <p:blipFill>
          <a:blip r:embed="rId2"/>
          <a:stretch/>
        </p:blipFill>
        <p:spPr>
          <a:xfrm>
            <a:off x="5943600" y="1981080"/>
            <a:ext cx="2666880" cy="16671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13"/>
          <p:cNvSpPr/>
          <p:nvPr/>
        </p:nvSpPr>
        <p:spPr>
          <a:xfrm>
            <a:off x="6629400" y="4495680"/>
            <a:ext cx="251460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cf73f"/>
                </a:solidFill>
                <a:latin typeface="Garamond"/>
              </a:rPr>
              <a:t>Ион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это заряженная частица, которая получается из атома, получившего или потерявшего электро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9" name="Picture 14" descr="docu0005 Формула 2"/>
          <p:cNvPicPr/>
          <p:nvPr/>
        </p:nvPicPr>
        <p:blipFill>
          <a:blip r:embed="rId3"/>
          <a:stretch/>
        </p:blipFill>
        <p:spPr>
          <a:xfrm>
            <a:off x="152280" y="2438280"/>
            <a:ext cx="3048120" cy="74448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5" descr="docu0005 Формула 11"/>
          <p:cNvPicPr/>
          <p:nvPr/>
        </p:nvPicPr>
        <p:blipFill>
          <a:blip r:embed="rId4"/>
          <a:stretch/>
        </p:blipFill>
        <p:spPr>
          <a:xfrm>
            <a:off x="152280" y="3733920"/>
            <a:ext cx="3048120" cy="8301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7" descr="File0003"/>
          <p:cNvPicPr/>
          <p:nvPr/>
        </p:nvPicPr>
        <p:blipFill>
          <a:blip r:embed="rId5"/>
          <a:stretch/>
        </p:blipFill>
        <p:spPr>
          <a:xfrm>
            <a:off x="838080" y="4846680"/>
            <a:ext cx="1981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 каких веществах представлен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дроксиды типичных металлов и многие соли, кислородосодержащие кисл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ли аммония, где нет атомов металл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солях, образованных органическими основаниями – амин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4" name="Picture 4" descr="File0002"/>
          <p:cNvPicPr/>
          <p:nvPr/>
        </p:nvPicPr>
        <p:blipFill>
          <a:blip r:embed="rId1"/>
          <a:stretch/>
        </p:blipFill>
        <p:spPr>
          <a:xfrm>
            <a:off x="1752480" y="5029200"/>
            <a:ext cx="43214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4"/>
          <p:cNvSpPr/>
          <p:nvPr/>
        </p:nvSpPr>
        <p:spPr>
          <a:xfrm>
            <a:off x="685800" y="304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Garamond"/>
              </a:rPr>
              <a:t>Ковалентная химическая связь</a:t>
            </a:r>
            <a:r>
              <a:rPr b="0" lang="ru-RU" sz="2400" spc="-1" strike="noStrike">
                <a:solidFill>
                  <a:srgbClr val="7cf73f"/>
                </a:solidFill>
                <a:latin typeface="Garamond"/>
              </a:rPr>
              <a:t> – это связь, возникающая между атомами за счет образования общих электронных п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14600" y="2362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Text Box 6"/>
          <p:cNvSpPr/>
          <p:nvPr/>
        </p:nvSpPr>
        <p:spPr>
          <a:xfrm>
            <a:off x="2590920" y="11430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еханизмы образов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60948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менный механиз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Text Box 9"/>
          <p:cNvSpPr/>
          <p:nvPr/>
        </p:nvSpPr>
        <p:spPr>
          <a:xfrm>
            <a:off x="4800600" y="3352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Text Box 10"/>
          <p:cNvSpPr/>
          <p:nvPr/>
        </p:nvSpPr>
        <p:spPr>
          <a:xfrm>
            <a:off x="62485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норно-акцепторный механиз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Line 11"/>
          <p:cNvSpPr/>
          <p:nvPr/>
        </p:nvSpPr>
        <p:spPr>
          <a:xfrm flipH="1">
            <a:off x="1523520" y="1523880"/>
            <a:ext cx="1600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2" name="Line 12"/>
          <p:cNvSpPr/>
          <p:nvPr/>
        </p:nvSpPr>
        <p:spPr>
          <a:xfrm>
            <a:off x="5562720" y="137160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Text Box 22"/>
          <p:cNvSpPr/>
          <p:nvPr/>
        </p:nvSpPr>
        <p:spPr>
          <a:xfrm>
            <a:off x="1271520" y="2868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Text Box 51"/>
          <p:cNvSpPr/>
          <p:nvPr/>
        </p:nvSpPr>
        <p:spPr>
          <a:xfrm>
            <a:off x="1965240" y="408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Text Box 52"/>
          <p:cNvSpPr/>
          <p:nvPr/>
        </p:nvSpPr>
        <p:spPr>
          <a:xfrm>
            <a:off x="-479880" y="312408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ет, когда атом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разуют общие электронн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ры за счет объеди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спаренных электрон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Text Box 53"/>
          <p:cNvSpPr/>
          <p:nvPr/>
        </p:nvSpPr>
        <p:spPr>
          <a:xfrm>
            <a:off x="5938920" y="3124080"/>
            <a:ext cx="34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нор имеет электронну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ру, акцептор – свободну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рбиталь, которую эта па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жет заня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Line 54"/>
          <p:cNvSpPr/>
          <p:nvPr/>
        </p:nvSpPr>
        <p:spPr>
          <a:xfrm flipH="1">
            <a:off x="1143000" y="2438280"/>
            <a:ext cx="380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Line 55"/>
          <p:cNvSpPr/>
          <p:nvPr/>
        </p:nvSpPr>
        <p:spPr>
          <a:xfrm>
            <a:off x="7391520" y="26668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9" name="Picture 59" descr="clip_image001_0056"/>
          <p:cNvPicPr/>
          <p:nvPr/>
        </p:nvPicPr>
        <p:blipFill>
          <a:blip r:embed="rId1"/>
          <a:stretch/>
        </p:blipFill>
        <p:spPr>
          <a:xfrm>
            <a:off x="1523880" y="4267080"/>
            <a:ext cx="5324760" cy="2590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60" descr="4 молеки 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438280" y="1752480"/>
            <a:ext cx="3810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лассификация ковалентных связ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 способу перекрывания электронных орбиталей различаю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- и 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ת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-ковалентные свя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2. По числу общих электронных пар, связывающих атомы, то есть по кратности.   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1)Одинарные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2)Двойные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3)Трой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По степени смещения общих электронных пар к одному из связанных ими атомов ковалентная      связь может быть неполярной и поляр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6600"/>
                </a:solidFill>
                <a:latin typeface="Agency FB"/>
                <a:ea typeface="Tahoma"/>
              </a:rPr>
              <a:t>Неполярная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 – ковалентная химическая связь, образующаяся между атомами с одинаковой электроотрицатель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6600"/>
                </a:solidFill>
                <a:latin typeface="Agency FB"/>
                <a:ea typeface="Tahoma"/>
              </a:rPr>
              <a:t>	</a:t>
            </a:r>
            <a:r>
              <a:rPr b="0" lang="ru-RU" sz="2400" spc="-1" strike="noStrike">
                <a:solidFill>
                  <a:srgbClr val="ff6600"/>
                </a:solidFill>
                <a:latin typeface="Agency FB"/>
                <a:ea typeface="Tahoma"/>
              </a:rPr>
              <a:t>Полярная</a:t>
            </a:r>
            <a:r>
              <a:rPr b="0" lang="ru-RU" sz="2400" spc="-1" strike="noStrike">
                <a:solidFill>
                  <a:srgbClr val="ffffff"/>
                </a:solidFill>
                <a:latin typeface="Agency FB"/>
                <a:ea typeface="Tahoma"/>
              </a:rPr>
              <a:t> – ковалентная химическая связь между атомами элементов, электроотрицательности которых различаю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3" name="Picture 5" descr="image3"/>
          <p:cNvPicPr/>
          <p:nvPr/>
        </p:nvPicPr>
        <p:blipFill>
          <a:blip r:embed="rId1"/>
          <a:stretch/>
        </p:blipFill>
        <p:spPr>
          <a:xfrm>
            <a:off x="2514600" y="5477040"/>
            <a:ext cx="38671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елец</dc:creator>
  <dc:description/>
  <dc:language>en-US</dc:language>
  <cp:lastModifiedBy>Владелец</cp:lastModifiedBy>
  <dcterms:modified xsi:type="dcterms:W3CDTF">2015-01-09T16:06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