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1.gif" ContentType="image/gif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6.gif" ContentType="image/gif"/>
  <Override PartName="/ppt/media/image4.png" ContentType="image/png"/>
  <Override PartName="/ppt/media/image24.gif" ContentType="image/gif"/>
  <Override PartName="/ppt/media/image19.jpeg" ContentType="image/jpeg"/>
  <Override PartName="/ppt/media/image5.png" ContentType="image/png"/>
  <Override PartName="/ppt/media/image10.png" ContentType="image/png"/>
  <Override PartName="/ppt/media/image20.gif" ContentType="image/gif"/>
  <Override PartName="/ppt/media/image18.gif" ContentType="image/gif"/>
  <Override PartName="/ppt/media/image21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2.png" ContentType="image/png"/>
  <Override PartName="/ppt/media/image25.png" ContentType="image/png"/>
  <Override PartName="/ppt/media/image22.gif" ContentType="image/gif"/>
  <Override PartName="/ppt/media/image3.png" ContentType="image/png"/>
  <Override PartName="/ppt/media/image17.jpeg" ContentType="image/jpe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E384-0CA5-46C4-9B12-CAED30F5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C250-ADA1-4FA5-A51A-470BAF31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D64-0FF5-416D-B35B-5EA22927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035-2F2A-4E43-92DB-1A6678E3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DFC-C4DF-4F9B-8C54-1020F013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2B18-2B92-461F-B59D-FA8BD45A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B7D7-CAE9-48FB-B747-7CFBDCC6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E71-ABEA-4C55-927A-3E3FD194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B06-64E3-4990-9679-1B7248B3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6B2-FFA9-4D05-90C9-EC91D518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B39-DE0E-42FC-8CA7-F73AF34B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013-CFC3-4D4B-A620-077AE1CE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9D4D-B190-4323-81F5-2CB2EC66EF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png"/><Relationship Id="rId4" Type="http://schemas.openxmlformats.org/officeDocument/2006/relationships/image" Target="../media/image26.gi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3"/>
          <a:stretch/>
        </p:blipFill>
        <p:spPr>
          <a:xfrm>
            <a:off x="-79200" y="324000"/>
            <a:ext cx="9345600" cy="17240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4"/>
          <a:stretch/>
        </p:blipFill>
        <p:spPr>
          <a:xfrm>
            <a:off x="590400" y="1560600"/>
            <a:ext cx="8229600" cy="76176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8" descr=""/>
          <p:cNvPicPr/>
          <p:nvPr/>
        </p:nvPicPr>
        <p:blipFill>
          <a:blip r:embed="rId5"/>
          <a:stretch/>
        </p:blipFill>
        <p:spPr>
          <a:xfrm>
            <a:off x="549360" y="4748040"/>
            <a:ext cx="8802720" cy="5860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5" descr=""/>
          <p:cNvPicPr/>
          <p:nvPr/>
        </p:nvPicPr>
        <p:blipFill>
          <a:blip r:embed="rId6"/>
          <a:stretch/>
        </p:blipFill>
        <p:spPr>
          <a:xfrm>
            <a:off x="3925800" y="5297400"/>
            <a:ext cx="5645160" cy="17859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2" descr=""/>
          <p:cNvPicPr/>
          <p:nvPr/>
        </p:nvPicPr>
        <p:blipFill>
          <a:blip r:embed="rId7"/>
          <a:stretch/>
        </p:blipFill>
        <p:spPr>
          <a:xfrm>
            <a:off x="3206880" y="6388200"/>
            <a:ext cx="1650960" cy="530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Users\gena\Desktop\0_8e59e_f9bb3672_XL.png"/>
          <p:cNvPicPr/>
          <p:nvPr/>
        </p:nvPicPr>
        <p:blipFill>
          <a:blip r:embed="rId8"/>
          <a:stretch/>
        </p:blipFill>
        <p:spPr>
          <a:xfrm>
            <a:off x="2852640" y="2685960"/>
            <a:ext cx="2316240" cy="2438640"/>
          </a:xfrm>
          <a:prstGeom prst="rect">
            <a:avLst/>
          </a:prstGeom>
          <a:ln w="0">
            <a:noFill/>
          </a:ln>
        </p:spPr>
      </p:pic>
      <p:pic>
        <p:nvPicPr>
          <p:cNvPr id="49" name="~PP1345.WAV" descr=""/>
          <p:cNvPicPr/>
          <p:nvPr/>
        </p:nvPicPr>
        <p:blipFill>
          <a:blip r:embed="rId9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4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949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2">
                                  <p:stCondLst>
                                    <p:cond delay="5000"/>
                                  </p:stCondLst>
                                  <p:childTnLst>
                                    <p:animRot by="120000">
                                      <p:cBhvr>
                                        <p:cTn id="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2">
                                  <p:stCondLst>
                                    <p:cond delay="6800"/>
                                  </p:stCondLst>
                                  <p:childTnLst>
                                    <p:animRot by="120000">
                                      <p:cBhvr>
                                        <p:cTn id="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2">
                                  <p:stCondLst>
                                    <p:cond delay="8600"/>
                                  </p:stCondLst>
                                  <p:childTnLst>
                                    <p:animRot by="120000">
                                      <p:cBhvr>
                                        <p:cTn id="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2">
                                  <p:stCondLst>
                                    <p:cond delay="10600"/>
                                  </p:stCondLst>
                                  <p:childTnLst>
                                    <p:animRot by="120000">
                                      <p:cBhvr>
                                        <p:cTn id="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4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1">
                                  <p:stCondLst>
                                    <p:cond delay="17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12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2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2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1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9"/>
          <p:cNvSpPr/>
          <p:nvPr/>
        </p:nvSpPr>
        <p:spPr>
          <a:xfrm>
            <a:off x="0" y="1197000"/>
            <a:ext cx="9325080" cy="3598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500" spc="-1" strike="noStrike">
                <a:solidFill>
                  <a:srgbClr val="000000"/>
                </a:solidFill>
                <a:latin typeface="Georgia"/>
              </a:rPr>
              <a:t>Спасибо за внимание!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5000"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2">
                                  <p:stCondLst>
                                    <p:cond delay="1600"/>
                                  </p:stCondLst>
                                  <p:childTnLst>
                                    <p:animRot by="120000">
                                      <p:cBhvr>
                                        <p:cTn id="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26">
                                  <p:stCondLst>
                                    <p:cond delay="2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Образовательные учреждения МБДОУ &quot;Детский сад 2 &quot;Палан&quot; Цивильского района / Портал образования ЧР"/>
          <p:cNvPicPr/>
          <p:nvPr/>
        </p:nvPicPr>
        <p:blipFill>
          <a:blip r:embed="rId1"/>
          <a:stretch/>
        </p:blipFill>
        <p:spPr>
          <a:xfrm>
            <a:off x="324000" y="4005360"/>
            <a:ext cx="2436840" cy="26226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3789720" y="404640"/>
            <a:ext cx="17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утб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gena\Desktop\320771444.gif"/>
          <p:cNvPicPr/>
          <p:nvPr/>
        </p:nvPicPr>
        <p:blipFill>
          <a:blip r:embed="rId2"/>
          <a:stretch/>
        </p:blipFill>
        <p:spPr>
          <a:xfrm>
            <a:off x="-1476360" y="4497480"/>
            <a:ext cx="1038240" cy="9046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547640" y="907920"/>
            <a:ext cx="698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нятия этим видом спорта укрепляют мышцы, увеличивают плотность костной ткани, благодаря чему снижается риск переломов. Улучшается и двигательная координация спортсменов, ведь быстро и правильно обработать мяч и нанести точный и мощный удар не так просто, как каж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gena\Desktop\sporta-1276.gif"/>
          <p:cNvPicPr/>
          <p:nvPr/>
        </p:nvPicPr>
        <p:blipFill>
          <a:blip r:embed="rId3"/>
          <a:stretch/>
        </p:blipFill>
        <p:spPr>
          <a:xfrm>
            <a:off x="7667640" y="189000"/>
            <a:ext cx="1273320" cy="1446120"/>
          </a:xfrm>
          <a:prstGeom prst="rect">
            <a:avLst/>
          </a:prstGeom>
          <a:ln w="0">
            <a:noFill/>
          </a:ln>
        </p:spPr>
      </p:pic>
    </p:spTree>
  </p:cSld>
  <p:transition spd="med" advTm="32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445920" y="404640"/>
            <a:ext cx="24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лоспо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826920" y="1557360"/>
            <a:ext cx="775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гулярное катание на велосипеде снижает риск инфаркта миокарда. Физические нагрузки снижают уровень «плохого» холестерина (липопротеидов низкой плотности), избыток которого в организме вызывает склероз кровеносных сосудов, и, наоборот, повышают уровень «хорошего» холестерина (липопротеидов высокой плотност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gena\Desktop\323015975.gif"/>
          <p:cNvPicPr/>
          <p:nvPr/>
        </p:nvPicPr>
        <p:blipFill>
          <a:blip r:embed="rId1"/>
          <a:stretch/>
        </p:blipFill>
        <p:spPr>
          <a:xfrm flipH="1">
            <a:off x="-1295280" y="5584680"/>
            <a:ext cx="1295280" cy="1273320"/>
          </a:xfrm>
          <a:prstGeom prst="rect">
            <a:avLst/>
          </a:prstGeom>
          <a:ln w="0">
            <a:noFill/>
          </a:ln>
        </p:spPr>
      </p:pic>
    </p:spTree>
  </p:cSld>
  <p:transition spd="med" advTm="38000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4" presetSubtype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29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21400"/>
                                  </p:stCondLst>
                                  <p:childTnLst>
                                    <p:animMotion origin="layout" path="M -3.88889E-006 5.78035E-008 L 1.2349 0.00023 E">
                                      <p:cBhvr>
                                        <p:cTn id="83" dur="49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9"/>
          <p:cNvSpPr/>
          <p:nvPr/>
        </p:nvSpPr>
        <p:spPr>
          <a:xfrm>
            <a:off x="2616840" y="40464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гурное ка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250920" y="1557360"/>
            <a:ext cx="819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а для организма от систематического катания на коньках заключается в следующ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двигательной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лучшение обмена веще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сопротивляемости инфекционным            заболевани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гармоничной фиг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вестибулярного аппар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лучшение функционирования сердечно–сосудистой и дыхательной сист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репление нерв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gena\Desktop\ice9.gif"/>
          <p:cNvPicPr/>
          <p:nvPr/>
        </p:nvPicPr>
        <p:blipFill>
          <a:blip r:embed="rId1"/>
          <a:stretch/>
        </p:blipFill>
        <p:spPr>
          <a:xfrm>
            <a:off x="9756720" y="562284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gena\Desktop\ice7.gif"/>
          <p:cNvPicPr/>
          <p:nvPr/>
        </p:nvPicPr>
        <p:blipFill>
          <a:blip r:embed="rId2"/>
          <a:stretch/>
        </p:blipFill>
        <p:spPr>
          <a:xfrm>
            <a:off x="7834320" y="1773360"/>
            <a:ext cx="838080" cy="2286000"/>
          </a:xfrm>
          <a:prstGeom prst="rect">
            <a:avLst/>
          </a:prstGeom>
          <a:ln w="0">
            <a:noFill/>
          </a:ln>
        </p:spPr>
      </p:pic>
    </p:spTree>
  </p:cSld>
  <p:transition spd="med" advTm="54000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9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9"/>
          <p:cNvSpPr/>
          <p:nvPr/>
        </p:nvSpPr>
        <p:spPr>
          <a:xfrm>
            <a:off x="3814920" y="404640"/>
            <a:ext cx="170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окк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gena\Desktop\1223968-865a49005573cbde.gif"/>
          <p:cNvPicPr/>
          <p:nvPr/>
        </p:nvPicPr>
        <p:blipFill>
          <a:blip r:embed="rId1"/>
          <a:stretch/>
        </p:blipFill>
        <p:spPr>
          <a:xfrm>
            <a:off x="-3565440" y="5226120"/>
            <a:ext cx="1904760" cy="1638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395280" y="112536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ккей считается достаточно агрессивным видом спорта, однако любительские игры безопасны и даже полезны для организма. Во время тренировок задействована как нижняя, так и верхняя часть тела, благодаря чему отлично прорабатываются мышцы ног, рук, живота и спины. В зависимости от интенсивности игры за час сжигается до 500–600 калорий. Хоккей также благоприятно влияет на вестибулярный и опорно-двигательный аппарат, повышает иммунитет. Этот командный вид спорта тренирует и характер, вырабатывая такие качества, как выносливость, упорство, ловкость и реакция. Чтобы получить максимальную отдачу от игры в хоккей, следует играть 1–2 раза в неделю по часу, делая небольшие перерыв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1000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4.81481E-006 L 1.40937 0.00023 E">
                                      <p:cBhvr>
                                        <p:cTn id="107" dur="51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47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Новости - Дневник.ру"/>
          <p:cNvPicPr/>
          <p:nvPr/>
        </p:nvPicPr>
        <p:blipFill>
          <a:blip r:embed="rId1"/>
          <a:stretch/>
        </p:blipFill>
        <p:spPr>
          <a:xfrm>
            <a:off x="0" y="0"/>
            <a:ext cx="4187880" cy="31417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9"/>
          <p:cNvSpPr/>
          <p:nvPr/>
        </p:nvSpPr>
        <p:spPr>
          <a:xfrm>
            <a:off x="4806360" y="692280"/>
            <a:ext cx="33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ыжный спо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684360" y="2781360"/>
            <a:ext cx="8237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т зимний вид спорта относится к аэробным нагрузкам, подразумевающим движение без остановок в течение длительного периода времени. Во время таких тренировок повышается выносливость, а также происходит общее оздоровление организма: улучшается работа сердечно-сосудистой системы, органов дыхания, опорно-двигательного аппарата, повышается иммунитет. Лыжный спорт помогает укрепить мышцы спины, бедер, живота, ягодиц, ног и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gena\Desktop\848963370.gif"/>
          <p:cNvPicPr/>
          <p:nvPr/>
        </p:nvPicPr>
        <p:blipFill>
          <a:blip r:embed="rId2"/>
          <a:stretch/>
        </p:blipFill>
        <p:spPr>
          <a:xfrm rot="20321400">
            <a:off x="-3276360" y="4890960"/>
            <a:ext cx="2587680" cy="2587680"/>
          </a:xfrm>
          <a:prstGeom prst="rect">
            <a:avLst/>
          </a:prstGeom>
          <a:ln w="0">
            <a:noFill/>
          </a:ln>
        </p:spPr>
      </p:pic>
    </p:spTree>
  </p:cSld>
  <p:transition spd="med" advTm="4600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Бесплатные обои для рабочего стола - обои Бесплатного мультфильма - Детские Игры 1 обои - 1280x1024 - 29"/>
          <p:cNvPicPr/>
          <p:nvPr/>
        </p:nvPicPr>
        <p:blipFill>
          <a:blip r:embed="rId1"/>
          <a:stretch/>
        </p:blipFill>
        <p:spPr>
          <a:xfrm>
            <a:off x="0" y="0"/>
            <a:ext cx="3979800" cy="3500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gena\Desktop\995f02e4397eecc436f1cb998bac7c2b.gif"/>
          <p:cNvPicPr/>
          <p:nvPr/>
        </p:nvPicPr>
        <p:blipFill>
          <a:blip r:embed="rId2"/>
          <a:stretch/>
        </p:blipFill>
        <p:spPr>
          <a:xfrm>
            <a:off x="-1189080" y="3429000"/>
            <a:ext cx="1187640" cy="1393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gena\Desktop\995f02e4397eecc436f1cb998bac7c2b.gif"/>
          <p:cNvPicPr/>
          <p:nvPr/>
        </p:nvPicPr>
        <p:blipFill>
          <a:blip r:embed="rId3"/>
          <a:stretch/>
        </p:blipFill>
        <p:spPr>
          <a:xfrm>
            <a:off x="-1608120" y="3246480"/>
            <a:ext cx="1187280" cy="1393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gena\Desktop\995f02e4397eecc436f1cb998bac7c2b.gif"/>
          <p:cNvPicPr/>
          <p:nvPr/>
        </p:nvPicPr>
        <p:blipFill>
          <a:blip r:embed="rId4"/>
          <a:stretch/>
        </p:blipFill>
        <p:spPr>
          <a:xfrm>
            <a:off x="-1476360" y="3701880"/>
            <a:ext cx="1187280" cy="13939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3"/>
          <p:cNvSpPr/>
          <p:nvPr/>
        </p:nvSpPr>
        <p:spPr>
          <a:xfrm>
            <a:off x="4581360" y="549360"/>
            <a:ext cx="30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ноуборд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Прямоугольник 1" descr=""/>
          <p:cNvPicPr/>
          <p:nvPr/>
        </p:nvPicPr>
        <p:blipFill>
          <a:blip r:embed="rId5"/>
          <a:stretch/>
        </p:blipFill>
        <p:spPr>
          <a:xfrm>
            <a:off x="1006560" y="1335240"/>
            <a:ext cx="8113680" cy="5273640"/>
          </a:xfrm>
          <a:prstGeom prst="rect">
            <a:avLst/>
          </a:prstGeom>
          <a:ln w="0">
            <a:noFill/>
          </a:ln>
        </p:spPr>
      </p:pic>
    </p:spTree>
  </p:cSld>
  <p:transition spd="med" advTm="24000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6"/>
          <p:cNvSpPr/>
          <p:nvPr/>
        </p:nvSpPr>
        <p:spPr>
          <a:xfrm>
            <a:off x="3470400" y="195120"/>
            <a:ext cx="239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аскетб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395280" y="1628640"/>
            <a:ext cx="860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е занятия баскетболом создают благоприятные условия не только для развития физической силы спортсмена. Играя с мячом, человек отлично развивает свою координацию в процессе двигательной активности, а так же становится  более выносливым после длительных тренировок дыхательного аппарата во время резких напряжений, бросков, прыжков, пробежек и перемещений. Движения в баскетболе заставляют организм, во время игры работать слаженно, как часы, поэтому благоприятному влиянию поддаются органы внутренней секреции и пищеварительная систем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gena\Desktop\sport_4.gif"/>
          <p:cNvPicPr/>
          <p:nvPr/>
        </p:nvPicPr>
        <p:blipFill>
          <a:blip r:embed="rId1"/>
          <a:stretch/>
        </p:blipFill>
        <p:spPr>
          <a:xfrm>
            <a:off x="7164360" y="333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3915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6">
                                  <p:stCondLst>
                                    <p:cond delay="2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 rot="21246600">
            <a:off x="2321280" y="419040"/>
            <a:ext cx="6184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спорт приносил ощутимую пользу, занятия должны быть регулярными, но нагрузки не должны быть чрезмерными. Спортсмен должен быть упорным и  дисциплинированным. Питаться следует простой здоровой пищей, богатой углеводами и витаминами. Про сигареты и алкоголь следует забыть навечно.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инство спортсменов-любителей встают в одно и то же время, делают утреннюю гимнастику или отправляются на утреннюю пробежку. А после работы два-три раза в неделю посещают тренажерный зал или бассейн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gena\Desktop\sporta-1368.gif"/>
          <p:cNvPicPr/>
          <p:nvPr/>
        </p:nvPicPr>
        <p:blipFill>
          <a:blip r:embed="rId1"/>
          <a:stretch/>
        </p:blipFill>
        <p:spPr>
          <a:xfrm>
            <a:off x="8366040" y="5373720"/>
            <a:ext cx="495360" cy="1314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gena\Desktop\sporta-1336.gif"/>
          <p:cNvPicPr/>
          <p:nvPr/>
        </p:nvPicPr>
        <p:blipFill>
          <a:blip r:embed="rId2"/>
          <a:stretch/>
        </p:blipFill>
        <p:spPr>
          <a:xfrm flipH="1">
            <a:off x="1258560" y="5791320"/>
            <a:ext cx="888840" cy="1123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gena\Desktop\alkogol_koshka2 (1).jpg"/>
          <p:cNvPicPr/>
          <p:nvPr/>
        </p:nvPicPr>
        <p:blipFill>
          <a:blip r:embed="rId3"/>
          <a:stretch/>
        </p:blipFill>
        <p:spPr>
          <a:xfrm>
            <a:off x="4376880" y="4700520"/>
            <a:ext cx="3359160" cy="2005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Users\gena\Desktop\696227391.gif"/>
          <p:cNvPicPr/>
          <p:nvPr/>
        </p:nvPicPr>
        <p:blipFill>
          <a:blip r:embed="rId4"/>
          <a:stretch/>
        </p:blipFill>
        <p:spPr>
          <a:xfrm rot="21237600">
            <a:off x="7524360" y="5443200"/>
            <a:ext cx="1469880" cy="1254240"/>
          </a:xfrm>
          <a:prstGeom prst="rect">
            <a:avLst/>
          </a:prstGeom>
          <a:ln w="0">
            <a:noFill/>
          </a:ln>
        </p:spPr>
      </p:pic>
      <p:pic>
        <p:nvPicPr>
          <p:cNvPr id="83" name="~PP105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26000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402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8">
                                  <p:stCondLst>
                                    <p:cond delay="29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 presetSubtype="16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3" presetSubtype="32">
                                  <p:stCondLst>
                                    <p:cond delay="3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7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7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7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53" presetSubtype="32">
                                  <p:stCondLst>
                                    <p:cond delay="2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22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2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22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21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1">
                                  <p:stCondLst>
                                    <p:cond delay="204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26">
                                  <p:stCondLst>
                                    <p:cond delay="2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5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53" presetSubtype="32">
                                  <p:stCondLst>
                                    <p:cond delay="2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1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" dur="1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 presetSubtype="16">
                                  <p:stCondLst>
                                    <p:cond delay="347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6T07:33:11Z</dcterms:created>
  <dc:creator>kev</dc:creator>
  <dc:description/>
  <dc:language>en-US</dc:language>
  <cp:lastModifiedBy>kev</cp:lastModifiedBy>
  <dcterms:modified xsi:type="dcterms:W3CDTF">2014-12-26T07:57:59Z</dcterms:modified>
  <cp:revision>6</cp:revision>
  <dc:subject/>
  <dc:title>Слайд 1</dc:title>
</cp:coreProperties>
</file>