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19.jpeg" ContentType="image/jpeg"/>
  <Override PartName="/ppt/media/image5.png" ContentType="image/png"/>
  <Override PartName="/ppt/media/image10.png" ContentType="image/pn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25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154-1E16-4374-B44F-421B4CEE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64D-D3B3-4AD1-A964-7C7F451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F04-3A10-4138-907A-FBEE4CD6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165-ED8B-49A9-A237-4EC39A90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D16-84A0-44CB-8937-FF6FED3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DD5-152D-4DFE-8BA6-12566B2D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1CB-0BEC-475D-A5F9-8510751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BAC-F994-41B7-8C0E-396C982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1E9-BFDF-4F05-A52B-E6030A2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C8A-3A9C-4FB0-8643-EF78C682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3CB-4D05-4130-9F1D-905AFB3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973-E2A5-4558-9645-2A9EF93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4F76-5446-45F8-95BF-C0E6DA743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-79200" y="324000"/>
            <a:ext cx="934560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590400" y="1560600"/>
            <a:ext cx="822960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549360" y="4748040"/>
            <a:ext cx="8802720" cy="586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6"/>
          <a:stretch/>
        </p:blipFill>
        <p:spPr>
          <a:xfrm>
            <a:off x="3925800" y="5297400"/>
            <a:ext cx="564516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7"/>
          <a:stretch/>
        </p:blipFill>
        <p:spPr>
          <a:xfrm>
            <a:off x="3206880" y="6388200"/>
            <a:ext cx="1650960" cy="53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gena\Desktop\0_8e59e_f9bb3672_XL.png"/>
          <p:cNvPicPr/>
          <p:nvPr/>
        </p:nvPicPr>
        <p:blipFill>
          <a:blip r:embed="rId8"/>
          <a:stretch/>
        </p:blipFill>
        <p:spPr>
          <a:xfrm>
            <a:off x="2852640" y="2685960"/>
            <a:ext cx="2316240" cy="2438640"/>
          </a:xfrm>
          <a:prstGeom prst="rect">
            <a:avLst/>
          </a:prstGeom>
          <a:ln w="0">
            <a:noFill/>
          </a:ln>
        </p:spPr>
      </p:pic>
      <p:pic>
        <p:nvPicPr>
          <p:cNvPr id="49" name="~PP1345.WAV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4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2">
                                  <p:stCondLst>
                                    <p:cond delay="8600"/>
                                  </p:stCondLst>
                                  <p:childTnLs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1060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1">
                                  <p:stCondLst>
                                    <p:cond delay="1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1197000"/>
            <a:ext cx="9325080" cy="3598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5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2">
                                  <p:stCondLst>
                                    <p:cond delay="1600"/>
                                  </p:stCondLst>
                                  <p:childTnLs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6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Образовательные учреждения МБДОУ &quot;Детский сад 2 &quot;Палан&quot; Цивильского района / Портал образования ЧР"/>
          <p:cNvPicPr/>
          <p:nvPr/>
        </p:nvPicPr>
        <p:blipFill>
          <a:blip r:embed="rId1"/>
          <a:stretch/>
        </p:blipFill>
        <p:spPr>
          <a:xfrm>
            <a:off x="324000" y="4005360"/>
            <a:ext cx="2436840" cy="2622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3789720" y="404640"/>
            <a:ext cx="17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gena\Desktop\320771444.gif"/>
          <p:cNvPicPr/>
          <p:nvPr/>
        </p:nvPicPr>
        <p:blipFill>
          <a:blip r:embed="rId2"/>
          <a:stretch/>
        </p:blipFill>
        <p:spPr>
          <a:xfrm>
            <a:off x="-1476360" y="4497480"/>
            <a:ext cx="1038240" cy="904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547640" y="90792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я этим видом спорта укрепляют мышцы, увеличивают плотность костной ткани, благодаря чему снижается риск переломов. Улучшается и двигательная координация спортсменов, ведь быстро и правильно обработать мяч и нанести точный и мощный удар не так просто, как ка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gena\Desktop\sporta-1276.gif"/>
          <p:cNvPicPr/>
          <p:nvPr/>
        </p:nvPicPr>
        <p:blipFill>
          <a:blip r:embed="rId3"/>
          <a:stretch/>
        </p:blipFill>
        <p:spPr>
          <a:xfrm>
            <a:off x="7667640" y="189000"/>
            <a:ext cx="1273320" cy="144612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445920" y="40464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6920" y="1557360"/>
            <a:ext cx="775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рное катание на велосипеде снижает риск инфаркта миокарда. Физические нагрузки снижают уровень «плохого» холестерина (липопротеидов низкой плотности), избыток которого в организме вызывает склероз кровеносных сосудов, и, наоборот, повышают уровень «хорошего» холестерина (липопротеидов высокой плот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gena\Desktop\323015975.gif"/>
          <p:cNvPicPr/>
          <p:nvPr/>
        </p:nvPicPr>
        <p:blipFill>
          <a:blip r:embed="rId1"/>
          <a:stretch/>
        </p:blipFill>
        <p:spPr>
          <a:xfrm flipH="1">
            <a:off x="-1295280" y="5584680"/>
            <a:ext cx="1295280" cy="1273320"/>
          </a:xfrm>
          <a:prstGeom prst="rect">
            <a:avLst/>
          </a:prstGeom>
          <a:ln w="0">
            <a:noFill/>
          </a:ln>
        </p:spPr>
      </p:pic>
    </p:spTree>
  </p:cSld>
  <p:transition spd="med" advTm="38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4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29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21400"/>
                                  </p:stCondLst>
                                  <p:childTnLst>
                                    <p:animMotion origin="layout" path="M -3.88889E-006 5.78035E-008 L 1.2349 0.00023 E">
                                      <p:cBhvr>
                                        <p:cTn id="83" dur="49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9"/>
          <p:cNvSpPr/>
          <p:nvPr/>
        </p:nvSpPr>
        <p:spPr>
          <a:xfrm>
            <a:off x="2616840" y="40464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гурное ка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50920" y="1557360"/>
            <a:ext cx="81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а для организма от систематического катания на коньках заключае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двигатель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обмена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сопротивляемости инфекционным            заболеван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гармоничной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вестибуляр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функционирования сердечно–сосудистой и дыхательной сис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нерв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gena\Desktop\ice9.gif"/>
          <p:cNvPicPr/>
          <p:nvPr/>
        </p:nvPicPr>
        <p:blipFill>
          <a:blip r:embed="rId1"/>
          <a:stretch/>
        </p:blipFill>
        <p:spPr>
          <a:xfrm>
            <a:off x="9756720" y="56228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gena\Desktop\ice7.gif"/>
          <p:cNvPicPr/>
          <p:nvPr/>
        </p:nvPicPr>
        <p:blipFill>
          <a:blip r:embed="rId2"/>
          <a:stretch/>
        </p:blipFill>
        <p:spPr>
          <a:xfrm>
            <a:off x="7834320" y="1773360"/>
            <a:ext cx="838080" cy="228600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9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9"/>
          <p:cNvSpPr/>
          <p:nvPr/>
        </p:nvSpPr>
        <p:spPr>
          <a:xfrm>
            <a:off x="3814920" y="404640"/>
            <a:ext cx="17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кк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gena\Desktop\1223968-865a49005573cbde.gif"/>
          <p:cNvPicPr/>
          <p:nvPr/>
        </p:nvPicPr>
        <p:blipFill>
          <a:blip r:embed="rId1"/>
          <a:stretch/>
        </p:blipFill>
        <p:spPr>
          <a:xfrm>
            <a:off x="-3565440" y="5226120"/>
            <a:ext cx="190476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395280" y="112536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ккей считается достаточно агрессивным видом спорта, однако любительские игры безопасны и даже полезны для организма. Во время тренировок задействована как нижняя, так и верхняя часть тела, благодаря чему отлично прорабатываются мышцы ног, рук, живота и спины. В зависимости от интенсивности игры за час сжигается до 500–600 калорий. Хоккей также благоприятно влияет на вестибулярный и опорно-двигательный аппарат, повышает иммунитет. Этот командный вид спорта тренирует и характер, вырабатывая такие качества, как выносливость, упорство, ловкость и реакция. Чтобы получить максимальную отдачу от игры в хоккей, следует играть 1–2 раза в неделю по часу, делая небольшие перерыв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1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4.81481E-006 L 1.40937 0.00023 E">
                                      <p:cBhvr>
                                        <p:cTn id="107" dur="5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47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Новости - Дневник.ру"/>
          <p:cNvPicPr/>
          <p:nvPr/>
        </p:nvPicPr>
        <p:blipFill>
          <a:blip r:embed="rId1"/>
          <a:stretch/>
        </p:blipFill>
        <p:spPr>
          <a:xfrm>
            <a:off x="0" y="0"/>
            <a:ext cx="4187880" cy="31417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4806360" y="692280"/>
            <a:ext cx="33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ыжный 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84360" y="2781360"/>
            <a:ext cx="823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зимний вид спорта относится к аэробным нагрузкам, подразумевающим движение без остановок в течение длительного периода времени. Во время таких тренировок повышается выносливость, а также происходит общее оздоровление организма: улучшается работа сердечно-сосудистой системы, органов дыхания, опорно-двигательного аппарата, повышается иммунитет. Лыжный спорт помогает укрепить мышцы спины, бедер, живота, ягодиц, ног и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gena\Desktop\848963370.gif"/>
          <p:cNvPicPr/>
          <p:nvPr/>
        </p:nvPicPr>
        <p:blipFill>
          <a:blip r:embed="rId2"/>
          <a:stretch/>
        </p:blipFill>
        <p:spPr>
          <a:xfrm rot="20321400">
            <a:off x="-3276360" y="4890960"/>
            <a:ext cx="2587680" cy="258768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Бесплатные обои для рабочего стола - обои Бесплатного мультфильма - Детские Игры 1 обои - 1280x1024 - 29"/>
          <p:cNvPicPr/>
          <p:nvPr/>
        </p:nvPicPr>
        <p:blipFill>
          <a:blip r:embed="rId1"/>
          <a:stretch/>
        </p:blipFill>
        <p:spPr>
          <a:xfrm>
            <a:off x="0" y="0"/>
            <a:ext cx="3979800" cy="35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gena\Desktop\995f02e4397eecc436f1cb998bac7c2b.gif"/>
          <p:cNvPicPr/>
          <p:nvPr/>
        </p:nvPicPr>
        <p:blipFill>
          <a:blip r:embed="rId2"/>
          <a:stretch/>
        </p:blipFill>
        <p:spPr>
          <a:xfrm>
            <a:off x="-1189080" y="3429000"/>
            <a:ext cx="1187640" cy="13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gena\Desktop\995f02e4397eecc436f1cb998bac7c2b.gif"/>
          <p:cNvPicPr/>
          <p:nvPr/>
        </p:nvPicPr>
        <p:blipFill>
          <a:blip r:embed="rId3"/>
          <a:stretch/>
        </p:blipFill>
        <p:spPr>
          <a:xfrm>
            <a:off x="-1608120" y="3246480"/>
            <a:ext cx="1187280" cy="139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ena\Desktop\995f02e4397eecc436f1cb998bac7c2b.gif"/>
          <p:cNvPicPr/>
          <p:nvPr/>
        </p:nvPicPr>
        <p:blipFill>
          <a:blip r:embed="rId4"/>
          <a:stretch/>
        </p:blipFill>
        <p:spPr>
          <a:xfrm>
            <a:off x="-1476360" y="3701880"/>
            <a:ext cx="1187280" cy="13939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3"/>
          <p:cNvSpPr/>
          <p:nvPr/>
        </p:nvSpPr>
        <p:spPr>
          <a:xfrm>
            <a:off x="4581360" y="54936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уборд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1" descr=""/>
          <p:cNvPicPr/>
          <p:nvPr/>
        </p:nvPicPr>
        <p:blipFill>
          <a:blip r:embed="rId5"/>
          <a:stretch/>
        </p:blipFill>
        <p:spPr>
          <a:xfrm>
            <a:off x="1006560" y="1335240"/>
            <a:ext cx="8113680" cy="52736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6"/>
          <p:cNvSpPr/>
          <p:nvPr/>
        </p:nvSpPr>
        <p:spPr>
          <a:xfrm>
            <a:off x="3470400" y="19512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ске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95280" y="1628640"/>
            <a:ext cx="86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занятия баскетболом создают благоприятные условия не только для развития физической силы спортсмена. Играя с мячом, человек отлично развивает свою координацию в процессе двигательной активности, а так же становится  более выносливым после длительных тренировок дыхательного аппарата во время резких напряжений, бросков, прыжков, пробежек и перемещений. Движения в баскетболе заставляют организм, во время игры работать слаженно, как часы, поэтому благоприятному влиянию поддаются органы внутренней секреции и пищеварительная систе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gena\Desktop\sport_4.gif"/>
          <p:cNvPicPr/>
          <p:nvPr/>
        </p:nvPicPr>
        <p:blipFill>
          <a:blip r:embed="rId1"/>
          <a:stretch/>
        </p:blipFill>
        <p:spPr>
          <a:xfrm>
            <a:off x="7164360" y="33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915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 rot="21246600">
            <a:off x="2321280" y="419040"/>
            <a:ext cx="618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спорт приносил ощутимую пользу, занятия должны быть регулярными, но нагрузки не должны быть чрезмерными. Спортсмен должен быть упорным и  дисциплинированным. Питаться следует простой здоровой пищей, богатой углеводами и витаминами. Про сигареты и алкоголь следует забыть навечно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спортсменов-любителей встают в одно и то же время, делают утреннюю гимнастику или отправляются на утреннюю пробежку. А после работы два-три раза в неделю посещают тренажерный зал или бассейн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gena\Desktop\sporta-1368.gif"/>
          <p:cNvPicPr/>
          <p:nvPr/>
        </p:nvPicPr>
        <p:blipFill>
          <a:blip r:embed="rId1"/>
          <a:stretch/>
        </p:blipFill>
        <p:spPr>
          <a:xfrm>
            <a:off x="8366040" y="5373720"/>
            <a:ext cx="495360" cy="131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gena\Desktop\sporta-1336.gif"/>
          <p:cNvPicPr/>
          <p:nvPr/>
        </p:nvPicPr>
        <p:blipFill>
          <a:blip r:embed="rId2"/>
          <a:stretch/>
        </p:blipFill>
        <p:spPr>
          <a:xfrm flipH="1">
            <a:off x="1258560" y="5791320"/>
            <a:ext cx="888840" cy="11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ena\Desktop\alkogol_koshka2 (1).jpg"/>
          <p:cNvPicPr/>
          <p:nvPr/>
        </p:nvPicPr>
        <p:blipFill>
          <a:blip r:embed="rId3"/>
          <a:stretch/>
        </p:blipFill>
        <p:spPr>
          <a:xfrm>
            <a:off x="4376880" y="4700520"/>
            <a:ext cx="3359160" cy="200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gena\Desktop\696227391.gif"/>
          <p:cNvPicPr/>
          <p:nvPr/>
        </p:nvPicPr>
        <p:blipFill>
          <a:blip r:embed="rId4"/>
          <a:stretch/>
        </p:blipFill>
        <p:spPr>
          <a:xfrm rot="21237600">
            <a:off x="7524360" y="5443200"/>
            <a:ext cx="1469880" cy="1254240"/>
          </a:xfrm>
          <a:prstGeom prst="rect">
            <a:avLst/>
          </a:prstGeom>
          <a:ln w="0">
            <a:noFill/>
          </a:ln>
        </p:spPr>
      </p:pic>
      <p:pic>
        <p:nvPicPr>
          <p:cNvPr id="83" name="~PP105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40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29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 presetSubtype="32">
                                  <p:stCondLst>
                                    <p:cond delay="3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7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 presetSubtype="32">
                                  <p:stCondLst>
                                    <p:cond delay="2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2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>
                                  <p:stCondLst>
                                    <p:cond delay="2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5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3" presetSubtype="32">
                                  <p:stCondLst>
                                    <p:cond delay="2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347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07:33:11Z</dcterms:created>
  <dc:creator>kev</dc:creator>
  <dc:description/>
  <dc:language>en-US</dc:language>
  <cp:lastModifiedBy>kev</cp:lastModifiedBy>
  <dcterms:modified xsi:type="dcterms:W3CDTF">2014-12-26T07:57:59Z</dcterms:modified>
  <cp:revision>6</cp:revision>
  <dc:subject/>
  <dc:title>Слайд 1</dc:title>
</cp:coreProperties>
</file>