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9C7-8A1C-4598-89B2-E5130ADD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50D-F20B-4A20-88E1-DCEEA0DA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A3C-D68C-4235-A774-717A0F2B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D18-FC4F-4A4A-B795-FF254AEA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7E65-8500-43E2-984B-4834867E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06AC-0FA8-4435-ABC3-055F6439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9921-5BCD-417B-9DCA-55C0D786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3451-B618-4E6F-B886-083FB108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8BFA-70D9-411F-8A0B-C22AAFC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DEAB-88B4-4B8D-BBC4-4F714305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A8DB-CF07-4AD1-8B2C-4443FE5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35F-7AD0-4994-BA72-689FF54C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AC51-DC5A-4DBE-A199-D3DB2AE8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B21D-3C95-4903-8941-00AB5A59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39D1-622B-44E7-9EA8-4B66467E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EE28-8556-4434-8A17-5F4F864C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2B47-C18F-4ECF-92A2-A07294F5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99D-FC11-4A0B-BB60-F658F6EC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EEA-7CA4-4771-90D4-0DBB3105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881-679B-49E6-A872-EC83DACE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571-178F-446C-A1DB-71C77824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DFF-E2FF-4E59-9D44-D26D4011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34D-8DF3-468F-A3BA-71395EFC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F47-1DF1-4F34-9932-8214A7BE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92F3-FCC7-41F9-9938-543130CB56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F9F0-7956-4E1A-AA78-9F9B7A8CCC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700" spc="-1" strike="noStrike">
                <a:solidFill>
                  <a:srgbClr val="ccecff"/>
                </a:solidFill>
                <a:latin typeface="Arial"/>
              </a:rPr>
              <a:t>В ЦАРСТВЕ МАТЕМАТИКИ</a:t>
            </a:r>
            <a:br>
              <a:rPr sz="7700"/>
            </a:br>
            <a:br>
              <a:rPr sz="7700"/>
            </a:br>
            <a:r>
              <a:rPr b="1" lang="en-US" sz="77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77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77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77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6 В КЛАСС</a:t>
            </a:r>
            <a:br>
              <a:rPr sz="1400"/>
            </a:b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УЧИТЕЛЬ ИСАЕВА О.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5417"/>
          <a:stretch/>
        </p:blipFill>
        <p:spPr>
          <a:xfrm>
            <a:off x="826920" y="3429000"/>
            <a:ext cx="3168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335772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600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КОНКУРС </a:t>
            </a:r>
            <a:br>
              <a:rPr sz="5400"/>
            </a:b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«А ЧТО ЭТО ТАКОЕ?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949400" cy="2376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510160" y="4149720"/>
            <a:ext cx="22431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3068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УДИВИТЕЛЬНЫЕ СВОЙСТВА </a:t>
            </a:r>
            <a:br>
              <a:rPr sz="5400"/>
            </a:b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ЛИСТА МЁБИУС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516720" y="4941720"/>
            <a:ext cx="2158920" cy="1779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90520" y="189000"/>
            <a:ext cx="1673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280" y="3213000"/>
            <a:ext cx="78692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НАГРАЖДЕНИЕ</a:t>
            </a:r>
            <a:br>
              <a:rPr sz="5400"/>
            </a:b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КОМАНДЫ – ПОБЕДИТЕЛЬНИЦЫ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160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012000" y="4005360"/>
            <a:ext cx="21492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 rot="20163000">
            <a:off x="394920" y="620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834920" y="765000"/>
            <a:ext cx="68626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  Треугольник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мволизирует лидерство. Самой характерной особенностью человека, выбравшего этот символ, является способность концентрироваться на главной цели. Это сильная, энергичная, неудержимая личность. «Треугольник» ставит ясные цели и старается, по возможности, достичь и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 Квадрат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Основное качество личности, отдавшей предпочтение квадрату, - трудолюбие, усердие, потребность доводить начатое дело до конца, упорство в достижении цели. «Квадрат» предпочитает раз и навсегда заведенный порядок: все должно находиться на своем месте и происходить в свое врем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  Круг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самая доброжелательная фигура. Обладатель этого символа счастлив, когда все ладят друг с другом; круг ощущает чужую радость и боль, как свою собственную. Это очень чувствительная и эмоциональная нату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0" t="0" r="0" b="43462"/>
          <a:stretch/>
        </p:blipFill>
        <p:spPr>
          <a:xfrm>
            <a:off x="6877080" y="5429160"/>
            <a:ext cx="190512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ecff"/>
                </a:solidFill>
                <a:latin typeface="Arial"/>
              </a:rPr>
              <a:t>МАТЕМАТИЧЕСКИЙ АЛФАВИТ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4361"/>
          <a:stretch/>
        </p:blipFill>
        <p:spPr>
          <a:xfrm rot="20209200">
            <a:off x="899640" y="476280"/>
            <a:ext cx="190512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659640" y="3573360"/>
            <a:ext cx="2039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84000" y="333360"/>
            <a:ext cx="6131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ecff"/>
                </a:solidFill>
                <a:latin typeface="Arial"/>
              </a:rPr>
              <a:t>ВЕСЁЛЫЕ ЗАДАЧК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68360" y="1916280"/>
            <a:ext cx="58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Мы только с пароход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ы только из похода 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диннадцать неде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остили на вод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 сколько это дне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3573360"/>
            <a:ext cx="64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Пара лошадей пробежала 40 км. Сколько пробежала каждая лошадь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4653000"/>
            <a:ext cx="626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Летела стая гусей: один гусь впереди и два позади; один позади и два впереди; один гусь между двумя и три в ряд. Сколько было всего гусей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619280" cy="1190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659640" y="4552920"/>
            <a:ext cx="172872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179280" y="29242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54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ecff"/>
                </a:solidFill>
                <a:latin typeface="Arial"/>
              </a:rPr>
              <a:t>ВЕСЁЛЫЕ ЗАДАЧК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Слушайте внимательно! Я вошел в автобус и пересчитал пассажиров. Их было 17. Автобус тронулся. Затем остановился. На первой остановке пошло 6 человек, вышло 2. На следующей вошло 10 человек. На следующей вошло 3, вышло 8 человек. На следующей вошло 4, никто не вышел. Затем на остановке один гражданин вошел с целой кучей обновок. Сколько же было остановок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56000" y="3371760"/>
            <a:ext cx="598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Если дождь идет в двенадцать часов ночи, то будет ли ровно через 72 часа солнечная погода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285264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507492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На лесопилке каждую минуту разделочная машина отрезает от бревна кусок длиной в 1 метр. За какое время окажется распилено на подобные части дерево длиной 10 метров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247840" cy="1428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1990800" cy="1428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227640" y="4421160"/>
            <a:ext cx="1623960" cy="2436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6192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84000" y="277920"/>
            <a:ext cx="4824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ecff"/>
                </a:solidFill>
                <a:latin typeface="Arial"/>
              </a:rPr>
              <a:t>ВЕСЁЛЫЕ ЗАДАЧК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5041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«Вот Вам 3 таблетки, - сказал доктор. – Принимайте по одной через каждые два часа». Через сколько времени будет принята последняя таблетк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68360" y="2852640"/>
            <a:ext cx="82296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11640" y="3675240"/>
            <a:ext cx="41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Шел муж с женой, брат с сестрой да шурин с зятем, много ль всех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59280" y="4827960"/>
            <a:ext cx="5724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У одного старика спросили, сколько ему лет. Он ответил, что ему сто лет и несколько месяцев, но дней рождения у него было всего 25. Как это могло быть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2543040" cy="1428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971640" y="4869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rcRect l="36944" t="0" r="0" b="0"/>
          <a:stretch/>
        </p:blipFill>
        <p:spPr>
          <a:xfrm>
            <a:off x="2627280" y="3213000"/>
            <a:ext cx="1387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ecff"/>
                </a:solidFill>
                <a:latin typeface="Arial"/>
              </a:rPr>
              <a:t>ЗАДАЧИ ИЗ КНИГ </a:t>
            </a:r>
            <a:br>
              <a:rPr sz="5400"/>
            </a:b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XVIII</a:t>
            </a:r>
            <a:r>
              <a:rPr b="1" i="1" lang="ru-RU" sz="5400" spc="-1" strike="noStrike">
                <a:solidFill>
                  <a:srgbClr val="ccecff"/>
                </a:solidFill>
                <a:latin typeface="Arial"/>
              </a:rPr>
              <a:t> ВЕ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56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Смекалистый слуг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оялец гостиницы обвинил слугу в краже всех его денег. Смекалистый слуга сказал так: «Это правда, я украл все, что он имел». Тогда слугу спросили о сумме украденных денег, и он ответил: «Если к украденной мною сумме прибавить еще 10 рублей, то получится мое годовое жалованье, а если к сумме его денег прибавить 20 рублей, получится вдвое больше моего жалованья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лько денег было у постояльца и сколько рублей в год получал слуга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ecff"/>
                </a:solidFill>
                <a:latin typeface="Arial"/>
              </a:rPr>
              <a:t>ЗАДАЧИ ИЗ КНИГ </a:t>
            </a:r>
            <a:br>
              <a:rPr sz="5400"/>
            </a:b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XVIII</a:t>
            </a:r>
            <a:r>
              <a:rPr b="1" i="1" lang="ru-RU" sz="5400" spc="-1" strike="noStrike">
                <a:solidFill>
                  <a:srgbClr val="ccecff"/>
                </a:solidFill>
                <a:latin typeface="Arial"/>
              </a:rPr>
              <a:t> ВЕ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92360" y="2060640"/>
            <a:ext cx="52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"Cколько лет сыну?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колько лет твоему сыну?" ­ спросил один человек у своего приятеля. Приятель ответил: "Если к возрасту моего сына при6авить столько же да еще половину, то будет 10 лет". Сколько лет сын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26640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ecff"/>
                </a:solidFill>
                <a:latin typeface="Arial"/>
              </a:rPr>
              <a:t>ЗАДАЧИ ИЗ КНИГ </a:t>
            </a:r>
            <a:br>
              <a:rPr sz="5400"/>
            </a:b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XVIII</a:t>
            </a:r>
            <a:r>
              <a:rPr b="1" i="1" lang="ru-RU" sz="5400" spc="-1" strike="noStrike">
                <a:solidFill>
                  <a:srgbClr val="ccecff"/>
                </a:solidFill>
                <a:latin typeface="Arial"/>
              </a:rPr>
              <a:t> ВЕ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Сколько у кого денег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ое крестьян поделили между собой 7 рублей, причем один получил на 3 рубля больше другого. Сколько денег осталось каждому из них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716360" y="3726000"/>
            <a:ext cx="338472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14:30:53Z</dcterms:created>
  <dc:creator>killer</dc:creator>
  <dc:description/>
  <dc:language>en-US</dc:language>
  <cp:lastModifiedBy>killer</cp:lastModifiedBy>
  <dcterms:modified xsi:type="dcterms:W3CDTF">2014-02-27T06:50:13Z</dcterms:modified>
  <cp:revision>21</cp:revision>
  <dc:subject/>
  <dc:title>В ЦАРСТВЕ МАТЕМАТИКИ      6 В КЛАСС      УЧИТЕЛЬ ИСАЕВА О.А.</dc:title>
</cp:coreProperties>
</file>