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F90-8EAC-41BC-92BB-D506B70A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00B-5F2E-4F6E-87C8-07D61A9B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3A7-186E-46A3-9A4C-DFAF8B22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966-6645-4703-B795-7A4A1845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E64-7C14-4F12-9EAD-13C7F43D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6B2-5208-445C-8D4F-AAE855E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3F2-B92F-43E8-83BC-96C50B5C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59C-21FC-4D64-9A57-F46A57D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CDA-5CFF-4A85-9047-F6B734B5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AE3-9A1B-4ED0-BE67-A5A7714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99B-7B21-423D-BB3E-DB99D46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28B-CC1E-47DE-B248-DEB98E5C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fff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8E69-526F-4C67-A27A-7DA15B663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todryg.ru/clipart/1/4/26.png" TargetMode="External"/><Relationship Id="rId2" Type="http://schemas.openxmlformats.org/officeDocument/2006/relationships/hyperlink" Target="http://www.fotodryg.ru/clipart/3/1/15.pn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32385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 Rounded MT Bold"/>
              </a:rPr>
              <a:t>Тренажёр по математике: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ru-RU" sz="2800" spc="-1" strike="noStrike">
                <a:solidFill>
                  <a:srgbClr val="cc0099"/>
                </a:solidFill>
                <a:latin typeface="Arial Black"/>
              </a:rPr>
              <a:t>«Посчитаем!»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 Rounded MT Bold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2984760" cy="30733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>
            <a:hlinkClick r:id="" action="ppaction://hlinkshowjump?jump=lastslide"/>
          </p:cNvPr>
          <p:cNvSpPr/>
          <p:nvPr/>
        </p:nvSpPr>
        <p:spPr>
          <a:xfrm>
            <a:off x="738036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149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4">
                <a:moveTo>
                  <a:pt x="11905" y="14408"/>
                </a:moveTo>
                <a:lnTo>
                  <a:pt x="11905" y="12450"/>
                </a:lnTo>
                <a:cubicBezTo>
                  <a:pt x="11905" y="11623"/>
                  <a:pt x="12236" y="10927"/>
                  <a:pt x="12837" y="10927"/>
                </a:cubicBezTo>
                <a:cubicBezTo>
                  <a:pt x="13968" y="10927"/>
                  <a:pt x="14865" y="9560"/>
                  <a:pt x="14865" y="7976"/>
                </a:cubicBezTo>
                <a:cubicBezTo>
                  <a:pt x="14865" y="5661"/>
                  <a:pt x="13011" y="3920"/>
                  <a:pt x="10800" y="3920"/>
                </a:cubicBezTo>
                <a:cubicBezTo>
                  <a:pt x="8589" y="3920"/>
                  <a:pt x="6918" y="5661"/>
                  <a:pt x="6918" y="7976"/>
                </a:cubicBezTo>
                <a:lnTo>
                  <a:pt x="8772" y="7976"/>
                </a:lnTo>
                <a:cubicBezTo>
                  <a:pt x="8772" y="6836"/>
                  <a:pt x="9695" y="5948"/>
                  <a:pt x="10800" y="5948"/>
                </a:cubicBezTo>
                <a:cubicBezTo>
                  <a:pt x="11905" y="5948"/>
                  <a:pt x="12837" y="6836"/>
                  <a:pt x="12837" y="7976"/>
                </a:cubicBezTo>
                <a:cubicBezTo>
                  <a:pt x="12837" y="8716"/>
                  <a:pt x="12367" y="9447"/>
                  <a:pt x="11905" y="9447"/>
                </a:cubicBezTo>
                <a:cubicBezTo>
                  <a:pt x="10800" y="9447"/>
                  <a:pt x="9695" y="10927"/>
                  <a:pt x="9695" y="12450"/>
                </a:cubicBezTo>
                <a:lnTo>
                  <a:pt x="9695" y="14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514840" y="0"/>
            <a:ext cx="362916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22431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7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50920" y="4224240"/>
            <a:ext cx="2233440" cy="196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rcRect l="0" t="0" r="7720" b="15356"/>
          <a:stretch/>
        </p:blipFill>
        <p:spPr>
          <a:xfrm>
            <a:off x="3276720" y="4365720"/>
            <a:ext cx="1942920" cy="19429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>
            <a:hlinkClick r:id="" action="ppaction://hlinkshowjump?jump=nex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90000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3924360" y="5013360"/>
            <a:ext cx="863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4"/>
          <a:stretch/>
        </p:blipFill>
        <p:spPr>
          <a:xfrm>
            <a:off x="997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0890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6588000" y="47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2668E-007 L -0.02813 0.42557 E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514840" y="0"/>
            <a:ext cx="362916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22431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50920" y="4224240"/>
            <a:ext cx="2233440" cy="19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rcRect l="0" t="0" r="7720" b="15356"/>
          <a:stretch/>
        </p:blipFill>
        <p:spPr>
          <a:xfrm>
            <a:off x="3276720" y="4005360"/>
            <a:ext cx="215892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>
            <a:hlinkClick r:id="" action="ppaction://hlinkshowjump?jump=nex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90000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3924360" y="4724280"/>
            <a:ext cx="863640" cy="91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4"/>
          <a:stretch/>
        </p:blipFill>
        <p:spPr>
          <a:xfrm>
            <a:off x="997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Oval 17"/>
          <p:cNvSpPr/>
          <p:nvPr/>
        </p:nvSpPr>
        <p:spPr>
          <a:xfrm>
            <a:off x="6659640" y="47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08908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Oval 20"/>
          <p:cNvSpPr/>
          <p:nvPr/>
        </p:nvSpPr>
        <p:spPr>
          <a:xfrm>
            <a:off x="6588000" y="47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2668E-007 L 0.22396 0.47804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514840" y="0"/>
            <a:ext cx="362916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22431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2+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250920" y="4224240"/>
            <a:ext cx="2233440" cy="1963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rcRect l="0" t="0" r="7720" b="15356"/>
          <a:stretch/>
        </p:blipFill>
        <p:spPr>
          <a:xfrm>
            <a:off x="3276720" y="4221000"/>
            <a:ext cx="2087280" cy="19447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90000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3995640" y="4869000"/>
            <a:ext cx="863640" cy="842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997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089080" cy="2133720"/>
          </a:xfrm>
          <a:prstGeom prst="rect">
            <a:avLst/>
          </a:prstGeom>
          <a:ln w="0">
            <a:noFill/>
          </a:ln>
        </p:spPr>
      </p:pic>
      <p:sp>
        <p:nvSpPr>
          <p:cNvPr id="75" name="Oval 13"/>
          <p:cNvSpPr/>
          <p:nvPr/>
        </p:nvSpPr>
        <p:spPr>
          <a:xfrm>
            <a:off x="6588000" y="486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2668E-007 L -0.02813 0.42557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74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514840" y="0"/>
            <a:ext cx="362916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22431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3+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250920" y="4224240"/>
            <a:ext cx="2233440" cy="1963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0" t="0" r="7720" b="15356"/>
          <a:stretch/>
        </p:blipFill>
        <p:spPr>
          <a:xfrm>
            <a:off x="3276720" y="4365720"/>
            <a:ext cx="2087280" cy="18716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>
            <a:hlinkClick r:id="" action="ppaction://hlinkshowjump?jump=nex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 flipV="1" rot="10572600">
            <a:off x="969120" y="4723200"/>
            <a:ext cx="792360" cy="77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9"/>
          <p:cNvSpPr/>
          <p:nvPr/>
        </p:nvSpPr>
        <p:spPr>
          <a:xfrm>
            <a:off x="3924360" y="4941720"/>
            <a:ext cx="9349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997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089080" cy="2133720"/>
          </a:xfrm>
          <a:prstGeom prst="rect">
            <a:avLst/>
          </a:prstGeom>
          <a:ln w="0">
            <a:noFill/>
          </a:ln>
        </p:spPr>
      </p:pic>
      <p:sp>
        <p:nvSpPr>
          <p:cNvPr id="85" name="Oval 15"/>
          <p:cNvSpPr/>
          <p:nvPr/>
        </p:nvSpPr>
        <p:spPr>
          <a:xfrm>
            <a:off x="6588000" y="47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2668E-007 L 0.41284 0.47804 E">
                                      <p:cBhvr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514840" y="0"/>
            <a:ext cx="362916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22431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9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50920" y="4224240"/>
            <a:ext cx="2233440" cy="196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rcRect l="0" t="0" r="3814" b="15348"/>
          <a:stretch/>
        </p:blipFill>
        <p:spPr>
          <a:xfrm>
            <a:off x="3276720" y="4076640"/>
            <a:ext cx="2158920" cy="2089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7">
            <a:hlinkClick r:id="" action="ppaction://hlinkshowjump?jump=nex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90000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3924360" y="4941720"/>
            <a:ext cx="934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997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089080" cy="2133720"/>
          </a:xfrm>
          <a:prstGeom prst="rect">
            <a:avLst/>
          </a:prstGeom>
          <a:ln w="0">
            <a:noFill/>
          </a:ln>
        </p:spPr>
      </p:pic>
      <p:sp>
        <p:nvSpPr>
          <p:cNvPr id="95" name="Oval 14"/>
          <p:cNvSpPr/>
          <p:nvPr/>
        </p:nvSpPr>
        <p:spPr>
          <a:xfrm>
            <a:off x="6588000" y="486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2668E-007 L -0.02813 0.42557 E">
                                      <p:cBhvr>
                                        <p:cTn id="12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474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514840" y="0"/>
            <a:ext cx="36291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22431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8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50920" y="4224240"/>
            <a:ext cx="2233440" cy="196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rcRect l="0" t="0" r="7720" b="15356"/>
          <a:stretch/>
        </p:blipFill>
        <p:spPr>
          <a:xfrm>
            <a:off x="3276720" y="4005360"/>
            <a:ext cx="2158920" cy="1944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90000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3924360" y="4724280"/>
            <a:ext cx="863640" cy="91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997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" name="Oval 10"/>
          <p:cNvSpPr/>
          <p:nvPr/>
        </p:nvSpPr>
        <p:spPr>
          <a:xfrm>
            <a:off x="6659640" y="47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089080" cy="2133720"/>
          </a:xfrm>
          <a:prstGeom prst="rect">
            <a:avLst/>
          </a:prstGeom>
          <a:ln w="0">
            <a:noFill/>
          </a:ln>
        </p:spPr>
      </p:pic>
      <p:sp>
        <p:nvSpPr>
          <p:cNvPr id="106" name="Oval 12"/>
          <p:cNvSpPr/>
          <p:nvPr/>
        </p:nvSpPr>
        <p:spPr>
          <a:xfrm>
            <a:off x="6588000" y="47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2668E-007 L 0.22396 0.47804 E">
                                      <p:cBhvr>
                                        <p:cTn id="14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4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ra - [http://www.fotodryg.ru/clipart/1/4/26.png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pera - [http://www.fotodryg.ru/clipart/3/1/15.png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Opera - [http://artcity.lv/uploads/posts/2009-09/1251916386_1205841639_svetok.jpg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Opera - [http://img155.imageshack.us/img155/5/68339206yv4.png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Opera - [http://cs4737.vkontakte.ru/u98609772/-1/x_de3c01f9.jpg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27:12Z</dcterms:created>
  <dc:creator>Admin</dc:creator>
  <dc:description/>
  <dc:language>en-US</dc:language>
  <cp:lastModifiedBy>света</cp:lastModifiedBy>
  <dcterms:modified xsi:type="dcterms:W3CDTF">2013-10-06T16:59:10Z</dcterms:modified>
  <cp:revision>18</cp:revision>
  <dc:subject/>
  <dc:title>Слайд 1</dc:title>
</cp:coreProperties>
</file>