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D261-ADB2-4D41-A4A9-BFA1061492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D782-81AA-4C85-8830-14F532CDDE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F52D-5580-41FF-852E-9961D20C9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5DB7-C99A-4B65-BD45-A997BF7D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7A46-BE2D-4760-B969-280436A77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B43B-35D9-4C38-8904-5955BF335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C119-CE66-4DC3-A1EF-0A05CE38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3DCF-EA79-4DFC-B5A4-B812C7DA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45BC-3F91-473C-A074-144AD7CB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CF50-BCBE-4FED-B542-ABF7488E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DB95-95D5-4277-8EA6-9AC76E11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979E-482F-43F8-8FD0-6FC8A834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6D83-8869-40A4-9AA8-90616715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37A6-2468-40D9-AD8B-C372E01C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2F8F-440A-40B5-B18E-3959862431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588000" cy="4940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66"/>
                </a:solidFill>
                <a:latin typeface="Georgia"/>
              </a:rPr>
              <a:t>Туристические походы </a:t>
            </a:r>
            <a:br>
              <a:rPr sz="3200"/>
            </a:br>
            <a:r>
              <a:rPr b="1" i="1" lang="ru-RU" sz="3200" spc="-1" strike="noStrike">
                <a:solidFill>
                  <a:srgbClr val="ffff66"/>
                </a:solidFill>
                <a:latin typeface="Georgia"/>
              </a:rPr>
              <a:t>по Калининградской обл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орость передвижения пешей группы зависит от местности, погоды, физической подготовки участников, и составляет в среднем 3,5-5 км/ч. Обычный режим хода- 45-50минут хода и 10-15 минут отдыха. Через 10-15 минут после начала движения целесообразно сделать остановку для исправления неполадок в одежде, снаряжении, вещах и т.д. На малых привалах туристы снимают рюкзаки и располагаются на пнях, поваленных деревьях или сухих возвышенностях почвы. Через два-три перехода следует остановиться на большой обеденный прива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Georgia"/>
              </a:rPr>
              <a:t>Пересечение ре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5056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и рекомендуется пересекать по мостам, камням, или в крайнем случае – вброд. Переправа по камням страхуется веревкой. Переправа вброд требует опыта, физической силы переправляющегося и страхующих. Особенно сложна переправа первого туриста. Идущий  обвязывается веревкой и с шестом переходит реку. Переплав вплавь нужно избегать. Даже самые простые туристические маршруты не лишены опасностей. Всякая опасность уменьшается, если своевременно замечена туристом. Высокая дисциплина в походе – это главная мера безопасности. Подготовленный турист и дисциплинированный коллектив с честью выйдут из любой, даже самой сложной ситуаци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b1d15"/>
                </a:solidFill>
                <a:latin typeface="Georgia"/>
              </a:rPr>
              <a:t>Пересечение боло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ота преодолевают, перешагивая или перепрыгивая с кочки на кочку или пользуясь настилом для опоры ног. Особую опасность представляют заросшие водоемы. Опознать можно по колебанию почвы под ногами. Двигаться по такому району можно в крайних случаях, с длинной тростью или шестом в руках для проверки глубины и плотности болота, а так же для самосохранения, эта трость (шест) может служить опоро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b1d15"/>
                </a:solidFill>
                <a:latin typeface="Georgia"/>
              </a:rPr>
              <a:t>Туризм в Калининградской обла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2"/>
          <p:cNvSpPr/>
          <p:nvPr/>
        </p:nvSpPr>
        <p:spPr>
          <a:xfrm>
            <a:off x="2771640" y="234936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 богатой истории и своему географическому положению, в Калининградской области развиты следующие виды туризм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ный туриз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отуриз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ый туриз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доровительный туриз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ьский туриз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b1d15"/>
                </a:solidFill>
                <a:latin typeface="Georgia"/>
              </a:rPr>
              <a:t>Водный туриз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41300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ласти множество маршрутов для сплавов на байдарках по рекам Анграпа, Писса, Матросов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987640" y="2703600"/>
            <a:ext cx="599616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b1d15"/>
                </a:solidFill>
                <a:latin typeface="Georgia"/>
              </a:rPr>
              <a:t>Велотуриз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50920" y="1413000"/>
            <a:ext cx="864216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количество велосипедных маршрутов разработано в Славском, Правдинском и Озерском район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3587760" y="2708280"/>
            <a:ext cx="54118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b1d15"/>
                </a:solidFill>
                <a:latin typeface="Georgia"/>
              </a:rPr>
              <a:t>Сельский туриз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следнее время активно развивается сельский туризм. В области организовано множество маршрутов. В них включены: Куршская коса, Багратионовск, Полесск, Краснознаменск, Славс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b1d15"/>
                </a:solidFill>
                <a:latin typeface="Georgia"/>
              </a:rPr>
              <a:t>Познавательный туриз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79280" y="907920"/>
            <a:ext cx="87854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ый туризм в Калининградской области представлен такими маршрутами как: «По следам немецкого ордена», «По православным святыням», «Форты и городские ворота Кёнигсберга-Калининграда» и многие друг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4284720" y="3645000"/>
            <a:ext cx="476244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663444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Georgia"/>
              </a:rPr>
              <a:t>Туриз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50560" y="1955880"/>
            <a:ext cx="77058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уризм - это экскурсии, походы и путешествия, в которых активный отдых сочетается с познавательным и образовательным цел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назначениям и формам проведения туризм подразделяют н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новый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деятельный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Georgia"/>
              </a:rPr>
              <a:t>Классификация поход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способу передвижения (пеший, велопоход, конный, парусный, водный, спелео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продолжительности (многодневный или походы выходного дня: одно, двух, трёхдневный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сложности (категорийные походы (1-6 категория), степенные (1-3 степень) и прогулочные "матрасные"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Georgia"/>
              </a:rPr>
              <a:t>Выбор маршрута пох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подготовке к походу одним из главных действий организации является планирование маршрут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ршрут похода должен быть интересным и познавательным, способствовать укреплению здоровья и улучшению физического развития туристов. Для однодневных походов важно, чтобы можно было быстро добраться в намеченный район и также легко вернуться из последнего пункта поход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66"/>
                </a:solidFill>
                <a:latin typeface="Georgia"/>
              </a:rPr>
              <a:t>Подготовка снаря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50560" y="134136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перечень группового снаряжения включаются: продукты питания; палатки; полиэтиленовая плёнка; топор; пила; котелки; фляги; инструмент; гвозди; проволока; мед. аптечка; спортивный инвентарь; фонарь; свечи; свисток,; карта; мешки и пакеты для продуктов; веревка; и другие предметы, необходимые в походе. Для удобства и учёта всё групповое снаряжение закрепляется по списку за определенным участником похода. Документы, деньги и карту упаковывают в полиэтиленовый пакет. Спички и растопку также хранят во влагонепроницаемых упаковка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94920" y="475920"/>
            <a:ext cx="8497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личному снаряжению относят: обувь, одежду, предметы личной гигиены (зубная щетка, мыло и т.д.); головной убор; посуду, лучше металлическую, чтобы не разбилась; рюкзак; плащ или дождевик; одеяло; спички; компас; индивидуальный мед. комплект; прочная тонкая веревка и др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ырые, ветреные или прохладные дни следует надевать или брать с собой шерстяное белье, шапку, теплые носк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юкзак должен быть соответствующего размера, и быть посильным для туриста. Особое значение имеет его правильная укладка. Уложенный рюкзак должен быть плоским и вытянутым по высоте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Georgia"/>
              </a:rPr>
              <a:t>Питание в похо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укты должны включать достаточное количество жиров, белков, углеводов, быть насыщены витаминами и, кроме того, обладать минимальным весом, хорошей транспортабельностью и быстротой приготовления, иметь длительный срок хране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45252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амом начале похода все продукты надо перебрать и уложить в мешочки. Делать это раньше не стоит, так как во время подъезда к началу маршрута рюкзаки часто перемещаются, упаковка портится и все приходится укладывать заново. За небольшим исключением продукты должны быть в упаковке, предохраняющей от воды. Для туриста-пешехода обычно достаточно иметь один большой, но прочный непромокаемый вкладыш в рюкза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b1d15"/>
                </a:solidFill>
                <a:latin typeface="Georgia"/>
              </a:rPr>
              <a:t>Меры безопасности в поход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д началом движения определяется походный порядок. Наиболее удобным считается движение в колонне по одному. Опытных и физически сильных участников похода назначают в голову колонны и замыкающими. В походе должно быть равнение на слабейшег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3T06:33:11Z</dcterms:created>
  <dc:creator>Cluster</dc:creator>
  <dc:description/>
  <dc:language>en-US</dc:language>
  <cp:lastModifiedBy>User</cp:lastModifiedBy>
  <dcterms:modified xsi:type="dcterms:W3CDTF">2015-01-09T18:30:08Z</dcterms:modified>
  <cp:revision>23</cp:revision>
  <dc:subject/>
  <dc:title>Туристические походы</dc:title>
</cp:coreProperties>
</file>