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8BDF6-98D5-4240-BAE0-4E70FF2DE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3938A-0442-4F9C-BFC3-9A3281E44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DB4AF-3CBA-40F6-9663-BC0576005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C3DD5-2F6C-4304-BBAE-1865BE709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77012-561E-414B-B106-49F48CB27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5FA7A-0503-4EE9-8F86-A56572EB2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A2251-9DFD-4212-A954-A134B42A2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502EF-626C-4C1E-8973-EC2ED697D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AFD61-65E6-4650-8DBE-DF51E715D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FDFCC-0112-4A73-8F1F-4ECCFEC01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CADE7-B0D9-4F4C-B07A-2D2D66DA4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13E57-B7D3-4E84-BDCF-6FB31CB57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B0E8A-77E9-4FE7-9D7E-42D8F313E8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585144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2819520" y="990720"/>
            <a:ext cx="7543800" cy="64166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3581280" y="2744280"/>
            <a:ext cx="29718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Жди меня, и я вернусь.</a:t>
            </a:r>
            <a:br>
              <a:rPr sz="1800"/>
            </a:b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Только очень жди,</a:t>
            </a:r>
            <a:br>
              <a:rPr sz="1800"/>
            </a:b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Жди, когда наводят грусть</a:t>
            </a:r>
            <a:br>
              <a:rPr sz="1800"/>
            </a:b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Желтые дожди,</a:t>
            </a:r>
            <a:br>
              <a:rPr sz="1800"/>
            </a:b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Жди, когда снега метут,</a:t>
            </a:r>
            <a:br>
              <a:rPr sz="1800"/>
            </a:b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Жди, когда жара,</a:t>
            </a:r>
            <a:br>
              <a:rPr sz="1800"/>
            </a:b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Жди, когда других не ждут,</a:t>
            </a:r>
            <a:br>
              <a:rPr sz="1800"/>
            </a:b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Позабыв вчера.</a:t>
            </a:r>
            <a:br>
              <a:rPr sz="1800"/>
            </a:b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Жди, когда из дальних мест</a:t>
            </a:r>
            <a:br>
              <a:rPr sz="1800"/>
            </a:b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Писем не придет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-1066680" y="228600"/>
            <a:ext cx="7543800" cy="641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8305920" cy="6008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5257800" y="638640"/>
            <a:ext cx="29718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Жди, когда уж надоест</a:t>
            </a:r>
            <a:br>
              <a:rPr sz="1800"/>
            </a:b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Всем, кто вместе ждет.</a:t>
            </a:r>
            <a:br>
              <a:rPr sz="1800"/>
            </a:b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Жди меня, и я вернусь,</a:t>
            </a:r>
            <a:br>
              <a:rPr sz="1800"/>
            </a:b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Не желай добра</a:t>
            </a:r>
            <a:br>
              <a:rPr sz="1800"/>
            </a:b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Всем, кто знает наизусть,</a:t>
            </a:r>
            <a:br>
              <a:rPr sz="1800"/>
            </a:b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Что забыть пора.</a:t>
            </a:r>
            <a:br>
              <a:rPr sz="1800"/>
            </a:b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Пусть поверят сын и мать</a:t>
            </a:r>
            <a:br>
              <a:rPr sz="1800"/>
            </a:b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В то, что нет меня,</a:t>
            </a:r>
            <a:br>
              <a:rPr sz="1800"/>
            </a:b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Пусть друзья устанут ждать,</a:t>
            </a:r>
            <a:br>
              <a:rPr sz="1800"/>
            </a:b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Сядут у огня,</a:t>
            </a:r>
            <a:br>
              <a:rPr sz="1800"/>
            </a:b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Выпьют горькое вино</a:t>
            </a:r>
            <a:br>
              <a:rPr sz="1800"/>
            </a:b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На помин души...</a:t>
            </a:r>
            <a:br>
              <a:rPr sz="1800"/>
            </a:b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Жди. И с ними заодно</a:t>
            </a:r>
            <a:br>
              <a:rPr sz="1800"/>
            </a:b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Выпить не спеши.</a:t>
            </a:r>
            <a:br>
              <a:rPr sz="1800"/>
            </a:b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Жди меня, и я вернусь,</a:t>
            </a:r>
            <a:br>
              <a:rPr sz="1800"/>
            </a:b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Всем смертям назло.</a:t>
            </a:r>
            <a:br>
              <a:rPr sz="1800"/>
            </a:b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Кто не ждал меня, тот пусть</a:t>
            </a:r>
            <a:br>
              <a:rPr sz="1800"/>
            </a:b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Скажет: - Повезл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8534520" cy="81536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457200" y="2444040"/>
            <a:ext cx="25146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33"/>
                </a:solidFill>
                <a:latin typeface="Arial"/>
              </a:rPr>
              <a:t>Не понять, не ждавшим им,</a:t>
            </a:r>
            <a:br>
              <a:rPr sz="1800"/>
            </a:br>
            <a:r>
              <a:rPr b="0" lang="en-US" sz="1800" spc="-1" strike="noStrike">
                <a:solidFill>
                  <a:srgbClr val="660033"/>
                </a:solidFill>
                <a:latin typeface="Arial"/>
              </a:rPr>
              <a:t>Как среди огня</a:t>
            </a:r>
            <a:br>
              <a:rPr sz="1800"/>
            </a:br>
            <a:r>
              <a:rPr b="0" lang="en-US" sz="1800" spc="-1" strike="noStrike">
                <a:solidFill>
                  <a:srgbClr val="660033"/>
                </a:solidFill>
                <a:latin typeface="Arial"/>
              </a:rPr>
              <a:t>Ожиданием своим</a:t>
            </a:r>
            <a:br>
              <a:rPr sz="1800"/>
            </a:br>
            <a:r>
              <a:rPr b="0" lang="en-US" sz="1800" spc="-1" strike="noStrike">
                <a:solidFill>
                  <a:srgbClr val="660033"/>
                </a:solidFill>
                <a:latin typeface="Arial"/>
              </a:rPr>
              <a:t>Ты спасла меня.</a:t>
            </a:r>
            <a:br>
              <a:rPr sz="1800"/>
            </a:br>
            <a:r>
              <a:rPr b="0" lang="en-US" sz="1800" spc="-1" strike="noStrike">
                <a:solidFill>
                  <a:srgbClr val="660033"/>
                </a:solidFill>
                <a:latin typeface="Arial"/>
              </a:rPr>
              <a:t>Как я выжил, будем знать</a:t>
            </a:r>
            <a:br>
              <a:rPr sz="1800"/>
            </a:br>
            <a:r>
              <a:rPr b="0" lang="en-US" sz="1800" spc="-1" strike="noStrike">
                <a:solidFill>
                  <a:srgbClr val="660033"/>
                </a:solidFill>
                <a:latin typeface="Arial"/>
              </a:rPr>
              <a:t>Только мы с тобой, -</a:t>
            </a:r>
            <a:br>
              <a:rPr sz="1800"/>
            </a:br>
            <a:r>
              <a:rPr b="0" lang="en-US" sz="1800" spc="-1" strike="noStrike">
                <a:solidFill>
                  <a:srgbClr val="660033"/>
                </a:solidFill>
                <a:latin typeface="Arial"/>
              </a:rPr>
              <a:t>Просто ты умела ждать,</a:t>
            </a:r>
            <a:br>
              <a:rPr sz="1800"/>
            </a:br>
            <a:r>
              <a:rPr b="0" lang="en-US" sz="1800" spc="-1" strike="noStrike">
                <a:solidFill>
                  <a:srgbClr val="660033"/>
                </a:solidFill>
                <a:latin typeface="Arial"/>
              </a:rPr>
              <a:t>Как никто друго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8458200" cy="598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990720" y="1676520"/>
            <a:ext cx="685800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анкт-Петербург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искаревское мемориальное  кладбище</a:t>
            </a:r>
            <a:br>
              <a:rPr sz="40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380880" y="1143000"/>
            <a:ext cx="838224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09T13:53:26Z</dcterms:created>
  <dc:creator>user</dc:creator>
  <dc:description/>
  <dc:language>en-US</dc:language>
  <cp:lastModifiedBy>user</cp:lastModifiedBy>
  <dcterms:modified xsi:type="dcterms:W3CDTF">2015-01-09T15:01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