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7A6-F77A-4AB0-B8AB-C1FB7C06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BCF-830F-4EC3-9D8C-56B04EB4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FA4-86DC-44EA-AEB1-E91E4181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B75-D7AE-482C-9809-4FFC4D78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D2C-B0E6-497E-9F49-DC0C7C29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E1A-A4D3-4623-B8E2-E49D2321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90A-EFCB-45C1-A1E6-8DA4EFD9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EED-0D2E-4A1E-8465-B07D0E3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CF2-6E03-4436-B1CF-66F581AA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347-96F1-4766-8692-437CD79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619-DD91-43E1-BD4E-E34D2D03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C2A-FB19-43DD-BEED-91B56AFA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A58B-2D81-45BB-88F3-5806CE6177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tv_deti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900000" y="620640"/>
            <a:ext cx="6913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лия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428840" y="1643040"/>
            <a:ext cx="568800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ультфильм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201600" y="2530440"/>
            <a:ext cx="8472600" cy="1206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2974680" y="4286160"/>
            <a:ext cx="568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тельной группы   «Золотой петуш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ОУ «Детский сад № 19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икова Марина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ли детям смотреть такие мультфиль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c2be446c8d83"/>
          <p:cNvPicPr/>
          <p:nvPr/>
        </p:nvPicPr>
        <p:blipFill>
          <a:blip r:embed="rId1"/>
          <a:stretch/>
        </p:blipFill>
        <p:spPr>
          <a:xfrm>
            <a:off x="6012000" y="981000"/>
            <a:ext cx="2881080" cy="439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artoon_800_600"/>
          <p:cNvPicPr/>
          <p:nvPr/>
        </p:nvPicPr>
        <p:blipFill>
          <a:blip r:embed="rId2"/>
          <a:stretch/>
        </p:blipFill>
        <p:spPr>
          <a:xfrm>
            <a:off x="4929120" y="4500720"/>
            <a:ext cx="2737080" cy="203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1111"/>
          <p:cNvPicPr/>
          <p:nvPr/>
        </p:nvPicPr>
        <p:blipFill>
          <a:blip r:embed="rId3"/>
          <a:stretch/>
        </p:blipFill>
        <p:spPr>
          <a:xfrm>
            <a:off x="142920" y="10717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7bff4a958f7d"/>
          <p:cNvPicPr/>
          <p:nvPr/>
        </p:nvPicPr>
        <p:blipFill>
          <a:blip r:embed="rId4"/>
          <a:stretch/>
        </p:blipFill>
        <p:spPr>
          <a:xfrm>
            <a:off x="2286000" y="257184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nightmare-before-xmas_400"/>
          <p:cNvPicPr/>
          <p:nvPr/>
        </p:nvPicPr>
        <p:blipFill>
          <a:blip r:embed="rId5"/>
          <a:stretch/>
        </p:blipFill>
        <p:spPr>
          <a:xfrm>
            <a:off x="3851280" y="112536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4373_msg-big"/>
          <p:cNvPicPr/>
          <p:nvPr/>
        </p:nvPicPr>
        <p:blipFill>
          <a:blip r:embed="rId6"/>
          <a:stretch/>
        </p:blipFill>
        <p:spPr>
          <a:xfrm>
            <a:off x="179280" y="4437000"/>
            <a:ext cx="4105440" cy="216072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и «неправильных» зарубежных мультфильм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 мультфильмов агрессивные и жестокие. Ребенок увиденные сцены насилия воспринимает как нормы. Последствием просмотра может стать проявление жестокости, безжалостности ребенком в ре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фильмы про вредных детей и хулиганов, также же отрицательно влияют, так как часто они являются главными героями и остаются безнаказа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ены, где, например, главные герои падают с огромной высоты, а упав, дальше бегут, так же вредны и опасны для здоровья, а также другие подобные сцены. Ребенок не понимает, что так быть не может, а подражать всему уже у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дливые и страшные гер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  Герои мультфильмов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лекаются. Ника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идательной и полезной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и от советских мультфиль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gubka_bob"/>
          <p:cNvPicPr/>
          <p:nvPr/>
        </p:nvPicPr>
        <p:blipFill>
          <a:blip r:embed="rId1"/>
          <a:stretch/>
        </p:blipFill>
        <p:spPr>
          <a:xfrm>
            <a:off x="4211640" y="3789360"/>
            <a:ext cx="1819440" cy="146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heburashka"/>
          <p:cNvPicPr/>
          <p:nvPr/>
        </p:nvPicPr>
        <p:blipFill>
          <a:blip r:embed="rId2"/>
          <a:stretch/>
        </p:blipFill>
        <p:spPr>
          <a:xfrm>
            <a:off x="6300720" y="4653000"/>
            <a:ext cx="2567160" cy="192564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, в защиту могу сказать, что и среди американских мультфильмов есть и исключения – прекрасные анимационные фильмы  такие как – «Белоснежка», «Бэмби», «Король Лев», несут доброе начало. Взаимоотношения матери и ребенка в животном мире показаны очень трепетно и учат уважать и любить родителей. Гибель Льва-отца в «Короле Льве» показана как трагедия, то есть дано верное представление об этом событии, заставляющее задуматься о цен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1222604335_lk-84"/>
          <p:cNvPicPr/>
          <p:nvPr/>
        </p:nvPicPr>
        <p:blipFill>
          <a:blip r:embed="rId1"/>
          <a:stretch/>
        </p:blipFill>
        <p:spPr>
          <a:xfrm>
            <a:off x="4859280" y="654120"/>
            <a:ext cx="3816360" cy="301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267095781_x_09c77b30771"/>
          <p:cNvPicPr/>
          <p:nvPr/>
        </p:nvPicPr>
        <p:blipFill>
          <a:blip r:embed="rId2"/>
          <a:stretch/>
        </p:blipFill>
        <p:spPr>
          <a:xfrm>
            <a:off x="4932360" y="378936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авила просмотра телевизионных передач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ет помнить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льзя усаживать ребенка перед телевизором в раннем возрасте до трех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этом возрасте у детей еще не сформированы основные функции движения. Он не умеет одновременно держать предметы, двигаться, смотреть, слышать. Поэтому при включении телевизора они загружаются в просмотр мультфильмов и не отвлекаются на посторонние шумы, не двигаются. В последующем у таких детей появляются проблемы с движением, с речью, со зрением и с лишним весом. Развитие детей может сильно затормоз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00015tfs"/>
          <p:cNvPicPr/>
          <p:nvPr/>
        </p:nvPicPr>
        <p:blipFill>
          <a:blip r:embed="rId1"/>
          <a:stretch/>
        </p:blipFill>
        <p:spPr>
          <a:xfrm>
            <a:off x="971640" y="3500280"/>
            <a:ext cx="3671640" cy="247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tv-deti"/>
          <p:cNvPicPr/>
          <p:nvPr/>
        </p:nvPicPr>
        <p:blipFill>
          <a:blip r:embed="rId2"/>
          <a:stretch/>
        </p:blipFill>
        <p:spPr>
          <a:xfrm>
            <a:off x="971640" y="981000"/>
            <a:ext cx="3671640" cy="237672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решили исследовать какие мультфильмы предпочитают дошкольники. Для этого мы провели анкетирование среди воспитанников нашего детского сада (см. Приложение№1). В нем приняли участие 60 человек подготовительных и старшей групп. Анализ  анкет показал, что все учащиеся (100%) любят смотреть мультфильмы. Причем 13 человека (22%) любят абсолютно все мультфильмы, будь то зарубежные или российские. 28 человек (47%) предпочитают зарубежные мультфильмы, т.к. они красочные. И 20 человек (33%) – российские мультфильмы, т.к. они веселые и добрые.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результата можно представить в виде диаграммы (ниж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11" descr=""/>
          <p:cNvPicPr/>
          <p:nvPr/>
        </p:nvPicPr>
        <p:blipFill>
          <a:blip r:embed="rId1"/>
          <a:stretch/>
        </p:blipFill>
        <p:spPr>
          <a:xfrm>
            <a:off x="1403280" y="2444760"/>
            <a:ext cx="6985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88640"/>
            <a:ext cx="8147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 любимый мультфиль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были назв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еимущественно зарубежные мультфильмы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7%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йские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 выборе любимого мультфильма критериями явилис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бро побеждает зл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%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селый и забав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9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ш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%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навате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лиш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реди российских любимым чаще назван мультфильм – Маша и медведь» и «Три богатыря», среди зарубежных – «Фиксики» и «Губка Боб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нелюбимом мультфильм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назв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38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тверждают, что не имеют нелюбимых мультфиль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Мальчиками названы мультфильмы для девочек («Дюймовочка», «Барби»), а девочками, соответственно,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званы старые советские мультфильмы («Буратино», «Чебурашка») по причине, того что не интере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Названы  все страшные мультфильмы, по причине наличия драк и войн, и определены такие мультфильмы как злые(«Трансформеры»). Как ни странно, в их числе назван мультфильм «Винк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 при выборе нелюбимого мультфильма критериями явились: нет нелюбимых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8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лые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тому что для девочек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,5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 интересные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,5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близительно п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 понятные, некрасивые и для мальч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91520" cy="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2854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402"/>
                </a:solidFill>
                <a:latin typeface="Times New Roman"/>
                <a:ea typeface="Times New Roman"/>
              </a:rPr>
              <a:t>Мультипликационные фильмы </a:t>
            </a:r>
            <a:r>
              <a:rPr b="0" lang="ru-RU" sz="1800" spc="-1" strike="noStrike" u="sng">
                <a:solidFill>
                  <a:srgbClr val="000402"/>
                </a:solidFill>
                <a:uFillTx/>
                <a:latin typeface="Times New Roman"/>
                <a:ea typeface="Times New Roman"/>
              </a:rPr>
              <a:t>оказывают влияние на развитие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402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402"/>
                </a:solidFill>
                <a:latin typeface="Times New Roman"/>
                <a:ea typeface="Times New Roman"/>
              </a:rPr>
              <a:t>С одной стороны, это яркие, зрелищные, образные, простые, ненавязчивые, доступные детям мультфильмы. Они формируют первичные представления о добре и зле, эталоны хорошего и плохого поведения. Через сравнение себя с любимыми героями дошкольник имеет возможность научиться позитивно воспринимать себя, справляться со своими страхами и трудностями, уважительно относиться к другим. События, происходящие в мультфильме, позволяют воспитывать детей: повышать его осведомленность, развивать мышление и воображение, формировать мировоззрение. Таким образом, мультфильм – </a:t>
            </a:r>
            <a:r>
              <a:rPr b="0" lang="ru-RU" sz="1800" spc="-1" strike="noStrike" u="sng">
                <a:solidFill>
                  <a:srgbClr val="000402"/>
                </a:solidFill>
                <a:uFillTx/>
                <a:latin typeface="Times New Roman"/>
                <a:ea typeface="Times New Roman"/>
              </a:rPr>
              <a:t>это эффективное средство воспитани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402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402"/>
                </a:solidFill>
                <a:latin typeface="Times New Roman"/>
                <a:ea typeface="Times New Roman"/>
              </a:rPr>
              <a:t>С другой стороны, сейчас особой популярностью пользуются  зарубежные мультфильмы, в основном американские. </a:t>
            </a:r>
            <a:r>
              <a:rPr b="0" lang="ru-RU" sz="1800" spc="-1" strike="noStrike" u="sng">
                <a:solidFill>
                  <a:srgbClr val="000402"/>
                </a:solidFill>
                <a:uFillTx/>
                <a:latin typeface="Times New Roman"/>
                <a:ea typeface="Times New Roman"/>
              </a:rPr>
              <a:t>Большая часть </a:t>
            </a:r>
            <a:r>
              <a:rPr b="0" lang="ru-RU" sz="1800" spc="-1" strike="noStrike">
                <a:solidFill>
                  <a:srgbClr val="000402"/>
                </a:solidFill>
                <a:latin typeface="Times New Roman"/>
                <a:ea typeface="Times New Roman"/>
              </a:rPr>
              <a:t>продукции американской фабрики </a:t>
            </a:r>
            <a:r>
              <a:rPr b="0" lang="ru-RU" sz="1800" spc="-1" strike="noStrike" u="sng">
                <a:solidFill>
                  <a:srgbClr val="000402"/>
                </a:solidFill>
                <a:uFillTx/>
                <a:latin typeface="Times New Roman"/>
                <a:ea typeface="Times New Roman"/>
              </a:rPr>
              <a:t>не безвре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обходимо регулировать частоту просмотра дошкольниками различных западных и отечественных мультфиль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ко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ультфильм не заменит живого общения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енка со взрослым, в котором он так нуждается. Родители обязаны понять, что ни один мультфильм, даже самый поучительный, не может заменить ребенку общение со взрослыми и сверстниками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mb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№1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Любишь ли ты смотреть мультфиль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Какие мультфильмы ты предпочитаешь: зарубежные или российс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зови любимый мультфильм. Почему он тебе нрав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Назови нелюбимый мультфильм. Почему он тебе не нрав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ак часто ты смотришь мультфиль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.кажды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ино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по выход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ред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Где ты смотришь мультфиль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по телевиз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по компьют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п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в кинотеат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Аромаштам М. «Де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ят мультфильмы» / Практика производства мультфильмов в детском саду, Москва, Чистые пруды,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Гришеева Н.П. «Социально-психологические аспекты влияния телевидения на дошкольника» / Начальная школа,Плюс до и после, №8, 200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ундарева И. «О последствиях восприятия телевизионной информации» / Восп.школа, №9, 200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Д/ф «Растление», Цикл д/ф «Школа родителе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качает колыбель?» и «Виртульная агресс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ga.net.ua/avega/index.php/zhenushke-devitse/821-2011-03-25-11-02-21/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Subscribe.ru/group/onlajn-testyi-psihologiya-i-samopoznanie/8778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Vlirt.ru/archives/3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Vzabote12.ru/3-nashi-deti/4-obshehee-razvitie-rebenka/vliyanie-multfilmov-na-det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www.psiholo3000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7 лет жизни дети очень  любят смотреть мультфильмы. А всегда ли мультфильмы влияют на неокрепшую детскую психику положительно? Это мы и постараемся выяс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im42"/>
          <p:cNvPicPr/>
          <p:nvPr/>
        </p:nvPicPr>
        <p:blipFill>
          <a:blip r:embed="rId1"/>
          <a:stretch/>
        </p:blipFill>
        <p:spPr>
          <a:xfrm>
            <a:off x="5651640" y="1773360"/>
            <a:ext cx="2881080" cy="453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%D0%B4%D0%B5%D0%BD%D1%8C%20%D0%B7%D0%B0%D1%89%D0%B8%D1%82%D1%8B%20%D0%B4%D0%B5%D1%82%D0%B5%D0%B9"/>
          <p:cNvPicPr/>
          <p:nvPr/>
        </p:nvPicPr>
        <p:blipFill>
          <a:blip r:embed="rId2"/>
          <a:stretch/>
        </p:blipFill>
        <p:spPr>
          <a:xfrm>
            <a:off x="3492360" y="3860640"/>
            <a:ext cx="313236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9582_2"/>
          <p:cNvPicPr/>
          <p:nvPr/>
        </p:nvPicPr>
        <p:blipFill>
          <a:blip r:embed="rId3"/>
          <a:stretch/>
        </p:blipFill>
        <p:spPr>
          <a:xfrm>
            <a:off x="795240" y="1600200"/>
            <a:ext cx="33624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healthcare_management_com"/>
          <p:cNvPicPr/>
          <p:nvPr/>
        </p:nvPicPr>
        <p:blipFill>
          <a:blip r:embed="rId4"/>
          <a:stretch/>
        </p:blipFill>
        <p:spPr>
          <a:xfrm>
            <a:off x="971640" y="4149720"/>
            <a:ext cx="2187360" cy="218772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исследо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влияние просмотра мультфильмов детьми в первые годы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6800" y="2071800"/>
            <a:ext cx="7572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следова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мотреть известные отечественные и зарубежные мультфиль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мнения ученых, докторов наук, психологов о воздействии мультфильмов на развитие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безопасное время просмотра мультфиль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ль мультфильмов в жизни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5286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ий мир ребенка еще только складывается, и роль в его формировании играет все, что он получает от взрослого: игры, сказки, совместные занятия, в том числе и мультфильмы. Они не только времяпрепровождение, но и средство воспитания. Чтобы успеть переделать всю домашнюю работу или немного отдохнуть, родители часто включают мультфильмы своим малышам. Пока ребенок с наслаждением смотрит очередной мультик, взрослые не задумываются о том, что таким образом дети привыкают к просмотру мультфильмов и очень скоро их уже невозможно оторвать от просмотра бесконечных сериалов. Мультфильмы заменяют детям книги, общение с детьми и родителями, прогу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300x449_rebenok_telek"/>
          <p:cNvPicPr/>
          <p:nvPr/>
        </p:nvPicPr>
        <p:blipFill>
          <a:blip r:embed="rId1"/>
          <a:stretch/>
        </p:blipFill>
        <p:spPr>
          <a:xfrm>
            <a:off x="6084720" y="1413000"/>
            <a:ext cx="2880000" cy="445140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значно сказать «можно или нельзя смотреть детям мультфильмы» невозможно. Есть много прекрасных развивающих и воспитывающих мультфильмов и фильмов для детей, а есть и как раз , наоборот,  вредящие. Рассмотрим на прим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g-tdy-091012-kids-play-11a"/>
          <p:cNvPicPr/>
          <p:nvPr/>
        </p:nvPicPr>
        <p:blipFill>
          <a:blip r:embed="rId1"/>
          <a:stretch/>
        </p:blipFill>
        <p:spPr>
          <a:xfrm>
            <a:off x="1574640" y="1600200"/>
            <a:ext cx="5994720" cy="452592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ие мультфил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24000" y="836280"/>
            <a:ext cx="5183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ские мультфильмы не штамповались массово и присутствовали на экране в единичных количествах, от этого и качество их выигрыв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и они тем, что в них отражается нормальная для ребенка картина мира. Отрицательный персонаж легко перевоспитывается. И оказывается, что он такой злобный  только потому, что с ним никто не дружил, не любил, никто ему не сочувствовал. Очень важно, что злой персонаж подавался в юмористичной форме, что смягчает его отрицательную сущность. Поэтому эти мультфильмы полезны детям, они учат правильному поведению: как заводить дружбу, как быть хорошим товарищем, как помогать друг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то не будет отрицать, что советские мультфильмы про Карлсона, Винни Пуха, Крокодила Гену и Чебурашку, Дядю Федора и подобные учат прекрасному и добр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6" descr="c3c4f84b8f87"/>
          <p:cNvPicPr/>
          <p:nvPr/>
        </p:nvPicPr>
        <p:blipFill>
          <a:blip r:embed="rId1"/>
          <a:stretch/>
        </p:blipFill>
        <p:spPr>
          <a:xfrm>
            <a:off x="5219640" y="836640"/>
            <a:ext cx="3538440" cy="2733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0b16364d20811c185d29c96a2785ae69"/>
          <p:cNvPicPr/>
          <p:nvPr/>
        </p:nvPicPr>
        <p:blipFill>
          <a:blip r:embed="rId2"/>
          <a:stretch/>
        </p:blipFill>
        <p:spPr>
          <a:xfrm>
            <a:off x="5219640" y="3789360"/>
            <a:ext cx="3529080" cy="258768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и «правильных» советских мультфильм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одержат нас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е лежат счастливые радостные события, а не войны и ха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ие образы передают дружелюбие, сострадание, естественность, уважение к старшим и матушке-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спокойный, положительный ко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многие родители и дети сегодня считают эти мультфильмы слишком примитивными и устаревшими. Сегодня любят смотреть современные зарубежные мультфильмы и на их манер созданные рус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кольку мультипликационных фильмов в советские времена производилось мало, поэтому экраны заняли американские и японские мультфил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mb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убежные мультфил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, в котором происходят события зарубежного мультипликационного фильма, безнадежно лежит во зле. И только крупицы добра в виде каких-нибудь черепашек-ниндзя стараются со злом сразиться. И зло, как правило, уничтожается физически, что абсолютно не привычно для нашего образа действия в сказках, где со злом старались бороться другими способами: его пытались перехитрить или уговорить. Почти во всех этих мультфильмах присутствует конфликт, драка, сражение, перестрелка, убийство, то есть, элементы агрессивного поведения и наси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globalreset"/>
          <p:cNvPicPr/>
          <p:nvPr/>
        </p:nvPicPr>
        <p:blipFill>
          <a:blip r:embed="rId1"/>
          <a:stretch/>
        </p:blipFill>
        <p:spPr>
          <a:xfrm>
            <a:off x="4859280" y="907920"/>
            <a:ext cx="3841920" cy="244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tf3-1"/>
          <p:cNvPicPr/>
          <p:nvPr/>
        </p:nvPicPr>
        <p:blipFill>
          <a:blip r:embed="rId2"/>
          <a:stretch/>
        </p:blipFill>
        <p:spPr>
          <a:xfrm>
            <a:off x="4859280" y="3573360"/>
            <a:ext cx="3888000" cy="255276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разберем, казалось бы безобидный и всем известный «Том и Джерри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 Том гоняется за мышонком Джер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ирая самые изощренные методы уничтожения бедного мышонка. А мышонок тем временем также пытается отомстить не менее бедному коту. И наверняка, ребенок будет делать тоже самое, что делают эти два веселых и милых героя. Раз родители  дали смотреть этот веселый мультфильм, значит, здесь нет ничего плохого. Значит можно бить и шутить над теми, кто слаб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%D0%A1%D0%BF%D0%B0%D0%B9%D0%BA"/>
          <p:cNvPicPr/>
          <p:nvPr/>
        </p:nvPicPr>
        <p:blipFill>
          <a:blip r:embed="rId1"/>
          <a:stretch/>
        </p:blipFill>
        <p:spPr>
          <a:xfrm>
            <a:off x="5219640" y="836640"/>
            <a:ext cx="3514680" cy="261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p_F"/>
          <p:cNvPicPr/>
          <p:nvPr/>
        </p:nvPicPr>
        <p:blipFill>
          <a:blip r:embed="rId2"/>
          <a:stretch/>
        </p:blipFill>
        <p:spPr>
          <a:xfrm>
            <a:off x="5219640" y="3789360"/>
            <a:ext cx="3529080" cy="273528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9:28Z</dcterms:created>
  <dc:creator>qq</dc:creator>
  <dc:description/>
  <dc:language>en-US</dc:language>
  <cp:lastModifiedBy>Admin</cp:lastModifiedBy>
  <dcterms:modified xsi:type="dcterms:W3CDTF">2015-01-09T14:39:32Z</dcterms:modified>
  <cp:revision>34</cp:revision>
  <dc:subject/>
  <dc:title>Слайд 1</dc:title>
</cp:coreProperties>
</file>