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30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13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jpeg" ContentType="image/jpeg"/>
  <Override PartName="/ppt/media/image8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A00A-112A-4724-A348-7C8A44E5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427-A3B6-45CB-89D4-F264CDD5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EE82A-04DE-478E-B5A7-620234ED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1DB78-1A3A-4691-A70F-1B512D86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D0112-8B15-4B25-9A73-5B5730A2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FF1D7-6C92-4A3A-84C8-173E82D2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26811-474B-4BF6-873C-562C593F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64897-1DB5-49DA-88B6-AE62FCC8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0C396-B009-4092-8BA2-C0341FDC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E1E6B-148F-4A7B-8851-F91D8E16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A2370-8009-4B0D-BC32-17D7DA25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695C5-C0B6-4B0F-8933-8AA9E688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1D80-5878-488B-9E54-B72ED1BC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80807-C339-4DF9-8708-A7995B66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B2623-7293-4DBD-ADA8-ED078E9B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793A1-5FFF-4FA1-A061-E70DF3AA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060E0-13AF-4712-BAAE-7B913D01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BE9FC-2AA6-4CDE-97B5-09B5F9A8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9191D-8B02-4898-B337-BF795EB4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F900A-CDF6-4E46-8758-E2DDF2D9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D6198-138B-4D2C-A33B-73160EF4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A27DB-4868-41D6-8FBE-927E6D10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1AD9B-7BA0-4DD1-B34D-DC39630B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025-2A45-4DA3-BDC4-ED38D481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BCCAD-071D-44CA-BD15-68563784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30979-21B2-48A8-97AC-B3FB4D8F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612C3-6082-43BF-9339-8DFAC987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F901A-53E2-4CDE-B0BB-E44C0082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9E1FB-39B5-433A-81F1-A8E7A0FA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765FF-8BE4-45D7-8E15-73E86814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76AE5-A5D5-4BC2-878A-95C61A3E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15E49-5FA3-48C3-A4AE-1381CF5E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ADC9A-BE56-4867-8693-86A4414B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6A929-F7DA-447E-ABC8-7D8C46D0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B78B-28E1-4787-B03A-EBD18EF0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B5B71-BF70-4CAD-958D-B011BB09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1C515-3556-414E-BC74-6D42A838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302D9-2058-4F98-A0EE-C623FAFD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A62C2-7327-406C-AB0E-58C33B12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075A8-1350-4E9F-A167-BE32C401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8F8F4-8DEC-43D5-98F4-F1656DE0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DBCC2-2A6F-4B5E-9B3E-DE20FB74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A8051-3A95-4EE1-8B59-FACC241F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58CEE-A213-4F8C-B078-74A21E02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46CDD-4C78-437A-A0B9-BCB49BD3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423E-DD75-4D45-A35A-321EF22F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F408F-8C31-4ADF-A46B-C1158A5C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842D0-E1E8-488E-ACF7-85EABC5E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B9B79-93FF-40D3-B530-27DF1602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3A180-8F05-4853-B53B-41A38C36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44757-7112-42DC-AD33-C7CD638D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4571-F7BE-4E81-BAB9-A2B24204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098D-91AB-441F-87B3-A7148AD0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F2CE-38C9-4877-B6BB-8A0F2600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AE1F-1142-4196-97E7-F9D972BE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12C1-E50D-491F-BE79-E1C493AF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66E-EE89-457E-ADBC-D3686A03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51C9-E23D-4A3F-8866-E018C557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F729-2CF1-455D-A88A-C85D85BF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C1CA-1BB7-4C37-9517-CB723F4E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FE30-D110-48D6-8325-554BDFE7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6591-BB97-40B0-9D06-015AE3CC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F089F-1FC6-4D28-AD1E-9980F75C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AEEAB-5572-4E35-8F0D-3EF7644F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3FC1E-573B-4825-B3B5-DF76B295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1F481-1B88-40E8-A4AB-7383EC30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D3888-E736-411A-A04C-82E7241F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0CA-AD41-44D2-9738-0B203EB6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CD342-AAAE-4B58-A990-C674CFE3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F7EE-79C3-41E0-969E-BBB97101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100FC-B1CA-4FEE-BBFF-243DF049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CF564-1FF0-4FFB-8AA7-70697CFB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86FA2-018C-4135-9F41-1CAB924E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ED6C3-8071-4371-A2D9-051876CC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EF8E-752F-4B51-BD16-42ED2977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61380-DFDC-4801-8BD5-373C3B89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7C23E-2B6D-4976-AAB7-7BF25B22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572D0-D92E-42D8-9400-E95B7E99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DBE-0204-4A4C-92E1-82718061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74DB8-E33A-44D1-A7FC-DAA8E359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D59E1-0AE0-4CE5-B3C8-2DF65D76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30032-5F4D-485B-B34D-C8562C43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5765E-CD5A-47C0-8A11-37D7097C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B4318-53CE-41C0-89C4-8912A66A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2C6AF-D601-4137-B7E7-D48E9B06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E10D3-FAF8-4DB2-8C72-0DFB6302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085CF-70DB-48B5-B42D-E391693B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4C036-61EC-4476-A7C8-B614CF59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09143-4A16-44CA-A025-15D7EAD9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25AB-F67E-4F74-B108-2BCD404B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FF951-583D-4084-AE76-DCD0F665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06CCA-C0C4-4869-B385-DE0ACA4D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D05A3-B97E-465E-BCED-5B8B84F1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14581-5796-4D89-93FC-53970A5D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76541-C78F-4E91-BB11-A26973CE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08CF7-1A5A-4D63-9A55-827E86F0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CB291-8841-472D-BBC2-2F8C7AA2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9E909-3B34-4DC4-A6B5-936ED4C4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141F5-AD66-4A40-9185-18ECF237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D9449-A276-415F-A048-3FB6B1EE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4EB-3A1D-41F4-B812-BB1FA0B7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A609A-4A3A-42F4-8AE4-2AD9FA31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86D0C-3918-45E7-925D-622A2BD5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20E5C-C0FC-45B3-AFC2-EB91A287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BA39D-38F5-42AA-8DBB-96DC6204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67AF2-6022-4638-AA78-6CCD8FDB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F57BF-4055-4DB2-BB16-BF18BBEA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6155E-B68A-4E7E-BD29-A7E4300C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2F1F3-5639-4CB7-99E9-B9078288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477B0-81CB-483D-89C3-5DFED251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8D8DE-5751-4737-AED2-B2BEC11B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C20-BB6C-4E3F-BD4E-B54DADDE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A7F38-C26F-4BAA-8611-7AB9F120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A92B4-A404-43EC-AACD-E5494D65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36EDE-B7E1-4699-8F3D-171B7C4E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8A5F7-9DC3-49C0-8781-AF3BF4D0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E897F-E11A-4EFA-9B8E-758F04E8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34033-FC29-4488-823F-47DE84A0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24286-2595-4DE3-B220-4C6337BE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01209-114E-4252-8AF2-EC14CF8C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52DE2-D624-4EF9-9135-C8BCFB53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42A2F-A4BF-44FF-82F9-A9C3769E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F98-289A-4F63-85D4-8A73949C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007C3-2B77-4DB8-9AEA-625350C8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F5C3C-6978-4B2D-8CE8-9EED7830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BA62E-6B7D-4EF7-8DEA-E987DC54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F1E5F-68F4-4DC9-A6F9-7DE6B332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95D30-47FF-4524-818F-5B5B6D37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CD4D3-41F7-46A2-BFA2-75F9FE7A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DFA84-5BFE-4164-94F4-5C2F7CE0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48A40-58C8-42A0-8266-F28007C7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3D281-913F-49D5-8CFC-930C3B37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A7ACE-A7D5-494E-BAEC-A83D1F98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E5C-D4A3-4902-9022-A66B98A2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64F65-D005-4E3E-8338-21037D45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611D2-AA04-4A61-B294-33BC411A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85C2E-641A-4794-B476-3BB752E3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0ABA5-946D-4B07-97E1-555D8FBD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02E64-F68D-4620-80E9-D16E6A45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D9594-2C78-45C7-BE7B-DACF37F3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7BA41-796B-49E1-9587-93114582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F4D78-F020-4D17-B0C1-12E2DB41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1A3FA-3B5E-4EE9-96C2-FF4D75D7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0B0BB-42A2-48CD-9354-CAC5B889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5765-BAAF-493C-96FA-63F9500CEC3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421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425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429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11C6-E2E6-4662-B5AC-0A971967461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C1FD-1ACD-4BAB-A7AF-14C47DA27DC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557B-6440-43EC-B8CE-5542C09B626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5AD9-11B4-43D2-A102-A0756B675AF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13B7-8EDF-4A6A-A989-2605BAC8A2A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EE3E-68FE-4A9B-83B1-64E4888E64F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45C2-4B53-417B-909B-94EC95C2FB8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C5EE-BD03-4F51-A935-F12FF05574F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291B-36E8-4962-AB56-4DB092DC0F2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1BAC-A169-4BCE-B5EE-B9105ED32CC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A205-15DD-44B1-891D-4155C604727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8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8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8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8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8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258920" y="1341360"/>
            <a:ext cx="6408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ссказы о космос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755640" y="1557360"/>
            <a:ext cx="799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ссказы о космос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179280" y="0"/>
            <a:ext cx="864072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разование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684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1951 год-ремесленное училище, по специальности формовщика- летейщика(с отличием);1951 год – школа рабочей молодежи в г. Люберце; 1955 год Саратовкий индустриальный техникум ( с отличием) ; 1955 год саратовский аэроклуб;1957 год – Первое Чкаловское военное авиационное училище летчиков им. К.Е. Ворошилова; 1968 год – военно-инженерная академия им. Н.Е. Жуковского в Москве ( с отличием)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6546960" y="2997360"/>
            <a:ext cx="2268360" cy="31669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3708360" y="2637000"/>
            <a:ext cx="1878120" cy="34560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32497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Дата и место гибели: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68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Трагически погиб 27 марта 1968 года во авиационной катастрофе в близи деревни Новоселово Киржачского района Владимирской области, при выполнении тренировочного  полета на самолете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68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охоронен  у Кремлевской стены на Красной площади в Москве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468360" y="1913040"/>
            <a:ext cx="3686040" cy="252396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3708360" y="2924280"/>
            <a:ext cx="2397240" cy="359568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6012000" y="1844640"/>
            <a:ext cx="259236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Прямоугольник 1" descr=""/>
          <p:cNvPicPr/>
          <p:nvPr/>
        </p:nvPicPr>
        <p:blipFill>
          <a:blip r:embed="rId1"/>
          <a:stretch/>
        </p:blipFill>
        <p:spPr>
          <a:xfrm>
            <a:off x="-324000" y="-747720"/>
            <a:ext cx="6602400" cy="225756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3131640" y="1125000"/>
            <a:ext cx="5759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12 часов 30 минут по Московскому времени в Советском Союзе на орбиту спутника Земли выведен космический корабль « Восток-6» впервые в мире пилотируемый женщиной – гражданкой Советского Союза космонавтом Терешковой Валентиной Владимировной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ециально для полета Терешковой была разработана конструкция скафандра приспособленная для женского организма, так же некоторые элементы корабля были изменены под возможности женщины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3189240" cy="239544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468360" y="4437000"/>
            <a:ext cx="32004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067280" y="666720"/>
            <a:ext cx="46814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Валентина Владимировна Терешкова  родилась  6 марта 1937 году в небольшой деревне Ярославской области. Образование в биографии В.В. Терешковой было начато в 1945 году в Ярославской школе. После семи лет школы стала работать на заводе, а параллельно с этим училась в вечерней школе. Следующей образовательной ступенькой в биографии Терешковой являлся техникум легкой промышленности. Одновременно с обучением работала на текстильной фабрике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381636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10920" y="333000"/>
            <a:ext cx="7848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6 июня 1963 года в своей  биографии Валентина Терешкова совершила космический полет ( 48 оборотов вокруг планеты Земля на протяжении 3-х суток) на корабле « Восток-6». После полета окончила военно-воздушную академию им. Жуковского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3635280" cy="273060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2298600" cy="36734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3059280" y="2421000"/>
            <a:ext cx="216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250560" y="115920"/>
            <a:ext cx="8893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ачиная с 1966 года , ведет активную государственную деятельность. Являлась народным депутатом СССР. С 1963 года является заслуженным мастером  парашютного спорта. 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684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Ушла в отставку в 1997. Имеет множество наград, орденов, медалей.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1979640" y="4437000"/>
            <a:ext cx="1644480" cy="226368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1770120" cy="24814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7020000" y="1989000"/>
            <a:ext cx="1687320" cy="22989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4"/>
          <a:stretch/>
        </p:blipFill>
        <p:spPr>
          <a:xfrm>
            <a:off x="0" y="2349360"/>
            <a:ext cx="2665440" cy="19893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5"/>
          <a:stretch/>
        </p:blipFill>
        <p:spPr>
          <a:xfrm>
            <a:off x="3492360" y="2421000"/>
            <a:ext cx="21798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516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115640" y="4220640"/>
            <a:ext cx="755964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Рассказ о первом выходе А.А. Леонова в открытый космос в марте 1965 год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64000" cy="378936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 txBox="1"/>
          <p:nvPr/>
        </p:nvSpPr>
        <p:spPr>
          <a:xfrm rot="21358200">
            <a:off x="464760" y="2876400"/>
            <a:ext cx="80643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выход человека в открытое космическое пространство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3995280" y="476280"/>
            <a:ext cx="51483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вый выход в космос был совершен советским космонавтом Алексеем Архиповичем Леоновым 18 марта 1965 года с борта космического корабля « Восход – 2» с использованием гибкой шлюзовой камеры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о время выхода проявил большое мужество, особенно в нештатной ситуации, когда разбухший космический скафандр препятствовал  возращению космонавта в космический корабль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ход в открытый космос продолжался 12 минут 09 секунд, по его итогам был сделан вывод о возможности человека выполнять различные работы в открытом космосе. При возвращении космического корабля на Землю отказала система ориентации  и космонавты, вручную ориентировав корабль, совершили посадку в запасном районе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2282760" cy="331128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24350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 txBox="1"/>
          <p:nvPr/>
        </p:nvSpPr>
        <p:spPr>
          <a:xfrm rot="318000">
            <a:off x="1329840" y="-7560"/>
            <a:ext cx="5400720" cy="260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"Луна, Марс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3708360" y="3972960"/>
            <a:ext cx="5435640" cy="1333440"/>
            <a:chOff x="3708360" y="3972960"/>
            <a:chExt cx="5435640" cy="1333440"/>
          </a:xfrm>
        </p:grpSpPr>
        <p:sp>
          <p:nvSpPr>
            <p:cNvPr id="615" name=""/>
            <p:cNvSpPr/>
            <p:nvPr/>
          </p:nvSpPr>
          <p:spPr>
            <a:xfrm>
              <a:off x="3708360" y="3972960"/>
              <a:ext cx="54356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9933"/>
                  </a:solidFill>
                  <a:latin typeface="Arial"/>
                </a:rPr>
                <a:t>«Маленький шаг для одного человека, большой шаг для всего человечества.»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 rot="20721000">
            <a:off x="324000" y="404640"/>
            <a:ext cx="3832200" cy="342900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 rot="681000">
            <a:off x="4787640" y="260280"/>
            <a:ext cx="3201840" cy="32022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3132000" y="3762360"/>
            <a:ext cx="3097440" cy="309564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tretch/>
        </p:blipFill>
        <p:spPr>
          <a:xfrm>
            <a:off x="5580000" y="1197000"/>
            <a:ext cx="3175200" cy="4103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971640" y="2492280"/>
            <a:ext cx="4241880" cy="318132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1403280" y="5733720"/>
            <a:ext cx="63374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21 июля 1969 года первым человеком, ступившем на поверхность Луны, стал американец Нил Армстронг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8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Прямоугольник 3" descr=""/>
          <p:cNvPicPr/>
          <p:nvPr/>
        </p:nvPicPr>
        <p:blipFill>
          <a:blip r:embed="rId1"/>
          <a:stretch/>
        </p:blipFill>
        <p:spPr>
          <a:xfrm>
            <a:off x="0" y="115920"/>
            <a:ext cx="8935920" cy="3168720"/>
          </a:xfrm>
          <a:prstGeom prst="rect">
            <a:avLst/>
          </a:prstGeom>
          <a:ln w="0">
            <a:noFill/>
          </a:ln>
        </p:spPr>
      </p:pic>
      <p:pic>
        <p:nvPicPr>
          <p:cNvPr id="559" name="Прямоугольник 6" descr=""/>
          <p:cNvPicPr/>
          <p:nvPr/>
        </p:nvPicPr>
        <p:blipFill>
          <a:blip r:embed="rId2"/>
          <a:stretch/>
        </p:blipFill>
        <p:spPr>
          <a:xfrm>
            <a:off x="3421080" y="4292640"/>
            <a:ext cx="5722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1547640" y="189000"/>
            <a:ext cx="59058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Над проектом работали: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692360" y="2708280"/>
            <a:ext cx="5759280" cy="28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брамов Михаил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утина Александр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урбанова Алеся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Прямоугольник 1" descr=""/>
          <p:cNvPicPr/>
          <p:nvPr/>
        </p:nvPicPr>
        <p:blipFill>
          <a:blip r:embed="rId1"/>
          <a:stretch/>
        </p:blipFill>
        <p:spPr>
          <a:xfrm>
            <a:off x="-158760" y="-274680"/>
            <a:ext cx="4840200" cy="2024280"/>
          </a:xfrm>
          <a:prstGeom prst="rect">
            <a:avLst/>
          </a:prstGeom>
          <a:ln w="0">
            <a:noFill/>
          </a:ln>
        </p:spPr>
      </p:pic>
      <p:pic>
        <p:nvPicPr>
          <p:cNvPr id="561" name="Прямоугольник 2" descr=""/>
          <p:cNvPicPr/>
          <p:nvPr/>
        </p:nvPicPr>
        <p:blipFill>
          <a:blip r:embed="rId2"/>
          <a:stretch/>
        </p:blipFill>
        <p:spPr>
          <a:xfrm>
            <a:off x="4078440" y="865080"/>
            <a:ext cx="5101920" cy="31165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" descr="C:\Documents and Settings\Admin\Рабочий стол\презентация по физике\844_sput.jpg"/>
          <p:cNvPicPr/>
          <p:nvPr/>
        </p:nvPicPr>
        <p:blipFill>
          <a:blip r:embed="rId3"/>
          <a:stretch/>
        </p:blipFill>
        <p:spPr>
          <a:xfrm rot="21368400">
            <a:off x="100080" y="3284640"/>
            <a:ext cx="43290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Прямоугольник 1" descr=""/>
          <p:cNvPicPr/>
          <p:nvPr/>
        </p:nvPicPr>
        <p:blipFill>
          <a:blip r:embed="rId1"/>
          <a:stretch/>
        </p:blipFill>
        <p:spPr>
          <a:xfrm>
            <a:off x="-468360" y="-603360"/>
            <a:ext cx="4944960" cy="2175120"/>
          </a:xfrm>
          <a:prstGeom prst="rect">
            <a:avLst/>
          </a:prstGeom>
          <a:ln w="0">
            <a:noFill/>
          </a:ln>
        </p:spPr>
      </p:pic>
      <p:pic>
        <p:nvPicPr>
          <p:cNvPr id="564" name="Прямоугольник 3" descr=""/>
          <p:cNvPicPr/>
          <p:nvPr/>
        </p:nvPicPr>
        <p:blipFill>
          <a:blip r:embed="rId2"/>
          <a:stretch/>
        </p:blipFill>
        <p:spPr>
          <a:xfrm>
            <a:off x="2743200" y="549360"/>
            <a:ext cx="6400800" cy="16873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" descr="C:\Documents and Settings\Admin\Рабочий стол\презентация по физике\pic_27.jpg"/>
          <p:cNvPicPr/>
          <p:nvPr/>
        </p:nvPicPr>
        <p:blipFill>
          <a:blip r:embed="rId3"/>
          <a:stretch/>
        </p:blipFill>
        <p:spPr>
          <a:xfrm>
            <a:off x="3924360" y="2276640"/>
            <a:ext cx="4502160" cy="30254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C:\Documents and Settings\Admin\Рабочий стол\презентация по физике\fee533fc9177f800a0456b38dc8e95e9_full.jpg"/>
          <p:cNvPicPr/>
          <p:nvPr/>
        </p:nvPicPr>
        <p:blipFill>
          <a:blip r:embed="rId4"/>
          <a:stretch/>
        </p:blipFill>
        <p:spPr>
          <a:xfrm>
            <a:off x="179280" y="3284640"/>
            <a:ext cx="33814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Прямоугольник 1" descr=""/>
          <p:cNvPicPr/>
          <p:nvPr/>
        </p:nvPicPr>
        <p:blipFill>
          <a:blip r:embed="rId1"/>
          <a:stretch/>
        </p:blipFill>
        <p:spPr>
          <a:xfrm>
            <a:off x="2639880" y="19080"/>
            <a:ext cx="3936960" cy="11509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" descr="C:\Documents and Settings\Admin\Рабочий стол\презентация по физике\hem.jpg"/>
          <p:cNvPicPr/>
          <p:nvPr/>
        </p:nvPicPr>
        <p:blipFill>
          <a:blip r:embed="rId2"/>
          <a:stretch/>
        </p:blipFill>
        <p:spPr>
          <a:xfrm>
            <a:off x="571680" y="1257480"/>
            <a:ext cx="3498840" cy="517176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851280" y="1052280"/>
            <a:ext cx="5292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66"/>
                </a:solidFill>
                <a:latin typeface="Arial"/>
              </a:rPr>
              <a:t>Первый шимпанзе-астронавт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1 января 1961 года Хэм был помещен в космический корабль «Меркурий Редстоун 2» и запущен в космос с космодрома на мысе Канаверал. Полет Хэма был последней репетицией перед первым суборбитальным полетом американского астронавта в космос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 rot="20943000">
            <a:off x="468000" y="141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eeff"/>
                </a:solidFill>
                <a:latin typeface="Arial"/>
              </a:rPr>
              <a:t>Свершение века : 12 апреля 1961 года Юрий Гагарин – первый человек в космосе!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5651640" y="3213000"/>
            <a:ext cx="20192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395280" y="404640"/>
            <a:ext cx="8353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12 апреля 1961 года планету потрясла неожиданная весть: Человек в космосе! Русский, советский! Многовековая мечта людей о полете к звездам сбылась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684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684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Этот день стал днем торжества человеческого разума. Впервые в мире космический корабль с человеком на борту ворвался в просторы вселенной. Ракета-носитель «Восток» вывела на околоземную орбиту советский космический корабль « Восток» с советским космонавтом Ю.А. Гагариным. После полета на корабле «Восток» Ю.Гагарин стал самым известным человеком на планете. О нем писали все газеты мира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Прямоугольник 1" descr=""/>
          <p:cNvPicPr/>
          <p:nvPr/>
        </p:nvPicPr>
        <p:blipFill>
          <a:blip r:embed="rId1"/>
          <a:stretch/>
        </p:blipFill>
        <p:spPr>
          <a:xfrm>
            <a:off x="-66600" y="60480"/>
            <a:ext cx="4694040" cy="16351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" descr="D:\ФОТОЧКИ))))))\Гагарин\гагарин в 1962 году...jpg"/>
          <p:cNvPicPr/>
          <p:nvPr/>
        </p:nvPicPr>
        <p:blipFill>
          <a:blip r:embed="rId2"/>
          <a:stretch/>
        </p:blipFill>
        <p:spPr>
          <a:xfrm>
            <a:off x="468360" y="1700280"/>
            <a:ext cx="3576600" cy="491148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3893760" y="1557360"/>
            <a:ext cx="5249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Ю.А. Гагарин родился 9 марта 1934 года в городе Гжатск ( ныне Гагарин) Гжатского (ныне Гагаринского ) района Смоленской области в семье колхозника. Отец-Алексей Иванович Гагарин. Мать- Анна Тимофеевна Гагарин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76e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619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Семейное положение: Жена – Валентина Ивановна Гагарина. Дети: дочери Елена(р.10.04.1959г.) и Галина (р.07.03.1961г.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5364000" y="2997360"/>
            <a:ext cx="3043440" cy="235872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2155680" cy="335124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627280" y="4365720"/>
            <a:ext cx="25336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9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5:03:01Z</dcterms:created>
  <dc:creator>Admin</dc:creator>
  <dc:description/>
  <dc:language>en-US</dc:language>
  <cp:lastModifiedBy>Вера Захаровна</cp:lastModifiedBy>
  <dcterms:modified xsi:type="dcterms:W3CDTF">2015-01-10T09:07:15Z</dcterms:modified>
  <cp:revision>20</cp:revision>
  <dc:subject/>
  <dc:title>Слайд 1</dc:title>
</cp:coreProperties>
</file>