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177-A43E-4118-9E16-F3D36F73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DEA-93EE-4579-B622-4FC83D82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ACB-D446-4E03-AA3C-0F68B8B7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314-2A67-4275-BBCB-ADF1CA91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B126-ACE9-4A72-959C-51FBF0F7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1AF-6DED-4B67-94F9-7B82A25E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E741-A881-49C2-9C41-56DE744B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3216-191A-42EA-AC9D-7918C2AD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3E8B-E64A-4389-A062-9DA71E3A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32D1-FC0A-4A7E-B256-9F49C71A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FF7D-DD3D-4575-8BB8-BEB7E669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31E-487C-4CB6-959F-29C81B3E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E4B8-3BEC-44D7-84A9-1E609514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582A-DC72-43B3-9431-73AAC80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0786-0AEC-4ED4-9DF8-35D55997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F68A-721B-421E-A899-9C3306B5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AB57-7B72-405B-AF71-A90AB564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DB859-EAED-46DC-B818-740D4993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56556-C484-4B82-A708-A41533F1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56A14-90F2-494C-9E87-F3CBBF2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E3B82-13DA-482F-952B-8090E023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2A7ED-E1E9-440F-8DB9-84F28336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125-F3E7-4587-95AC-78F95C2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D222E-23B7-4886-9C65-5338DAE2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25450-791C-4763-BC88-C481974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900A3-9E27-4D69-9853-6CFA7BB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1C7B1-88EF-4B28-9530-1C5A2094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AA353-BF40-4DE0-9367-23BCD700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FF6EC-84B7-44E0-8A02-6D66180B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05FCA-95A1-4284-BF2A-0A660835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5D8A-2FA6-498E-942D-0612F8BD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481F-C742-49A3-A663-A93BB312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D9E3-FA85-4F36-8C66-811C3BFD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7E3-5436-4993-8284-EE77A494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2B035-850B-4C3B-B456-076A6B0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03F7-CD43-4B1E-A18B-00A2321E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F584-0287-4557-BAEA-F7F74AAD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71D7F-CF73-4811-8A39-C4BD0561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9BA9-A961-4F9D-A0FB-7FBC61C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EB1C-4C84-402F-9DAC-AA317AA1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C084E-63D6-4872-94E1-400A542D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B1F58-033F-4F44-8905-432205CC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B261-4F24-45C5-A4BD-F983F51B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6F65E-8D65-4617-938F-506B1E4C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9DC-AD25-4085-AFEF-94CF2204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0327E-CFFA-495C-B925-957C11C7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D568F-201C-4BFC-97CC-F2D331F3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31C83-0978-4B5B-80B3-815CEF1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4EAD0-E0B8-47B9-8F05-3E58E115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03DD1-F26E-474E-B7B4-38B30673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A90E0-488A-417A-BF49-065C632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C1DE6-8902-403D-8F60-2C5BF1F7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D3A38-AE99-4925-98D3-49C9BA4E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70037-6667-4A77-B6E6-A8205594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03212-D503-46FD-BDCE-08E16DF9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827-6149-4C49-9BAC-FF0CB8A3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8E6C9-E5BB-47D2-93F1-4DCF96AC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7A82E-8680-495C-A4D7-2D03D247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7192E-18E2-4E28-A66C-D996DEFF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53D62-C71F-4011-A3C0-9D4F6806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29C9E-34EF-4EB6-B927-1E0F076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A77A1-104C-40E8-8A22-E4C86FD0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675E6-9A2F-475E-8B92-8FDF8CDB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AF5DA-1041-433B-90AD-6AF2C3D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0025F-83B3-4B4A-A622-1D6A36DA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DD3C6-52D2-4FF8-A2A1-855C216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6EB-D69F-4D0E-AD33-A72F3CF4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1D767-28FC-4AAF-96D5-5BD4913B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D9E96-496F-4CA0-9CAC-F44B554C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85B96-A67C-406E-9EC8-C6FD44FC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9C969-2184-40AA-BFAA-BD571DE9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98CE7-1721-4F9E-8D12-191853FD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B89EC-1187-4372-8A94-B8A1EE9F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7C95C-710D-4F9C-B481-DE9F071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D747E-3750-46D9-8F8A-5F76F81F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E5F21-4143-4B5D-993E-BADBFB9E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24BC0-BA71-4B78-ACE2-6736E53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785-CEEE-4472-88ED-19E268BC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792E5-5A7C-4277-9ABA-68F8408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6A569-FF80-40E0-A150-F2FF7C9F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DD4E5-55D6-4E99-9CE4-D7B1760A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8818A-8BC7-4CAF-B344-373AB307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89E0E-44C9-40AC-A2D0-AEBE9117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133-8B4F-4997-8A40-E7E2CFE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86E2-14A6-4877-8AB9-ED4ECA0EE7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6b1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fc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fc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9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6b1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9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6b1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6b1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77D7-825B-4A19-8F27-830454D7C1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00DA-D2E5-40E7-ACB0-22249F8749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6b1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fc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fc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9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6b1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9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6b1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6b1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F3D8-E53E-4DDF-ADA8-8FEFEF67D1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75F2-972C-4468-8C47-4EDCF46D68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C79C-67E4-4536-9987-35CA9EA906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656B-7C3C-48AD-B0A6-91E9B8498F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здание школы"/>
          <p:cNvPicPr/>
          <p:nvPr/>
        </p:nvPicPr>
        <p:blipFill>
          <a:blip r:embed="rId1"/>
          <a:stretch/>
        </p:blipFill>
        <p:spPr>
          <a:xfrm>
            <a:off x="5724360" y="151920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00"/>
                </a:solidFill>
                <a:latin typeface="Segoe Print"/>
              </a:rPr>
              <a:t>ВИКТОРИНА</a:t>
            </a:r>
            <a:br>
              <a:rPr sz="7200"/>
            </a:br>
            <a:endParaRPr b="0" lang="en-US" sz="72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0" y="364500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Monotype Corsiva"/>
              </a:rPr>
              <a:t>Англоязычные страны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4" descr="j4"/>
          <p:cNvPicPr/>
          <p:nvPr/>
        </p:nvPicPr>
        <p:blipFill>
          <a:blip r:embed="rId2"/>
          <a:stretch/>
        </p:blipFill>
        <p:spPr>
          <a:xfrm>
            <a:off x="611280" y="1484280"/>
            <a:ext cx="2289240" cy="2305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33"/>
                </a:solidFill>
                <a:latin typeface="Century Schoolbook"/>
              </a:rPr>
              <a:t>9</a:t>
            </a:r>
            <a:r>
              <a:rPr b="1" lang="en-GB" sz="3000" spc="-1" strike="noStrike">
                <a:solidFill>
                  <a:srgbClr val="ff9933"/>
                </a:solidFill>
                <a:latin typeface="Century Schoolbook"/>
              </a:rPr>
              <a:t>. THE CAPITAL OF CANADA IS</a:t>
            </a:r>
            <a:r>
              <a:rPr b="1" lang="ru-RU" sz="3000" spc="-1" strike="noStrike">
                <a:solidFill>
                  <a:srgbClr val="ff9933"/>
                </a:solidFill>
                <a:latin typeface="Century Schoolbook"/>
              </a:rPr>
              <a:t> … 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"/>
              </a:rPr>
              <a:t>Ottawa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"/>
              </a:rPr>
              <a:t>Sidne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"/>
              </a:rPr>
              <a:t>Toronto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3752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00"/>
                </a:solidFill>
                <a:latin typeface="Century Schoolbook"/>
              </a:rPr>
              <a:t>1</a:t>
            </a:r>
            <a:r>
              <a:rPr b="1" lang="ru-RU" sz="3000" spc="-1" strike="noStrike">
                <a:solidFill>
                  <a:srgbClr val="ff9900"/>
                </a:solidFill>
                <a:latin typeface="Century Schoolbook"/>
              </a:rPr>
              <a:t>0</a:t>
            </a:r>
            <a:r>
              <a:rPr b="1" lang="en-GB" sz="3000" spc="-1" strike="noStrike">
                <a:solidFill>
                  <a:srgbClr val="ff9900"/>
                </a:solidFill>
                <a:latin typeface="Century Schoolbook"/>
              </a:rPr>
              <a:t>.THE OFFICIAL LANGUAGES IN CANADA ARE </a:t>
            </a:r>
            <a:r>
              <a:rPr b="1" lang="ru-RU" sz="3000" spc="-1" strike="noStrike">
                <a:solidFill>
                  <a:srgbClr val="ff9900"/>
                </a:solidFill>
                <a:latin typeface="Century Schoolbook"/>
              </a:rPr>
              <a:t> …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20500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entury Schoolbook"/>
              </a:rPr>
              <a:t>English and Spai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entury Schoolbook"/>
              </a:rPr>
              <a:t>English and French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entury Schoolbook"/>
              </a:rPr>
              <a:t>English and Germa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9900"/>
                </a:solidFill>
                <a:latin typeface="Century Schoolbook"/>
              </a:rPr>
              <a:t>1</a:t>
            </a:r>
            <a:r>
              <a:rPr b="1" lang="ru-RU" sz="3600" spc="-1" strike="noStrike">
                <a:solidFill>
                  <a:srgbClr val="ff9900"/>
                </a:solidFill>
                <a:latin typeface="Century Schoolbook"/>
              </a:rPr>
              <a:t>1</a:t>
            </a:r>
            <a:r>
              <a:rPr b="1" lang="en-GB" sz="3600" spc="-1" strike="noStrike">
                <a:solidFill>
                  <a:srgbClr val="ff9900"/>
                </a:solidFill>
                <a:latin typeface="Century Schoolbook"/>
              </a:rPr>
              <a:t>.WHAT MONEY IS THERE IN CANADA</a:t>
            </a:r>
            <a:r>
              <a:rPr b="1" lang="ru-RU" sz="3600" spc="-1" strike="noStrike">
                <a:solidFill>
                  <a:srgbClr val="ff9900"/>
                </a:solidFill>
                <a:latin typeface="Century Schoolbook"/>
              </a:rPr>
              <a:t>?</a:t>
            </a:r>
            <a:endParaRPr b="0" lang="en-US" sz="36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Канадский доллар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Канадский шиллинг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Канадский фун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Aharoni"/>
                <a:ea typeface="Aharoni"/>
              </a:rPr>
              <a:t>1</a:t>
            </a:r>
            <a:r>
              <a:rPr b="0" lang="ru-RU" sz="4800" spc="-1" strike="noStrike">
                <a:solidFill>
                  <a:srgbClr val="ff9933"/>
                </a:solidFill>
                <a:latin typeface="Aharoni"/>
                <a:ea typeface="Aharoni"/>
              </a:rPr>
              <a:t>2</a:t>
            </a:r>
            <a:r>
              <a:rPr b="0" lang="en-US" sz="4800" spc="-1" strike="noStrike">
                <a:solidFill>
                  <a:srgbClr val="ff9933"/>
                </a:solidFill>
                <a:latin typeface="Aharoni"/>
                <a:ea typeface="Aharoni"/>
              </a:rPr>
              <a:t>. WHAT IS THE OFFICIAL EMBLEM OF CANADA?</a:t>
            </a:r>
            <a:endParaRPr b="0" lang="en-US" sz="48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rose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maple tree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. star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maple leaf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1</a:t>
            </a:r>
            <a:r>
              <a:rPr b="0" lang="ru-RU" sz="6000" spc="-1" strike="noStrike">
                <a:solidFill>
                  <a:srgbClr val="ff9933"/>
                </a:solidFill>
                <a:latin typeface="Aharoni"/>
                <a:ea typeface="Aharoni"/>
              </a:rPr>
              <a:t>3</a:t>
            </a: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. WHAT COUNTRY HAS THE MOTTO </a:t>
            </a:r>
            <a:r>
              <a:rPr b="0" lang="ru-RU" sz="6000" spc="-1" strike="noStrike">
                <a:solidFill>
                  <a:srgbClr val="ff9933"/>
                </a:solidFill>
                <a:latin typeface="Aharoni"/>
                <a:ea typeface="Aharoni"/>
              </a:rPr>
              <a:t>«</a:t>
            </a: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IN GOD WE TRUST</a:t>
            </a:r>
            <a:r>
              <a:rPr b="0" lang="ru-RU" sz="6000" spc="-1" strike="noStrike">
                <a:solidFill>
                  <a:srgbClr val="ff9933"/>
                </a:solidFill>
                <a:latin typeface="Aharoni"/>
                <a:ea typeface="Aharoni"/>
              </a:rPr>
              <a:t>»</a:t>
            </a: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?</a:t>
            </a:r>
            <a:endParaRPr b="0" lang="en-US" sz="6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2857320"/>
            <a:ext cx="7467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1. The USA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2. The UK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3. Australia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haroni"/>
                <a:ea typeface="Aharoni"/>
              </a:rPr>
              <a:t>1</a:t>
            </a:r>
            <a:r>
              <a:rPr b="0" lang="ru-RU" sz="4000" spc="-1" strike="noStrike">
                <a:solidFill>
                  <a:srgbClr val="ff9933"/>
                </a:solidFill>
                <a:latin typeface="Aharoni"/>
                <a:ea typeface="Aharoni"/>
              </a:rPr>
              <a:t>4</a:t>
            </a:r>
            <a:r>
              <a:rPr b="0" lang="en-US" sz="4000" spc="-1" strike="noStrike">
                <a:solidFill>
                  <a:srgbClr val="ff9933"/>
                </a:solidFill>
                <a:latin typeface="Aharoni"/>
                <a:ea typeface="Aharoni"/>
              </a:rPr>
              <a:t>. WHAT COUNTRY HAS THE THIRD LARGEST POPULATION IN THE WORLD?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1. The USA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2.The UK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3. Australia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haroni"/>
                <a:ea typeface="Aharoni"/>
              </a:rPr>
              <a:t>1</a:t>
            </a:r>
            <a:r>
              <a:rPr b="0" lang="ru-RU" sz="4400" spc="-1" strike="noStrike">
                <a:solidFill>
                  <a:srgbClr val="ff9933"/>
                </a:solidFill>
                <a:latin typeface="Aharoni"/>
                <a:ea typeface="Aharoni"/>
              </a:rPr>
              <a:t>5</a:t>
            </a:r>
            <a:r>
              <a:rPr b="0" lang="en-US" sz="4400" spc="-1" strike="noStrike">
                <a:solidFill>
                  <a:srgbClr val="ff9933"/>
                </a:solidFill>
                <a:latin typeface="Aharoni"/>
                <a:ea typeface="Aharoni"/>
              </a:rPr>
              <a:t>. THIS COUNTRY IS SOMETIMES CALLED  </a:t>
            </a:r>
            <a:r>
              <a:rPr b="0" lang="ru-RU" sz="4400" spc="-1" strike="noStrike">
                <a:solidFill>
                  <a:srgbClr val="ff9933"/>
                </a:solidFill>
                <a:latin typeface="Century Schoolbook"/>
                <a:ea typeface="Aharoni"/>
              </a:rPr>
              <a:t>«</a:t>
            </a:r>
            <a:r>
              <a:rPr b="0" lang="en-US" sz="4400" spc="-1" strike="noStrike">
                <a:solidFill>
                  <a:srgbClr val="ff9933"/>
                </a:solidFill>
                <a:latin typeface="Aharoni"/>
                <a:ea typeface="Aharoni"/>
              </a:rPr>
              <a:t>THE WORLD BIGGEST FARM</a:t>
            </a:r>
            <a:r>
              <a:rPr b="0" lang="ru-RU" sz="4400" spc="-1" strike="noStrike">
                <a:solidFill>
                  <a:srgbClr val="ff9933"/>
                </a:solidFill>
                <a:latin typeface="Century Schoolbook"/>
                <a:ea typeface="Aharoni"/>
              </a:rPr>
              <a:t>»</a:t>
            </a:r>
            <a:r>
              <a:rPr b="0" lang="en-US" sz="4400" spc="-1" strike="noStrike">
                <a:solidFill>
                  <a:srgbClr val="ff9933"/>
                </a:solidFill>
                <a:latin typeface="Aharoni"/>
                <a:ea typeface="Aharoni"/>
              </a:rPr>
              <a:t>.</a:t>
            </a:r>
            <a:endParaRPr b="0" lang="en-US" sz="44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2143080"/>
            <a:ext cx="74674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1. The USA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2.The UK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3. New Zealand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haroni"/>
                <a:ea typeface="Aharoni"/>
              </a:rPr>
              <a:t>1</a:t>
            </a:r>
            <a:r>
              <a:rPr b="0" lang="ru-RU" sz="5400" spc="-1" strike="noStrike">
                <a:solidFill>
                  <a:srgbClr val="ff9933"/>
                </a:solidFill>
                <a:latin typeface="Aharoni"/>
                <a:ea typeface="Aharoni"/>
              </a:rPr>
              <a:t>6</a:t>
            </a:r>
            <a:r>
              <a:rPr b="0" lang="en-US" sz="5400" spc="-1" strike="noStrike">
                <a:solidFill>
                  <a:srgbClr val="ff9933"/>
                </a:solidFill>
                <a:latin typeface="Aharoni"/>
                <a:ea typeface="Aharoni"/>
              </a:rPr>
              <a:t>. IT IS A SMALL AND QUITE COUNTRY IN THE PACIFIC OCEAN.</a:t>
            </a:r>
            <a:endParaRPr b="0" lang="en-US" sz="54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3071880"/>
            <a:ext cx="746748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1. New Zealand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2.The UK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3. The USA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1</a:t>
            </a:r>
            <a:r>
              <a:rPr b="0" lang="ru-RU" sz="6000" spc="-1" strike="noStrike">
                <a:solidFill>
                  <a:srgbClr val="ff9933"/>
                </a:solidFill>
                <a:latin typeface="Aharoni"/>
                <a:ea typeface="Aharoni"/>
              </a:rPr>
              <a:t>7</a:t>
            </a: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.IT IS THE BIGGEST ISLAND AND THE SMALLEST CONTINENT.</a:t>
            </a:r>
            <a:endParaRPr b="0" lang="en-US" sz="6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3071880"/>
            <a:ext cx="746748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1. The USA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2.The UK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3. Australia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1</a:t>
            </a:r>
            <a:r>
              <a:rPr b="0" lang="ru-RU" sz="6000" spc="-1" strike="noStrike">
                <a:solidFill>
                  <a:srgbClr val="ff9933"/>
                </a:solidFill>
                <a:latin typeface="Aharoni"/>
                <a:ea typeface="Aharoni"/>
              </a:rPr>
              <a:t>8</a:t>
            </a: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.WHAT IS THE CAPITAL OF AUSTRALIA?</a:t>
            </a:r>
            <a:endParaRPr b="0" lang="en-US" sz="6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Wellington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Canberra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3. Ottawa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entury Schoolbook"/>
              </a:rPr>
              <a:t>1. HOW MANY STATES ARE THERE IN THE USA</a:t>
            </a:r>
            <a:r>
              <a:rPr b="1" lang="ru-RU" sz="5400" spc="-1" strike="noStrike">
                <a:solidFill>
                  <a:srgbClr val="ff9933"/>
                </a:solidFill>
                <a:latin typeface="Century Schoolbook"/>
              </a:rPr>
              <a:t>?</a:t>
            </a:r>
            <a:endParaRPr b="0" lang="en-US" sz="54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258560" y="2707920"/>
            <a:ext cx="7427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1)</a:t>
            </a: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48</a:t>
            </a: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2) 50</a:t>
            </a: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3) 51</a:t>
            </a: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4) 52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33"/>
                </a:solidFill>
                <a:latin typeface="Century Schoolbook"/>
              </a:rPr>
              <a:t>19</a:t>
            </a:r>
            <a:r>
              <a:rPr b="0" lang="en-US" sz="4800" spc="-1" strike="noStrike">
                <a:solidFill>
                  <a:srgbClr val="ff9933"/>
                </a:solidFill>
                <a:latin typeface="Century Schoolbook"/>
              </a:rPr>
              <a:t>.THIS COUNTRY IS SOMETIMES CALLED THE </a:t>
            </a:r>
            <a:r>
              <a:rPr b="0" lang="ru-RU" sz="4800" spc="-1" strike="noStrike">
                <a:solidFill>
                  <a:srgbClr val="ff9933"/>
                </a:solidFill>
                <a:latin typeface="Century Schoolbook"/>
              </a:rPr>
              <a:t>«</a:t>
            </a:r>
            <a:r>
              <a:rPr b="0" lang="en-US" sz="4800" spc="-1" strike="noStrike">
                <a:solidFill>
                  <a:srgbClr val="ff9933"/>
                </a:solidFill>
                <a:latin typeface="Century Schoolbook"/>
              </a:rPr>
              <a:t>LUCKY COUNTRY</a:t>
            </a:r>
            <a:r>
              <a:rPr b="0" lang="ru-RU" sz="4800" spc="-1" strike="noStrike">
                <a:solidFill>
                  <a:srgbClr val="ff9933"/>
                </a:solidFill>
                <a:latin typeface="Century Schoolbook"/>
              </a:rPr>
              <a:t>»</a:t>
            </a:r>
            <a:r>
              <a:rPr b="0" lang="en-US" sz="4800" spc="-1" strike="noStrike">
                <a:solidFill>
                  <a:srgbClr val="ff9933"/>
                </a:solidFill>
                <a:latin typeface="Century Schoolbook"/>
              </a:rPr>
              <a:t>.</a:t>
            </a:r>
            <a:endParaRPr b="0" lang="en-US" sz="48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857320"/>
            <a:ext cx="7467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1. The USA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.The UK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3.  Australia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2</a:t>
            </a:r>
            <a:r>
              <a:rPr b="0" lang="ru-RU" sz="6000" spc="-1" strike="noStrike">
                <a:solidFill>
                  <a:srgbClr val="ff9933"/>
                </a:solidFill>
                <a:latin typeface="Aharoni"/>
                <a:ea typeface="Aharoni"/>
              </a:rPr>
              <a:t>0</a:t>
            </a:r>
            <a:r>
              <a:rPr b="0" lang="en-US" sz="6000" spc="-1" strike="noStrike">
                <a:solidFill>
                  <a:srgbClr val="ff9933"/>
                </a:solidFill>
                <a:latin typeface="Aharoni"/>
                <a:ea typeface="Aharoni"/>
              </a:rPr>
              <a:t>.WHAT IS THE WORLD`S SEVENTH BIGGEST CITY?</a:t>
            </a:r>
            <a:endParaRPr b="0" lang="en-US" sz="6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London.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New York.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Ottaw</a:t>
            </a:r>
            <a:r>
              <a:rPr b="0" i="1" lang="en-US" sz="6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entury Schoolbook"/>
              </a:rPr>
              <a:t>2.HOW MANY STRIPES ARE THERE ON THE AMERICAN FLAG</a:t>
            </a:r>
            <a:r>
              <a:rPr b="1" lang="ru-RU" sz="5400" spc="-1" strike="noStrike">
                <a:solidFill>
                  <a:srgbClr val="ff9933"/>
                </a:solidFill>
                <a:latin typeface="Century Schoolbook"/>
              </a:rPr>
              <a:t>?</a:t>
            </a:r>
            <a:endParaRPr b="0" lang="en-US" sz="54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49192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63280" y="2852640"/>
            <a:ext cx="69231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13 </a:t>
            </a:r>
            <a:r>
              <a:rPr b="1" lang="en-GB" sz="5400" spc="-1" strike="noStrike">
                <a:solidFill>
                  <a:srgbClr val="000000"/>
                </a:solidFill>
                <a:latin typeface="Century Schoolbook"/>
              </a:rPr>
              <a:t>stripes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0 </a:t>
            </a:r>
            <a:r>
              <a:rPr b="1" lang="en-GB" sz="5400" spc="-1" strike="noStrike">
                <a:solidFill>
                  <a:srgbClr val="000000"/>
                </a:solidFill>
                <a:latin typeface="Century Schoolbook"/>
              </a:rPr>
              <a:t>stripes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0 </a:t>
            </a:r>
            <a:r>
              <a:rPr b="1" lang="en-GB" sz="5400" spc="-1" strike="noStrike">
                <a:solidFill>
                  <a:srgbClr val="000000"/>
                </a:solidFill>
                <a:latin typeface="Century Schoolbook"/>
              </a:rPr>
              <a:t>stripes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entury Schoolbook"/>
              </a:rPr>
              <a:t>3. HOW MANY STARS ARE THERE ON THE AMERICAN FLAG</a:t>
            </a:r>
            <a:r>
              <a:rPr b="1" lang="ru-RU" sz="4900" spc="-1" strike="noStrike">
                <a:solidFill>
                  <a:srgbClr val="ff9933"/>
                </a:solidFill>
                <a:latin typeface="Century Schoolbook"/>
              </a:rPr>
              <a:t>?</a:t>
            </a:r>
            <a:endParaRPr b="0" lang="en-US" sz="49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987640" y="2708280"/>
            <a:ext cx="43927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48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1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2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9933"/>
                </a:solidFill>
                <a:latin typeface="Century Schoolbook"/>
              </a:rPr>
              <a:t>4. WHERE IS THE STATUE OF LIBERTY SITUATED</a:t>
            </a:r>
            <a:r>
              <a:rPr b="1" lang="ru-RU" sz="4300" spc="-1" strike="noStrike">
                <a:solidFill>
                  <a:srgbClr val="ff9933"/>
                </a:solidFill>
                <a:latin typeface="Century Schoolbook"/>
              </a:rPr>
              <a:t>?</a:t>
            </a:r>
            <a:endParaRPr b="0" lang="en-US" sz="43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000" y="1988640"/>
            <a:ext cx="53989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en-GB" sz="3600" spc="-1" strike="noStrike">
                <a:solidFill>
                  <a:srgbClr val="000000"/>
                </a:solidFill>
                <a:latin typeface="Century Schoolbook"/>
              </a:rPr>
              <a:t>in Los-Angel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 – </a:t>
            </a:r>
            <a:r>
              <a:rPr b="1" lang="en-GB" sz="3600" spc="-1" strike="noStrike">
                <a:solidFill>
                  <a:srgbClr val="000000"/>
                </a:solidFill>
                <a:latin typeface="Century Schoolbook"/>
              </a:rPr>
              <a:t>in New Yor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3. – </a:t>
            </a:r>
            <a:r>
              <a:rPr b="1" lang="en-GB" sz="3600" spc="-1" strike="noStrike">
                <a:solidFill>
                  <a:srgbClr val="000000"/>
                </a:solidFill>
                <a:latin typeface="Century Schoolbook"/>
              </a:rPr>
              <a:t>in San Francisc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Статуя Свободы обрез"/>
          <p:cNvPicPr/>
          <p:nvPr/>
        </p:nvPicPr>
        <p:blipFill>
          <a:blip r:embed="rId1"/>
          <a:stretch/>
        </p:blipFill>
        <p:spPr>
          <a:xfrm>
            <a:off x="5940360" y="1773360"/>
            <a:ext cx="2795760" cy="4895640"/>
          </a:xfrm>
          <a:prstGeom prst="rect">
            <a:avLst/>
          </a:prstGeom>
          <a:ln w="93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6" descr=""/>
          <p:cNvPicPr/>
          <p:nvPr/>
        </p:nvPicPr>
        <p:blipFill>
          <a:blip r:embed="rId1"/>
          <a:stretch/>
        </p:blipFill>
        <p:spPr>
          <a:xfrm>
            <a:off x="6443640" y="2203560"/>
            <a:ext cx="2589120" cy="28810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ff9933"/>
                </a:solidFill>
                <a:latin typeface="Century Schoolbook"/>
              </a:rPr>
              <a:t>5. WHO DISCOVERED AMERICA</a:t>
            </a:r>
            <a:r>
              <a:rPr b="1" lang="ru-RU" sz="4900" spc="-1" strike="noStrike">
                <a:solidFill>
                  <a:srgbClr val="ff9933"/>
                </a:solidFill>
                <a:latin typeface="Century Schoolbook"/>
              </a:rPr>
              <a:t>?</a:t>
            </a:r>
            <a:endParaRPr b="0" lang="en-US" sz="4900" spc="-1" strike="noStrike">
              <a:solidFill>
                <a:srgbClr val="696464"/>
              </a:solidFill>
              <a:latin typeface="Century Schoolbook"/>
            </a:endParaRPr>
          </a:p>
        </p:txBody>
      </p:sp>
      <p:graphicFrame>
        <p:nvGraphicFramePr>
          <p:cNvPr id="367" name="Object 5"/>
          <p:cNvGraphicFramePr/>
          <p:nvPr/>
        </p:nvGraphicFramePr>
        <p:xfrm>
          <a:off x="179280" y="1521000"/>
          <a:ext cx="2768760" cy="33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521000"/>
                    <a:ext cx="2768760" cy="331128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George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2.  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Abraham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3.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Christof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Washington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Linkoln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Columbu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7" descr="Линкольн Авраам"/>
          <p:cNvPicPr/>
          <p:nvPr/>
        </p:nvPicPr>
        <p:blipFill>
          <a:blip r:embed="rId4"/>
          <a:stretch/>
        </p:blipFill>
        <p:spPr>
          <a:xfrm>
            <a:off x="3059280" y="1700280"/>
            <a:ext cx="2917800" cy="3384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ff9933"/>
                </a:solidFill>
                <a:latin typeface="Century Schoolbook"/>
              </a:rPr>
              <a:t>6. WHAT IS THE CAPITAL OF THE USA</a:t>
            </a:r>
            <a:r>
              <a:rPr b="1" lang="ru-RU" sz="5200" spc="-1" strike="noStrike">
                <a:solidFill>
                  <a:srgbClr val="ff9933"/>
                </a:solidFill>
                <a:latin typeface="Century Schoolbook"/>
              </a:rPr>
              <a:t>? </a:t>
            </a:r>
            <a:endParaRPr b="0" lang="en-US" sz="52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1989000"/>
            <a:ext cx="7643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entury Schoolbook"/>
              </a:rPr>
              <a:t>New York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entury Schoolbook"/>
              </a:rPr>
              <a:t>San-Francisco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entury Schoolbook"/>
              </a:rPr>
              <a:t>Washington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9933"/>
                </a:solidFill>
                <a:latin typeface="Century Schoolbook"/>
              </a:rPr>
              <a:t>7. ROSE IS THE SYMBOL OF</a:t>
            </a:r>
            <a:r>
              <a:rPr b="0" lang="ru-RU" sz="4300" spc="-1" strike="noStrike">
                <a:solidFill>
                  <a:srgbClr val="ff9933"/>
                </a:solidFill>
                <a:latin typeface="Century Schoolbook"/>
              </a:rPr>
              <a:t>– …</a:t>
            </a:r>
            <a:r>
              <a:rPr b="0" lang="ru-RU" sz="2700" spc="-1" strike="noStrike">
                <a:solidFill>
                  <a:srgbClr val="ff9933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23640" y="1700280"/>
            <a:ext cx="382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entury Schoolbook"/>
              </a:rPr>
              <a:t>Scotlan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entury Schoolbook"/>
              </a:rPr>
              <a:t>Englan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entury Schoolbook"/>
              </a:rPr>
              <a:t>Wels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4" descr="Роза"/>
          <p:cNvPicPr/>
          <p:nvPr/>
        </p:nvPicPr>
        <p:blipFill>
          <a:blip r:embed="rId1"/>
          <a:stretch/>
        </p:blipFill>
        <p:spPr>
          <a:xfrm>
            <a:off x="4211640" y="1700280"/>
            <a:ext cx="43149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9933"/>
                </a:solidFill>
                <a:latin typeface="Century Schoolbook"/>
              </a:rPr>
              <a:t>8. WHAT IS THE CAPITAL OF THE UK?</a:t>
            </a:r>
            <a:endParaRPr b="0" lang="en-US" sz="43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12400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entury Schoolbook"/>
              </a:rPr>
              <a:t>Oxford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d3481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entury Schoolbook"/>
              </a:rPr>
              <a:t>London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1" lang="en-GB" sz="4800" spc="-1" strike="noStrike">
                <a:solidFill>
                  <a:srgbClr val="000000"/>
                </a:solidFill>
                <a:latin typeface="Century Schoolbook"/>
              </a:rPr>
              <a:t>Glasgo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8:52:23Z</dcterms:created>
  <dc:creator>Пользователь</dc:creator>
  <dc:description/>
  <dc:language>en-US</dc:language>
  <cp:lastModifiedBy>DNA7 X64</cp:lastModifiedBy>
  <dcterms:modified xsi:type="dcterms:W3CDTF">2015-01-08T11:56:23Z</dcterms:modified>
  <cp:revision>45</cp:revision>
  <dc:subject/>
  <dc:title>Викторина </dc:title>
</cp:coreProperties>
</file>