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19E92-5827-420A-98C6-6BB00C86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E539D-6564-439C-9F4D-482E7CD9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D8334-8761-49C9-B984-22C7804F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3C77B-BA4D-4F18-B438-56416ED9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A7EB-8723-4662-BF7F-1ECC7D3A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A1C2-0464-4272-9B0D-6DE78B51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279C-2FD4-49E0-9B9D-7D63171D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AD13-161C-43BA-B9C5-5A9F7363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904F-B7A2-4585-8D6D-B685576C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880D-9413-436C-B651-B42B451E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61F5-A8E0-4850-830B-9D3F0D56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0B2DF-EB30-4F58-B9BC-B48C6206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04FF-598C-4DDF-BB4A-6B4B4A2B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C45B-C6F5-48A5-B1F1-FC72A219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90EE-A465-4BA1-8E95-95DCA6E5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A7D4-D777-4A25-BBAA-337BFE53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0975-C2DD-46A0-8865-91EDB860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874EB-3CB8-4621-A5BC-893C7DD5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EC49C-CCE6-4231-B278-BD1E2E2F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F4DE3-A2BD-47E1-B8F6-8268C6AB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181D3-1112-4E85-A50D-0EEE7D5B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E2F5-FB38-4A96-B886-3B2CBC22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32392-8A87-4C15-A36D-E28641F9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F4490-EC35-4F82-BEA0-A8B9B0CC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FB6C-0D54-48C2-A471-BED4C525119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939B-8D3F-4BA5-8A02-E219E49C8EC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Антон Павлович Чехов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Этапы творчества и жизн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7432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готовил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ащийся МОУ СОШ №65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ончаров Евг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Чехов прислушался к этим советам. С 1887 года он всё меньше сотрудничал с юмористическими журналами; было прервано сотрудничество с 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Будильником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». Его рассказы становились всё длиннее и серьёзнее. О важных изменениях, происходивших тогда с Чеховым, говорит ещё и появившееся желание путешествовать. В том же, 1887 году он отправился в путешествие на юг, в родные места; позже он ездил по «гоголевским местам», в Крым, на Кавказ. Поездка на юг оживила воспоминания Чехова о проведённой там молодости и дала ему материал для 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Степи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», первого его произведения в толстом журнале — 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Северный вестник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 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ебют в таком журнале привлёк большое внимание критики, гораздо большее, чем к какому-либо предыдущему произведению Чехова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сле выхода «Степи» и «Скучной истории» внимание критики и читателей было приковано к каждому его новому произведению. 7(19) октября 1888 года он получает половинную Пушкинскую премию Академии наук за вышедший в предыдущем, 1887 году, третий сборник — «В сумерках». В соответствующем постановлении академической комиссии было написано, что «рассказы г. Чехова, хотя и не вполне удовлетворяют требованиям высшей художественной критики, представляют однако же выдающееся явление в нашей современной беллетристической литературе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конце 1880-х годов в манере Чехова появилась особенность, которую одни современники считали преимуществом, другие недостатком, — нарочитая бесстрастность описания, подчёркнутое отсутствие авторской оценки. Особенно этой чертой выделяются 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Спать хочется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», 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Бабы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» и 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Княгиня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»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ешение поехать именно на 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Сахалин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 было окончательно принято, очевидно, летом 1889 года, после обсуждения этого намерения с артисткой К. А. Каратыгиной, путешествовавшей по Сибири и Сахалину в конце 1870-х годов. Но Чехов долго скрывал это намерение даже от самых близких; сообщив о нём Каратыгиной, он попросил держать это в тайне. Раскрыл он эту тайну только в январе 1890-го, и естественно, это произвело большое впечатление на общество. Усиливалось это впечатление ещё и «внезапностью» принятого решения, ведь уже весной 1890-го Чехов отправился в путешествие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а Сахалин Чехов прибыл 11(23) июля. За несколько месяцев пребывания на нём Чехов общался с людьми, узнавал истории их жизней, причины ссылки и набирал богатый материал для своих замето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следующие 5 лет Чехов писал книгу 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Остров Сахалин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». Что касается художественного творчества, путешествие на Сахалин, по собственному признанию Чехова, оказало огромное влияние на все его последующие произвед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03848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 1890 по 1892 год, по возвращении в Москву из поездки по Сахалину, Чехов поселился в небольшом двухэтажном флигеле на 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Малой Дмитровке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 Здесь он работал над книгой «Остров Сахалин», рассказами «Попрыгунья», «Дуэль», «Палата № 6», а также встречался с писателями 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. Г. Короленко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Д. В. Григоровичем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. А. Гиляровским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П. Д. Боборыкиным,Д. С. Мережковским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 В. И. Немировичем-Данченко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 известными актёрами 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А. П. Ленским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 и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А. И. Южиным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 художником 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И. И. Левитаном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 Флигель сохранился до нашего времени и отмечен памятной доской с барельефом А. П. Чехо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5660640"/>
            <a:ext cx="40384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мик Чехова на Малой Дмитровк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43280" y="260280"/>
            <a:ext cx="4032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 1892 по 1899 годы Чехов проживал в подмосковном имении 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Мелихово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 где сейчас работает один из главных чеховских музеев. За годы 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мелиховского сидения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» было написано 42 произведения. Позднее Чехов много путешествовал по 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Европе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 Последние годы Чехов, у которого обострился 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туберкулёз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 для поправления здоровья, постоянно живёт в своём доме под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Ялтой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 лишь изредка приезжая в 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Москву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 где его жена  артистка 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Ольга Леонардовна Книппер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 занимает одно из выдающихся мест в известной труппе московского «Литературно-художественного кружка»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5516640"/>
            <a:ext cx="403848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ехов с Ольгой Книппер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788000" y="476280"/>
            <a:ext cx="352908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Летом 1904 года Чехов выехал на курорт в Германию. Из-за резкого обострения болезни, с которой ему не удалось справиться писатель скончался 2 (15) июля 1904 года в Баденвайлере, Германия. Развязка наступила в ночь с 1 на 2 июля 1904 года. По свидетельству жены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Ольги Леонардовны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, в начале ночи Чехов проснулся и «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первый раз в жизни сам попросил послать за доктором. После он велел дать шампанского. Антон Павлович сел и как-то значительно, громко сказал доктору по-немецки (он очень мало знал по-немецки): „Ich sterbe“. Потом повторил для студента или для меня по-русски: „Я умираю“. Потом взял бокал, повернул ко мне лицо, улыбнулся своей удивительной улыбкой, сказал: „Давно я не пил шампанского…“, спокойно выпил всё до дна, тихо лег на левый бок и вскоре умолкнул навсегд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5013360"/>
            <a:ext cx="403848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«Антон Павлович в Томске глазами пьяного мужика, лежащего в канаве и ни разу не читавшего 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„Каштанки“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». Антон Чехов был в Томске проездом на остров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ахалин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 Отзывался о городе неодобрительн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03640" y="5084640"/>
            <a:ext cx="3678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амятник Чехову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 Серпухове, 2009 год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4075200" cy="4248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932360" y="620640"/>
            <a:ext cx="37432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4464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гила Чехова на Новодевичье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ладбище в 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8320" y="5373360"/>
            <a:ext cx="403848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амятник Чехову в Баденвайлер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032360" cy="4680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3799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воеобразие пьес Чехова замечалось его современниками при первых постановках. Сначала оно воспринималось как неумение Чехова справиться с задачей последовательного драматического движения. Рецензенты говорили об отсутствии «сценичности», о «растянутости», о «недостатке действия», о «беспорядочности диалога», о «разбросанности композиции» и слабости фабулы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еатральная критика всё больше упрекала Чехова в том, что он вводит в свои пьесы излишние подробности быта и тем самым нарушает все законы сценического действия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днако для самого Антона Павловича воспроизведение сферы быта было непременным условием — иначе для него терялся смысл всего замысла. Чехов говорил: «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ребуют, чтобы были герой, героиня сценически эффектны. Но ведь в жизни не каждую минуту стреляются, вешаются, объясняются в любви. И не каждую минуту говорят умные вещи. Они больше едят, пьют, волочатся, говорят глупости. И вот надо, чтобы это было видно на сцене. Надо создать такую пьесу, где бы люди приходили, уходили, обедали, разговаривали о погоде, играли в винт, но не потому, что так нужно автору, а потому, что так происходит в действительной жизни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драматургии Чехова, вопреки всем традициям, события отводятся на периферию как кратковременная частность, а обычное, ровное, ежедневно повторяющееся, для всех привычное составляет главный массив всего содержания пьесы. Практически все пьесы Чехова построены на подробном описании быта, посредством которого до читателей доносятся особенности чувств, настроений, характеров и взаимоотношений героев. Подбор бытовых линий осуществляется по принципу их значимости в общем эмоциональном содержании жизни.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редко Чехов использует так называемые «случайные» реплики персонажей. При этом диалог непрерывно рвётся, ломается и путается в каких-то совсем посторонних и ненужных мелочах. Однако подобные диалоги и реплики в общем сценическом контексте у Чехова осуществляют своё назначение не прямым предметным смыслом своего содержания, а тем жизненным самочувствием, какое в них проявляется.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К. С. Станиславский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л. И. Немирович-Данченко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 заметили наиболее существенный принцип в драматическом движении чеховских пьес, так называемое «подводное течение».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ак и всякий писатель-юморист, Чехов пользовался десятками всевозможных 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псевдонимов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 До сих пор они раскрыты далеко не полностью, поскольку и сам Чехов при подготовке собрания сочинений для 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А. Ф. Маркс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 не мог припомнить принадлежности всех своих ранних рассказов. Функция псевдонима юмориста состояла не столько в сокрытии подлинного авторства, сколько в забавлении читателя, желании его заинтриговать (отсюда вариативность, нарочитая запутанность — читатель должен был попытаться сам угадать авторство рассказа). Зачастую псевдоним — необходимый элемент композиции конкретного рассказа, часть литературного фарса и не может быть правильно раскрыт вне его контекста. В редких случаях подоплёка того или иного псевдонима Чехова могла быть известна лишь узкому кругу его знакомых и требовала дополнительной расшифровки. Ниже приводится список из 42 псевдонимов писателя, известных чеховедению к концу прошлого века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Биограф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5122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.П.Чехов родился в г.Таганроге 17 (29) января 1806 г. Раннее детство Антона протекало в бесконечных церковных праздниках, именинах. В будние дни после школы братья бегали рыбачить или ловить щеглов и чижей. Сначала Чехов учился в греческой школе в Таганроге. Содержащий школу грек заставлял зазубривать уроки, бил учеников линейкой, ставил в угол на колени на крупную соль. В 8 лет, после двух лет учёбы, Чехов поступает в таганрогскую гимназию (ныне Гимназия № 2 им. А. П. Чехова). Мужская классическая гимназия была старейшим учебным заведением на юге России (основана в 1806 г.) и давала солидное по тем временам образование и воспитани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726160" y="1628640"/>
            <a:ext cx="2960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Чехов в Мелихове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27370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А. П.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А. П.Ч-в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Антош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Антоша Ч.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Антоша Ч.***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Антоша Чехонте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А-н Ч-те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Ан. Ч.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Ан. Ч-е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Анче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Ан. Че-в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А. Ч.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А.Ч-в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А.Че-в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А Чехонте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Г.Балдастов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Макар Балдастов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Брат моего брат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Врач без пациентов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Вспыльчивый человек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Гайка № 6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333360"/>
            <a:ext cx="403848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Гайка № 9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Грач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Дон Антонио Чехонте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Дяденьк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Кисляев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М.Ковров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Крапив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Лаэрт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Прозаический поэт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Рувер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Рувер и Ревур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Улисс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Ц.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Ч. Б. С.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Ч. без с.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Человек без селезён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Чехонте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Ч.Хонте, А.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Шампанский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въ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37696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чий дом писателя в Таганрог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Отец - Павел Егорович Чехов был весьма интересной личностью. Он имел в Таганроге бакалейную лавку, будучи купцом 3-й гильдии, но занимался торговлей без особого рвения, больше уделяя внимание посещению церковных служб, пению и общественным делам. Обстановка в доме Чеховых была традиционно - патриархальной: дети воспитывались в строгости, часто применялись и телесные наказания, бездельничать никому не дозволялось. Помимо учебы в гимназии, сыновьям Павла Егоровича приходилось иногда замещать отца в лавке, конечно в ущерб занятиям. По вечерам пели хором. Отец прекрасно играл на скрипке, пел, Маша аккомпанировала на фортепиано, в общем, устраивались целые музыкальные семейные представлени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5661000"/>
            <a:ext cx="40384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оят: Иван, Антон, Николай, Александр и Митрофан Егорович. Сидят: Михаил, Мария, Павел Егорович, Евгения Яковлевна, Людмила Павловна и её сын Георгий. 1874 го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0508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ть писателя, Евгения Яковлевна Чехова (1835—1919) — тихая женщина, стоически терпевшая деспотизм мужа и годы нужды. Она не любила читать и писать, всю жизнь жила интересами семьи, переживая, в первую очередь, за своих детей. Она пережила четырёх из семи своих детей — самой первой умерла дочь Евгения (1869—1871) в возрасте двух лет. Антон Чехов говорил, что «Талант в нас со стороны отца, а душа со стороны матер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кончившие восемь классов гимназии молодые люди могли без экзаменов поступить в любой российский университет или поехать учиться за границу. Гимназия сформировала у Чехова отвращение к лицемерию и фальши. Здесь формировалось его видение мира, любовь к книгам, знаниям и театру. Здесь он получил свой первый литературный псевдоним «Чехонте», которым его наградил учитель Закона Божьего Фёдор Покровский. Здесь начинались его первые литературные и сценические опыты. Музыка и книги пробуждали в юном Антоне Чехове стремление к творчеству. Большую роль в этом сыграл таганрогский театр, основанный в 1827 году. Впервые в театре Антон побывал в 13 лет, посмотрел оперетту Жака Оффенбаха «Прекрасная Елена» и вскоре стал страстным поклонником театра. Позднее в одном из своих писем Чехов скажет: «Театр мне давал когда-то много хорошего… Прежде для меня не было большего наслаждения как сидеть в театре…» Не случайно герои его первых произведений, таких как «Трагик», «Комик», «Бенефис», «Недаром курица пела», были актёрами и актриса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Чехов-гимназист издавал юмористические журналы, придумывал подписи к рисункам, писал юмористические рассказы, сценки. Первая драма «Безотцовщина» была написана 18-летним Чеховым в период учёбы в гимназии. Гимназический период Чехова был важным периодом созревания и формирования его личности, развития её духовных основ. Гимназические годы дали Чехову огромный материал для писательской работы. Самые типичные и колоритные фигуры появятся позже на страницах его произведений. Возможно, одной из таких фигур был и его учитель математики Эдмунд Дзержинский — отец будущего первого председателя ВЧК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 1879 году он закончил гимназию в Таганроге. В этом же году он переехал к родителям в Москву и поступил на медицинский факультет Московского университета, где учился у известных профессоров: Николая Склифосовского, Григория Захарьина и други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этом же году брат Антона Иван получил место учителя в подмосковном городе Воскресенске. Ему была выделена большая квартира, в которой могла бы разместиться целая семья. Чеховы, жившие в Москве тесно, приезжали на лето к Ивану в Воскресенск. Там в 1881 году Антон Чехов познакомился с доктором П. А. Архангельским, заведующим Воскресенской лечебницы (Чикинской больницы). С 1882 года, будучи студентом, он уже помогал врачам больницы при приёме пациентов. В 1884 году Чехов окончил курс университета и начал работать уездным врачом в Чикинской больнице. По воспоминаниям П. А. Архангельского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нтон Павлович производил работу не спеша, иногда в его действиях выражалась как бы неуверенность; но всё он делал с вниманием и видимой любовью к делу, особенно с любовью к тому больному, который проходил через его руки. &lt;…&gt; Душевное состояние больного всегда привлекало особенное внимание Антона Павловича, и наряду с обычными медикаментами он придавал огромное значение воздействию на психику больного со стороны врача и окружающей среды.» Затем он работал в Звенигороде, где некоторое время заведовал больниц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 1880 году, будучи студентом первого курса, Чехов поместил в журнале 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Стрекоз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» рассказ 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Письмо к учёному соседу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» и юмореску 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Что чаще всего встречается в романах, повестях и т. п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». Это был его дебют в печа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последующие годы Чехов писал рассказы, фельетоны, юморески — «мелочишки» под псевдонимами «Антоша Чехонте» и «Человек без селезёнки» или их вариантами, или совсем без подписи, в изданиях «малой прессы», преимущественно юмористических: московских журналах 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Будильник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Зритель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» и др. и в петербургских юмористических еженедельниках 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Осколки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», 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Стрекоз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». Чехов сотрудничал с 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Петербургской газетой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» (с 1884 г., с перерывами), с суворинской газетой 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Новое время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» (1886—1893 гг.) и с 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Русскими ведомостями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» (1893—1899 гг.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885—86 годы — период расцвета Чехова как «беллетриста-миниатюриста» — автора коротких, в основном юмористических рассказов. В то время, по его собственному признанию, он писал по рассказу в день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временники считали, что он и останется в этом жанре; но весной 1886 года он получил письмо от известного русского литератора Дмитрия Григоровича, где тот критиковал Чехова за то, что он тратит свой талант на «мелочишки».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14:36:40Z</dcterms:created>
  <dc:creator>ЖЕНЁК</dc:creator>
  <dc:description/>
  <dc:language>en-US</dc:language>
  <cp:lastModifiedBy>ЖЕНЁК</cp:lastModifiedBy>
  <dcterms:modified xsi:type="dcterms:W3CDTF">2011-05-22T15:03:29Z</dcterms:modified>
  <cp:revision>4</cp:revision>
  <dc:subject/>
  <dc:title>Антон Павлович Чех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