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CEF-D62B-40F4-BC4D-8AE13CF3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C7B-AA38-49A3-8CDB-F0F18295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917-29A9-4389-BB9B-BD81153D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662-D799-447F-9BE8-D7F02B22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E03A-FFAD-46EC-BEC0-3AB671DC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1B74-CDDC-49D5-ABA1-580B5CB9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3C97-023E-444C-898A-8E4B35E5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8921-35B9-4B06-A992-33D3BBB6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FFFE-0DA6-4ADB-BB31-3C29DB8A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05BC-895F-4477-86E2-2B69C1F3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272F-D125-488B-A119-29F04FC2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6EB-BB9B-4555-95F0-46B76B89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454D-C8B1-4020-B195-ACABEAA2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2C71-AE51-48A7-AB81-3DA076C3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5935-31B5-4D80-9216-100C660B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8DE5-EC6D-48FA-A7DB-9E0DD794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43E0-1D47-4DC6-B7A3-4762F6F7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EB2-3406-4159-87A9-3A58D63A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21A-1FF5-4B6A-86A8-8D09575B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E15-A212-4D5B-AC79-231FAB28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1E3-15A9-4670-B7A7-3621A2E8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D6D-05FB-4697-97E7-74F3BA83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1FD-E8ED-470F-9FFD-F4B3518A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C5B-16EA-44B2-812A-A9EAD926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2E9E-981E-45C5-8F30-061C2F53D7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9336-4D12-4F0E-863A-BE38949252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840" y="0"/>
            <a:ext cx="6114960" cy="595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Она располагается под нами.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Там, очевидно,  ходят вверх ногами,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 Там наизнанку вывернутый год,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Там расцветают в октябре сады,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Там в январе, а не в июле лето,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Там протекают реки без воды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 (Они в пустыне пропадают где-то).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Там в зарослях следы бескрылых птиц,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Там кошкам в  пищу достаются змеи,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Рождаются  зверята  из  яиц,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И там собаки лаять не умеют,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Деревья сами лезут из коры.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Там  кролики  страшней, чем наводненье.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                                                              Г.  Усова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Users\1\Downloads\география.gif"/>
          <p:cNvPicPr/>
          <p:nvPr/>
        </p:nvPicPr>
        <p:blipFill>
          <a:blip r:embed="rId1"/>
          <a:stretch/>
        </p:blipFill>
        <p:spPr>
          <a:xfrm>
            <a:off x="133200" y="853920"/>
            <a:ext cx="25178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4"/>
          <p:cNvSpPr/>
          <p:nvPr/>
        </p:nvSpPr>
        <p:spPr>
          <a:xfrm>
            <a:off x="1857240" y="428760"/>
            <a:ext cx="5929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подняться, потянуть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– нагнуться, разогнуть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– в ладоши три хлопк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ю три кивк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 – руки шир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– руками помах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 – на место тихо се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5"/>
          <p:cNvSpPr/>
          <p:nvPr/>
        </p:nvSpPr>
        <p:spPr>
          <a:xfrm>
            <a:off x="785880" y="1000080"/>
            <a:ext cx="79293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Особенности рельефа мат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Что лежит в основе мат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Как называется литосферная пли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Как называется единственная горная система Австрал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Какие еще формы рельефа встречаются на матер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Какие полезные ископаемые распространены на матер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5"/>
          <p:cNvSpPr/>
          <p:nvPr/>
        </p:nvSpPr>
        <p:spPr>
          <a:xfrm>
            <a:off x="571680" y="642960"/>
            <a:ext cx="82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ение земной коры и рельеф мат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57160" y="1397160"/>
          <a:ext cx="7572600" cy="410364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и мат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ение земной к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ы релье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адная и центра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о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5"/>
          <p:cNvSpPr/>
          <p:nvPr/>
        </p:nvSpPr>
        <p:spPr>
          <a:xfrm>
            <a:off x="571680" y="642960"/>
            <a:ext cx="82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ение земной коры и рельеф мат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57160" y="1397160"/>
          <a:ext cx="7572600" cy="506556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и мат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ение земной к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ы релье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адная и центра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йская платф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я Песчаная Пустыня, Большая Пустыня Вик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о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 герцинской складчато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 Водораздельный Хр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642960" y="285840"/>
            <a:ext cx="7929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инквейн на тему «Австрал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ворческая работа, которая имеет короткую форму стихотвор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его из пяти нерифмованных ст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трока – одно существительное, выражающее главную т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рока – два прилагательных, выражающих главную мыс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ока – три глагола, описывающие действия в рамках 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рока -  фраза, несущая определенный смыс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строка – заключение в форме существительного (ассоциация с первым слов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1221120" y="1214280"/>
            <a:ext cx="705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27 изучить, подготовить расск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географическом положе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трал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/ карта Австралия (зад.1-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map_australia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2852640" y="4206960"/>
            <a:ext cx="216396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1\Desktop\кенгуру.jpg"/>
          <p:cNvPicPr/>
          <p:nvPr/>
        </p:nvPicPr>
        <p:blipFill>
          <a:blip r:embed="rId3"/>
          <a:stretch/>
        </p:blipFill>
        <p:spPr>
          <a:xfrm>
            <a:off x="633240" y="2494080"/>
            <a:ext cx="2586240" cy="2084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1\Desktop\4_Sydney.jpg"/>
          <p:cNvPicPr/>
          <p:nvPr/>
        </p:nvPicPr>
        <p:blipFill>
          <a:blip r:embed="rId4"/>
          <a:stretch/>
        </p:blipFill>
        <p:spPr>
          <a:xfrm>
            <a:off x="6278400" y="2494080"/>
            <a:ext cx="2481480" cy="194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1\Desktop\эвкалипт.JPG"/>
          <p:cNvPicPr/>
          <p:nvPr/>
        </p:nvPicPr>
        <p:blipFill>
          <a:blip r:embed="rId5"/>
          <a:stretch/>
        </p:blipFill>
        <p:spPr>
          <a:xfrm>
            <a:off x="5851440" y="4853160"/>
            <a:ext cx="2298960" cy="1723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7"/>
          <p:cNvSpPr/>
          <p:nvPr/>
        </p:nvSpPr>
        <p:spPr>
          <a:xfrm>
            <a:off x="2928960" y="1071720"/>
            <a:ext cx="53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428760"/>
            <a:ext cx="82152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 Этот край – самый любопытный на всем земном шаре! Его возникновение, растения, животные, климат – все это удивляло, удивляет и еще удивит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ая причудливая, самая нелогичная страна из всех когда – либо существовавших!..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юль Верн  «Дети капитана Гран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Самый…»  как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11" descr=""/>
          <p:cNvPicPr/>
          <p:nvPr/>
        </p:nvPicPr>
        <p:blipFill>
          <a:blip r:embed="rId1"/>
          <a:stretch/>
        </p:blipFill>
        <p:spPr>
          <a:xfrm>
            <a:off x="208080" y="96840"/>
            <a:ext cx="8942400" cy="1665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1\Desktop\карта австрал.jpg"/>
          <p:cNvPicPr/>
          <p:nvPr/>
        </p:nvPicPr>
        <p:blipFill>
          <a:blip r:embed="rId2"/>
          <a:stretch/>
        </p:blipFill>
        <p:spPr>
          <a:xfrm>
            <a:off x="1071720" y="1857240"/>
            <a:ext cx="692928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физико-географическим положением материка следует понима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материка по отношению к экватор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материка по отношению к нулевому меридиан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ие географические точки матер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моря и океаны омывают мате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жайшие материки и ост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Австралия на глобусе"/>
          <p:cNvPicPr/>
          <p:nvPr/>
        </p:nvPicPr>
        <p:blipFill>
          <a:blip r:embed="rId1"/>
          <a:stretch/>
        </p:blipFill>
        <p:spPr>
          <a:xfrm>
            <a:off x="324000" y="404640"/>
            <a:ext cx="8385120" cy="5589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156360" y="2924280"/>
            <a:ext cx="22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м. Йор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11° ю.ш. 142° в.д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940360" y="4149720"/>
            <a:ext cx="287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м.Байр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28° ю.ш. 153°в.д</a:t>
            </a:r>
            <a:r>
              <a:rPr b="0" i="1" lang="ru-RU" sz="20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348000" y="386064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м. Стип-Пои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26° ю.ш. 113° в.д.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211640" y="50133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м. Саут-Ист – Пой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39° ю.ш. 147° в.д.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4788000" y="2492280"/>
            <a:ext cx="20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торое пла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А.Тасм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map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50096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е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сма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60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65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ланд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еплаватель, прославившийся своими открытиям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240px-AbelTasma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14280" y="1714680"/>
            <a:ext cx="62154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жеймс Кук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— британский первооткрыват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300px-Captainjamescookportrait"/>
          <p:cNvPicPr/>
          <p:nvPr/>
        </p:nvPicPr>
        <p:blipFill>
          <a:blip r:embed="rId1"/>
          <a:stretch/>
        </p:blipFill>
        <p:spPr>
          <a:xfrm>
            <a:off x="1643040" y="1357200"/>
            <a:ext cx="5643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1:03:12Z</dcterms:created>
  <dc:creator>Марина</dc:creator>
  <dc:description/>
  <dc:language>en-US</dc:language>
  <cp:lastModifiedBy>1</cp:lastModifiedBy>
  <dcterms:modified xsi:type="dcterms:W3CDTF">2014-12-20T03:23:26Z</dcterms:modified>
  <cp:revision>37</cp:revision>
  <dc:subject/>
  <dc:title>   Она располагается под нами.  Там, очевидно,  ходят вверх ногами,  Там наизнанку вывернутый год,  Там расцветают в октябре сады,  Там в октябре, а не в июле лето,  Там протекают реки без воды  (Они в пустыне пропадают где-то).  Там в зарослях следы бескрылых птиц,  Там кошкам в  пищу достаются змеи,  Рождаются  зверята  из  яиц,  И там собаки лаять не умеют,  Деревья сами лезут из коры.  Там  кролики  страшней, чем наводненье.                                                               Г.  Усова </dc:title>
</cp:coreProperties>
</file>