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7F4-536F-4B1A-864E-2F3DD28A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1F2-5F25-4A23-B08E-3A4620F1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417-1B67-49D4-8272-E2BDC325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24F-8723-4B6D-9715-2A5C5930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B13-1223-4F1E-BA73-852B4A5F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3C4-0392-4C89-B062-CFBB4C4D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666-DFF9-4D7F-8FA4-0C9ECBC7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DF1-DE9E-4F0D-A7C4-40AA4B04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C33-38C1-438C-8587-E0722684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FCA-6A26-4C01-BC6D-9E1FA97B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449-5EAE-4255-B759-14B3A7BB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6EF-6A9F-4A4E-8D14-CDE924D0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543F-17BD-484C-A1C2-E38811E755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826920" y="620640"/>
            <a:ext cx="7272360" cy="5135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560" y="786960"/>
            <a:ext cx="7272360" cy="14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cc"/>
                </a:solidFill>
                <a:latin typeface="Arial"/>
              </a:rPr>
              <a:t>БРЕЙН - РИН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99640" y="3860280"/>
            <a:ext cx="7272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Arial"/>
              </a:rPr>
              <a:t>Презентация к математической иг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Arial"/>
              </a:rPr>
              <a:t>Подготовила Поподополо Н.Ю.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Arial"/>
              </a:rPr>
              <a:t>ГБОУ СОШ № 354 г. Санкт – Петербур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Arial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4"/>
          <p:cNvSpPr/>
          <p:nvPr/>
        </p:nvSpPr>
        <p:spPr>
          <a:xfrm>
            <a:off x="8317080" y="630864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1700280"/>
            <a:ext cx="410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Какова  сумма  углов,  отмеченных  на  рисун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684360" y="5300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Вер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39640" y="620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219640" y="515772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360</a:t>
            </a:r>
            <a:r>
              <a:rPr b="1" i="1" lang="ru-RU" sz="4800" spc="-1" strike="noStrike" baseline="30000">
                <a:solidFill>
                  <a:srgbClr val="cc0099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94F0DE90"/>
          <p:cNvPicPr/>
          <p:nvPr/>
        </p:nvPicPr>
        <p:blipFill>
          <a:blip r:embed="rId2"/>
          <a:stretch/>
        </p:blipFill>
        <p:spPr>
          <a:xfrm>
            <a:off x="4500720" y="1268280"/>
            <a:ext cx="4356000" cy="3100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8317080" y="630864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24000" y="105264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Параллелепипед  с  ребрами  4,  6  и  9  составлен  из  кубиков  с  ребром 1. Сколько маленьких  кубиков надо удалить, чтобы  убрать  весь  внешний  слой толщиной в 1 куби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95280" y="4869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Вер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95280" y="333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95280" y="4724280"/>
            <a:ext cx="8497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                     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160 </a:t>
            </a: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кубиков  </a:t>
            </a:r>
            <a:r>
              <a:rPr b="1" i="1" lang="ru-RU" sz="4400" spc="-1" strike="noStrike">
                <a:solidFill>
                  <a:srgbClr val="cc0099"/>
                </a:solidFill>
                <a:latin typeface="Arial"/>
              </a:rPr>
              <a:t>(9</a:t>
            </a:r>
            <a:r>
              <a:rPr b="1" i="1" lang="ru-RU" sz="4400" spc="-1" strike="noStrike">
                <a:solidFill>
                  <a:srgbClr val="cc0099"/>
                </a:solidFill>
                <a:latin typeface="Arial"/>
                <a:ea typeface="Arial"/>
              </a:rPr>
              <a:t>∙6∙4 - 7∙4∙2 = 4(9∙6 - 7∙2) =160</a:t>
            </a:r>
            <a:r>
              <a:rPr b="1" i="1" lang="en-US" sz="4400" spc="-1" strike="noStrike">
                <a:solidFill>
                  <a:srgbClr val="cc0099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1"/>
          <p:cNvSpPr/>
          <p:nvPr/>
        </p:nvSpPr>
        <p:spPr>
          <a:xfrm>
            <a:off x="4427640" y="4581360"/>
            <a:ext cx="4537080" cy="172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8317080" y="630864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95280" y="1341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оезд  длиной  1км  медленно  движется  со  скоростью  1км/ч  и  вползает  в  туннель,  длина  которого 1км. За сколько времени  он полностью пройдет тунне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11280" y="4292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Вер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39640" y="620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971640" y="501336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за 2ча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4716360" y="5300640"/>
            <a:ext cx="1368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4643280" y="5445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езд  1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6084720" y="5157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7451640" y="5157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6084720" y="5300640"/>
            <a:ext cx="136872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7451640" y="5300640"/>
            <a:ext cx="1368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6227640" y="5950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нн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17"/>
          <p:cNvCxnSpPr>
            <a:stCxn id="131" idx="0"/>
          </p:cNvCxnSpPr>
          <p:nvPr/>
        </p:nvCxnSpPr>
        <p:spPr>
          <a:xfrm flipH="1" flipV="1" rot="5400000">
            <a:off x="5985360" y="3814920"/>
            <a:ext cx="197640" cy="27360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18"/>
          <p:cNvCxnSpPr/>
          <p:nvPr/>
        </p:nvCxnSpPr>
        <p:spPr>
          <a:xfrm flipV="1">
            <a:off x="6084360" y="5373000"/>
            <a:ext cx="2737800" cy="197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9"/>
          <p:cNvSpPr/>
          <p:nvPr/>
        </p:nvSpPr>
        <p:spPr>
          <a:xfrm>
            <a:off x="7093080" y="55166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2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5724360" y="465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2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>
            <a:off x="8317080" y="630864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140360" y="476280"/>
            <a:ext cx="475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Большой квадрат имеет площадь1м</a:t>
            </a:r>
            <a:r>
              <a:rPr b="1" i="1" lang="ru-RU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Его диагональ разделена на 3 равные части. Средняя часть – диагональ серого квадрата, чему  равна  его  площад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50920" y="4581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Вер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395280" y="260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3488E01B"/>
          <p:cNvPicPr/>
          <p:nvPr/>
        </p:nvPicPr>
        <p:blipFill>
          <a:blip r:embed="rId2"/>
          <a:stretch/>
        </p:blipFill>
        <p:spPr>
          <a:xfrm>
            <a:off x="324000" y="907920"/>
            <a:ext cx="3581280" cy="35719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1476360" y="5229360"/>
                <a:ext cx="1044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p>
                      <m:e>
                        <m:r>
                          <m:t xml:space="preserve">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Line 12"/>
          <p:cNvSpPr/>
          <p:nvPr/>
        </p:nvSpPr>
        <p:spPr>
          <a:xfrm>
            <a:off x="826920" y="234936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826920" y="321300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1692360" y="1557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2556000" y="1557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4"/>
          <p:cNvSpPr/>
          <p:nvPr/>
        </p:nvSpPr>
        <p:spPr>
          <a:xfrm>
            <a:off x="8317080" y="630864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276720" y="692280"/>
            <a:ext cx="5867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Если отпилить от кубика кусочек около вершины, то получится такое тело, как на картинке. Отпилим по кусочку от каждой вершины. Сколько вершин и сколько ребер окажется у получившегося те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50920" y="5157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Вер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68360" y="333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55640" y="558972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24 вершины и 36 реб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46012C19"/>
          <p:cNvPicPr/>
          <p:nvPr/>
        </p:nvPicPr>
        <p:blipFill>
          <a:blip r:embed="rId2"/>
          <a:stretch/>
        </p:blipFill>
        <p:spPr>
          <a:xfrm>
            <a:off x="250920" y="1484280"/>
            <a:ext cx="2952720" cy="2943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16"/>
          <p:cNvSpPr/>
          <p:nvPr/>
        </p:nvSpPr>
        <p:spPr>
          <a:xfrm>
            <a:off x="5508720" y="3716280"/>
            <a:ext cx="2952720" cy="2852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8317080" y="630864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50920" y="112536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Окружность  и  прямоугольник  были  друзьями.  «К  сожалению, – сказала окружность прямоугольнику, – у  нас  не  бывает  больше,  чем  </a:t>
            </a:r>
            <a:r>
              <a:rPr b="1" i="1" lang="en-US" sz="32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общих  точек,  даже  если  я  увеличиваюсь  или  уменьшаюсь».  Чему  равно  число  </a:t>
            </a:r>
            <a:r>
              <a:rPr b="1" i="1" lang="en-US" sz="32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11280" y="4292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Вер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5280" y="333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68360" y="508464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8 общих точ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5867280" y="4005360"/>
            <a:ext cx="2664000" cy="2663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5867280" y="4797360"/>
            <a:ext cx="259236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5867280" y="5950080"/>
            <a:ext cx="259236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5867280" y="4797360"/>
            <a:ext cx="0" cy="115272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8459640" y="4797360"/>
            <a:ext cx="0" cy="115272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5"/>
          <p:cNvSpPr/>
          <p:nvPr/>
        </p:nvSpPr>
        <p:spPr>
          <a:xfrm>
            <a:off x="6516720" y="4653000"/>
            <a:ext cx="1440000" cy="14400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"/>
          <p:cNvSpPr/>
          <p:nvPr/>
        </p:nvSpPr>
        <p:spPr>
          <a:xfrm>
            <a:off x="8317080" y="630864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50920" y="76500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Студент за 5 лет учебы  сдал 31 экзамен. В каждом следующем году он сдавал больше  экзаменов, чем в предыдущем.  На 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курсе экзаменов втрое больше, чем на 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курсе. Сколько экзаменов  на 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курс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79280" y="4292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Вер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50920" y="260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24000" y="422100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                    </a:t>
            </a:r>
            <a:r>
              <a:rPr b="1" i="1" lang="en-US" sz="4800" spc="-1" strike="noStrike">
                <a:solidFill>
                  <a:srgbClr val="cc0099"/>
                </a:solidFill>
                <a:latin typeface="Arial"/>
              </a:rPr>
              <a:t>IV –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экзаменов  </a:t>
            </a: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I–5</a:t>
            </a:r>
            <a:r>
              <a:rPr b="1" i="1" lang="ru-RU" sz="4000" spc="-1" strike="noStrike">
                <a:solidFill>
                  <a:srgbClr val="cc0099"/>
                </a:solidFill>
                <a:latin typeface="Arial"/>
              </a:rPr>
              <a:t>экз., </a:t>
            </a: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II–6</a:t>
            </a:r>
            <a:r>
              <a:rPr b="1" i="1" lang="ru-RU" sz="4000" spc="-1" strike="noStrike">
                <a:solidFill>
                  <a:srgbClr val="cc0099"/>
                </a:solidFill>
                <a:latin typeface="Arial"/>
              </a:rPr>
              <a:t>экз.,</a:t>
            </a: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 III–7</a:t>
            </a:r>
            <a:r>
              <a:rPr b="1" i="1" lang="ru-RU" sz="4000" spc="-1" strike="noStrike">
                <a:solidFill>
                  <a:srgbClr val="cc0099"/>
                </a:solidFill>
                <a:latin typeface="Arial"/>
              </a:rPr>
              <a:t>экз., </a:t>
            </a: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V</a:t>
            </a:r>
            <a:r>
              <a:rPr b="1" i="1" lang="ru-RU" sz="4000" spc="-1" strike="noStrike">
                <a:solidFill>
                  <a:srgbClr val="cc0099"/>
                </a:solidFill>
                <a:latin typeface="Arial"/>
              </a:rPr>
              <a:t>–15эк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4"/>
          <p:cNvSpPr/>
          <p:nvPr/>
        </p:nvSpPr>
        <p:spPr>
          <a:xfrm>
            <a:off x="8317080" y="630864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55640" y="981000"/>
            <a:ext cx="7705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 сумке у кенгуру  3 белых,  2 черных  и  5  серых  носка.  Кенгуру хочет  не  глядя  достать  два  носка  одного  цвета.  Сколько  носков  ей  необходимо  вытащить  из  сум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55640" y="566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Вер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9640" y="404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859280" y="551664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4 нос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24000" y="333360"/>
            <a:ext cx="8496000" cy="597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3"/>
          <p:cNvSpPr txBox="1"/>
          <p:nvPr/>
        </p:nvSpPr>
        <p:spPr>
          <a:xfrm>
            <a:off x="539640" y="1268280"/>
            <a:ext cx="8074080" cy="93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325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С П А С И Б О </a:t>
            </a:r>
            <a:endParaRPr b="1" lang="en-US" sz="80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979560" y="4008600"/>
            <a:ext cx="723240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0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ЗА  УЧАСТИЕ  В  ИГРЕ</a:t>
            </a:r>
            <a:endParaRPr b="0" lang="en-US" sz="40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4" name="Picture 5" descr="Клоун"/>
          <p:cNvPicPr/>
          <p:nvPr/>
        </p:nvPicPr>
        <p:blipFill>
          <a:blip r:embed="rId2"/>
          <a:stretch/>
        </p:blipFill>
        <p:spPr>
          <a:xfrm>
            <a:off x="3564000" y="21337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63640" y="33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Ваш  выбор  вопр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539640" y="1341360"/>
            <a:ext cx="8064720" cy="475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2124000" y="1341360"/>
            <a:ext cx="0" cy="4680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3708360" y="1341360"/>
            <a:ext cx="0" cy="4680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5364000" y="1341360"/>
            <a:ext cx="0" cy="4753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>
            <a:off x="7020000" y="1341360"/>
            <a:ext cx="0" cy="4680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539640" y="1341360"/>
            <a:ext cx="806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539640" y="2781360"/>
            <a:ext cx="806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539640" y="4510080"/>
            <a:ext cx="806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1116000" y="170172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2700360" y="170172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4211640" y="170172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5940360" y="17017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7524720" y="17017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5"/>
          <p:cNvSpPr/>
          <p:nvPr/>
        </p:nvSpPr>
        <p:spPr>
          <a:xfrm>
            <a:off x="1116000" y="335772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2627280" y="335772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4284720" y="3357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5940360" y="3357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7380360" y="335772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900000" y="5013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2484360" y="5013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4140360" y="494172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3"/>
          <p:cNvSpPr/>
          <p:nvPr/>
        </p:nvSpPr>
        <p:spPr>
          <a:xfrm>
            <a:off x="5796000" y="494172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7380360" y="494172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4">
            <a:hlinkClick r:id="" action="ppaction://hlinkshowjump?jump=la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3812" y="17806"/>
                </a:lnTo>
                <a:lnTo>
                  <a:pt x="3812" y="3794"/>
                </a:lnTo>
                <a:close/>
              </a:path>
              <a:path fill="darken" w="21636" h="21600">
                <a:moveTo>
                  <a:pt x="16162" y="3794"/>
                </a:moveTo>
                <a:lnTo>
                  <a:pt x="16162" y="17806"/>
                </a:lnTo>
                <a:lnTo>
                  <a:pt x="17824" y="17806"/>
                </a:lnTo>
                <a:lnTo>
                  <a:pt x="1782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4">
            <a:hlinkClick r:id="rId2" action="ppaction://hlinksldjump"/>
          </p:cNvPr>
          <p:cNvSpPr/>
          <p:nvPr/>
        </p:nvSpPr>
        <p:spPr>
          <a:xfrm>
            <a:off x="8317080" y="630864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42920" y="177336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колько  целых  чисел  находится  между  числами  1,12  и  18,03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611280" y="4292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Вер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39640" y="620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042920" y="450864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                     </a:t>
            </a: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17 чисел  (2,  3,  4,  …,  16,  17,  18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4">
            <a:hlinkClick r:id="rId2" action="ppaction://hlinksldjump"/>
          </p:cNvPr>
          <p:cNvSpPr/>
          <p:nvPr/>
        </p:nvSpPr>
        <p:spPr>
          <a:xfrm>
            <a:off x="8317080" y="630864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79280" y="549360"/>
            <a:ext cx="871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Резиновую пленку растянули в разных  направлениях,  нарисовали  на  ней  окружность, а затем отпустили. Когда  пленка приняла первоначальную форму, из неё вырезали круг. Какая из предложенных картинок не могла получиться в круг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24000" y="6021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Вер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79280" y="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284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99"/>
                </a:solidFill>
                <a:latin typeface="Arial"/>
              </a:rPr>
              <a:t>картинки </a:t>
            </a:r>
            <a:r>
              <a:rPr b="1" i="1" lang="en-US" sz="3600" spc="-1" strike="noStrike">
                <a:solidFill>
                  <a:srgbClr val="cc0099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E32CB424"/>
          <p:cNvPicPr/>
          <p:nvPr/>
        </p:nvPicPr>
        <p:blipFill>
          <a:blip r:embed="rId3"/>
          <a:stretch/>
        </p:blipFill>
        <p:spPr>
          <a:xfrm>
            <a:off x="468360" y="4076640"/>
            <a:ext cx="7848720" cy="1911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4">
            <a:hlinkClick r:id="rId2" action="ppaction://hlinksldjump"/>
          </p:cNvPr>
          <p:cNvSpPr/>
          <p:nvPr/>
        </p:nvSpPr>
        <p:spPr>
          <a:xfrm>
            <a:off x="8317080" y="630864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403280" y="1197000"/>
            <a:ext cx="669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Какую  цифру  надо  вставить  вместо  * ,  чтобы  число  567*80  делилось  на  9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95280" y="4437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Вер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95280" y="404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79280" y="4292640"/>
            <a:ext cx="87138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                         </a:t>
            </a: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цифру 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cc0099"/>
                </a:solidFill>
                <a:latin typeface="Arial"/>
              </a:rPr>
              <a:t>(число  567180 имеет  сумму  цифр  27  и  оканчивается  на  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"/>
          <p:cNvSpPr/>
          <p:nvPr/>
        </p:nvSpPr>
        <p:spPr>
          <a:xfrm>
            <a:off x="8317080" y="630864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39640" y="1484280"/>
            <a:ext cx="78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1 – 2 + 3 – 4 + … +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+ 2005 – 2006 + 2007 =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95280" y="3716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Вер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39640" y="620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500280"/>
            <a:ext cx="8569080" cy="26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                        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100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99"/>
                </a:solidFill>
                <a:latin typeface="Arial"/>
              </a:rPr>
              <a:t>(1–2)+(3–4)+…+(2005 – 2006)+ +2007=  –1 </a:t>
            </a:r>
            <a:r>
              <a:rPr b="1" i="1" lang="ru-RU" sz="4400" spc="-1" strike="noStrike">
                <a:solidFill>
                  <a:srgbClr val="cc0099"/>
                </a:solidFill>
                <a:latin typeface="Arial"/>
                <a:ea typeface="Arial"/>
              </a:rPr>
              <a:t>∙ 1003 + 2007=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1004</a:t>
            </a: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8317080" y="630864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5280" y="1268280"/>
            <a:ext cx="381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Чему  равна  площадь четырехуголь-ника 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ABCD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,  если площадь  квадратика  равна  1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11280" y="57340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Вер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39640" y="620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643280" y="558972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13,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50E149D5"/>
          <p:cNvPicPr/>
          <p:nvPr/>
        </p:nvPicPr>
        <p:blipFill>
          <a:blip r:embed="rId2"/>
          <a:stretch/>
        </p:blipFill>
        <p:spPr>
          <a:xfrm>
            <a:off x="4284720" y="1557360"/>
            <a:ext cx="4637160" cy="3476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4"/>
          <p:cNvSpPr/>
          <p:nvPr/>
        </p:nvSpPr>
        <p:spPr>
          <a:xfrm>
            <a:off x="8317080" y="630864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042920" y="155736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Какой  угол  образуют  стрелки  часов  в  половине  второ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11280" y="4292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Вер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9640" y="620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692360" y="508464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135</a:t>
            </a:r>
            <a:r>
              <a:rPr b="1" i="1" lang="ru-RU" sz="4800" spc="-1" strike="noStrike" baseline="30000">
                <a:solidFill>
                  <a:srgbClr val="cc0099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5796000" y="4508640"/>
            <a:ext cx="1584360" cy="1657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 flipV="1">
            <a:off x="6588000" y="5013000"/>
            <a:ext cx="289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6588000" y="53737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4"/>
          <p:cNvSpPr/>
          <p:nvPr/>
        </p:nvSpPr>
        <p:spPr>
          <a:xfrm>
            <a:off x="8317080" y="630864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284720" y="476280"/>
            <a:ext cx="460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 квадрате, разделенном  на 4 равные полоски, проведена диагональ. Чему равна площадь закрашенной части, если сторона квадрата 1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24000" y="479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Вер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9640" y="620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CF80D66"/>
          <p:cNvPicPr/>
          <p:nvPr/>
        </p:nvPicPr>
        <p:blipFill>
          <a:blip r:embed="rId2"/>
          <a:stretch/>
        </p:blipFill>
        <p:spPr>
          <a:xfrm>
            <a:off x="395280" y="1341360"/>
            <a:ext cx="3456000" cy="3283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0"/>
              <p:cNvSpPr txBox="1"/>
              <p:nvPr/>
            </p:nvSpPr>
            <p:spPr>
              <a:xfrm>
                <a:off x="1547640" y="5373720"/>
                <a:ext cx="927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p>
                      <m:e>
                        <m:r>
                          <m:t xml:space="preserve">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Line 12"/>
          <p:cNvSpPr/>
          <p:nvPr/>
        </p:nvSpPr>
        <p:spPr>
          <a:xfrm>
            <a:off x="1476360" y="177336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2124000" y="177336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771640" y="170028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5:30:34Z</dcterms:created>
  <dc:creator>ComputerT</dc:creator>
  <dc:description/>
  <dc:language>en-US</dc:language>
  <cp:lastModifiedBy>Ира</cp:lastModifiedBy>
  <dcterms:modified xsi:type="dcterms:W3CDTF">2015-01-10T16:00:40Z</dcterms:modified>
  <cp:revision>31</cp:revision>
  <dc:subject/>
  <dc:title>Слайд 1</dc:title>
</cp:coreProperties>
</file>