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DC14-1AC4-4126-9FA0-E02D023F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AFCD-64BD-411F-B744-B9B79BB4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0034-ADF3-4530-BCF8-560E253B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7074-002D-4E1B-8ADC-BF27E021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0E37-3F7B-4819-9D54-0629AFCD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4C0C-32B4-4842-BFF2-2003E088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AB3A-9439-4585-B37C-E9BD991E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5A38-FB77-4BB5-BCD0-93032EAC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368A-2C7A-4EAC-A083-EA03C67D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94B7-F506-40D9-9A79-8B50BFC6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7A3-8217-465B-9CA1-C9F76090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1EB8-84D1-4E69-A384-16B8F846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1E6B-37AA-4639-89B8-94209733BDE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619280" y="549360"/>
            <a:ext cx="6192720" cy="5526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торяем звуки и слов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2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698508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2124000" y="1989000"/>
            <a:ext cx="56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тгадай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Эта буква широ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И похожа на жу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И при этом точно жу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Издаёт жужжащий звук: </a:t>
            </a:r>
            <a:r>
              <a:rPr b="1" lang="ru-RU" sz="4400" spc="-1" strike="noStrike">
                <a:solidFill>
                  <a:srgbClr val="1e1c11"/>
                </a:solidFill>
                <a:latin typeface="Times New Roman"/>
              </a:rPr>
              <a:t>ж-ж-ж-ж-ж-ж-ж-ж-ж-ж-ж-ж-ж-ж-ж-ж-ж-ж-ж-ж-ж-ж-ж-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вуковая гимнасти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im3-tub-ru.yandex.net/i?id=c5bd3bda11a2f379e6f2b902ea7eede9-69-144&amp;n=21"/>
          <p:cNvPicPr/>
          <p:nvPr/>
        </p:nvPicPr>
        <p:blipFill>
          <a:blip r:embed="rId1"/>
          <a:stretch/>
        </p:blipFill>
        <p:spPr>
          <a:xfrm>
            <a:off x="1187280" y="1413000"/>
            <a:ext cx="2057400" cy="27367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2411280" y="4149720"/>
            <a:ext cx="619308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Жа-жа – жа есть иголки у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Жу-жу-жу молоко дадим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http://i3.imgbb.ru/img9/9/8/f/98faca4e0c3ccd8622d4e64fc898dcd6.gif"/>
          <p:cNvPicPr/>
          <p:nvPr/>
        </p:nvPicPr>
        <p:blipFill>
          <a:blip r:embed="rId1"/>
          <a:stretch/>
        </p:blipFill>
        <p:spPr>
          <a:xfrm>
            <a:off x="1692360" y="1650960"/>
            <a:ext cx="5400720" cy="5200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Элементарные горнолыжные правила"/>
          <p:cNvPicPr/>
          <p:nvPr/>
        </p:nvPicPr>
        <p:blipFill>
          <a:blip r:embed="rId1"/>
          <a:stretch/>
        </p:blipFill>
        <p:spPr>
          <a:xfrm>
            <a:off x="2340000" y="692280"/>
            <a:ext cx="4535640" cy="34574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"/>
          <p:cNvSpPr/>
          <p:nvPr/>
        </p:nvSpPr>
        <p:spPr>
          <a:xfrm>
            <a:off x="2556000" y="4797360"/>
            <a:ext cx="64764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564000" y="4797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4788000" y="4797360"/>
            <a:ext cx="64764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6012000" y="4797360"/>
            <a:ext cx="57600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в пар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Доскажи словечк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2" descr="http://img01.chitalnya.ru/upload2/723/223060373682528736.png"/>
          <p:cNvPicPr/>
          <p:nvPr/>
        </p:nvPicPr>
        <p:blipFill>
          <a:blip r:embed="rId1"/>
          <a:stretch/>
        </p:blipFill>
        <p:spPr>
          <a:xfrm>
            <a:off x="1979640" y="1557360"/>
            <a:ext cx="5256360" cy="4052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http://wiki.edu54.ru/images/4/4a/330026694634_86618_image00040.jpg"/>
          <p:cNvPicPr/>
          <p:nvPr/>
        </p:nvPicPr>
        <p:blipFill>
          <a:blip r:embed="rId1"/>
          <a:stretch/>
        </p:blipFill>
        <p:spPr>
          <a:xfrm>
            <a:off x="1601640" y="1201680"/>
            <a:ext cx="5940720" cy="4454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62160" y="1676520"/>
            <a:ext cx="47242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годня я узнал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ыло интересно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 выполнял задани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 научилс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 смог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скажу дома, что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58128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17:56:47Z</dcterms:created>
  <dc:creator>Admin</dc:creator>
  <dc:description/>
  <dc:language>en-US</dc:language>
  <cp:lastModifiedBy>Компьютер</cp:lastModifiedBy>
  <dcterms:modified xsi:type="dcterms:W3CDTF">2014-11-30T11:18:44Z</dcterms:modified>
  <cp:revision>48</cp:revision>
  <dc:subject/>
  <dc:title>Урок слушания.</dc:title>
</cp:coreProperties>
</file>