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CC0-24CF-4BFB-9F51-7E655059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8AE-05A7-44D5-8012-20303F9C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55A-74E3-422E-A258-B5AB0426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170-47B7-4300-AF80-151C269F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2AD-CC79-4F3D-B72F-5EE7207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37A-EB6A-4242-8429-B64C787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AC8-7468-4BC8-9EBA-982F5A26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ADD-5DA2-4F05-876F-0D5B16CC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1BD-DA4D-48B0-9D88-9544365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87B-20F8-4A06-A255-0FCFC84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D9E-5989-47D3-A9BD-C29FF21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982-A7AE-4620-A3DB-4AB4ADA8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00FF-C4D6-497C-8701-B0B593F32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63360" y="3240"/>
            <a:ext cx="9037800" cy="6954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80920" y="2997360"/>
            <a:ext cx="7489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390600" y="60480"/>
            <a:ext cx="833904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5219640" y="309600"/>
            <a:ext cx="353376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468360" y="216000"/>
            <a:ext cx="410508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285840" y="3573360"/>
            <a:ext cx="4257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-93600" y="4428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3276720" y="6307200"/>
            <a:ext cx="2108160" cy="230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"/>
          <p:cNvPicPr/>
          <p:nvPr/>
        </p:nvPicPr>
        <p:blipFill>
          <a:blip r:embed="rId3"/>
          <a:stretch/>
        </p:blipFill>
        <p:spPr>
          <a:xfrm>
            <a:off x="2374920" y="879480"/>
            <a:ext cx="22446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685800" y="0"/>
            <a:ext cx="5126040" cy="6386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5811840" y="3184560"/>
            <a:ext cx="2873520" cy="3317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5989680" y="333360"/>
            <a:ext cx="2636640" cy="2619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635040" y="4336920"/>
            <a:ext cx="2646360" cy="2165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"/>
          <p:cNvPicPr/>
          <p:nvPr/>
        </p:nvPicPr>
        <p:blipFill>
          <a:blip r:embed="rId5"/>
          <a:stretch/>
        </p:blipFill>
        <p:spPr>
          <a:xfrm>
            <a:off x="250920" y="4330800"/>
            <a:ext cx="31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6032520" y="352440"/>
            <a:ext cx="2571840" cy="3040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146160" y="382680"/>
            <a:ext cx="4460760" cy="604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3"/>
          <a:stretch/>
        </p:blipFill>
        <p:spPr>
          <a:xfrm>
            <a:off x="4587840" y="469260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4"/>
          <a:stretch/>
        </p:blipFill>
        <p:spPr>
          <a:xfrm>
            <a:off x="2376360" y="152280"/>
            <a:ext cx="3656160" cy="3702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5"/>
          <a:stretch/>
        </p:blipFill>
        <p:spPr>
          <a:xfrm>
            <a:off x="6372360" y="3332160"/>
            <a:ext cx="2666880" cy="104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1" descr=""/>
          <p:cNvPicPr/>
          <p:nvPr/>
        </p:nvPicPr>
        <p:blipFill>
          <a:blip r:embed="rId6"/>
          <a:stretch/>
        </p:blipFill>
        <p:spPr>
          <a:xfrm>
            <a:off x="4797360" y="3608280"/>
            <a:ext cx="1575000" cy="1152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"/>
          <p:cNvPicPr/>
          <p:nvPr/>
        </p:nvPicPr>
        <p:blipFill>
          <a:blip r:embed="rId7"/>
          <a:stretch/>
        </p:blipFill>
        <p:spPr>
          <a:xfrm>
            <a:off x="6238800" y="4376880"/>
            <a:ext cx="2637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4829040" y="-20520"/>
            <a:ext cx="4151520" cy="3735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2224080" y="1184400"/>
            <a:ext cx="275256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3"/>
          <a:stretch/>
        </p:blipFill>
        <p:spPr>
          <a:xfrm>
            <a:off x="179280" y="2303640"/>
            <a:ext cx="4537080" cy="4289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5580000" y="3798720"/>
            <a:ext cx="3240000" cy="2794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5"/>
          <a:stretch/>
        </p:blipFill>
        <p:spPr>
          <a:xfrm>
            <a:off x="468360" y="345960"/>
            <a:ext cx="175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470560" y="3300480"/>
            <a:ext cx="2808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2"/>
          <a:stretch/>
        </p:blipFill>
        <p:spPr>
          <a:xfrm>
            <a:off x="255600" y="2998800"/>
            <a:ext cx="4519440" cy="36241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382680" y="0"/>
            <a:ext cx="442260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5257800" y="139680"/>
            <a:ext cx="3021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3780000" y="115920"/>
            <a:ext cx="5119560" cy="4321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5384880" cy="2330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3251160" cy="3529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4"/>
          <a:stretch/>
        </p:blipFill>
        <p:spPr>
          <a:xfrm>
            <a:off x="385920" y="3876840"/>
            <a:ext cx="27968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3203640" y="5718240"/>
            <a:ext cx="3168720" cy="1139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179280" y="52560"/>
            <a:ext cx="87454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30956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07" name="Группа 1"/>
          <p:cNvGrpSpPr/>
          <p:nvPr/>
        </p:nvGrpSpPr>
        <p:grpSpPr>
          <a:xfrm>
            <a:off x="878040" y="3499920"/>
            <a:ext cx="7588080" cy="3357720"/>
            <a:chOff x="878040" y="3499920"/>
            <a:chExt cx="7588080" cy="3357720"/>
          </a:xfrm>
        </p:grpSpPr>
        <p:pic>
          <p:nvPicPr>
            <p:cNvPr id="108" name="Рисунок 9" descr=""/>
            <p:cNvPicPr/>
            <p:nvPr/>
          </p:nvPicPr>
          <p:blipFill>
            <a:blip r:embed="rId2"/>
            <a:stretch/>
          </p:blipFill>
          <p:spPr>
            <a:xfrm rot="16200000">
              <a:off x="2993040" y="1384560"/>
              <a:ext cx="3357720" cy="75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Рисунок 6" descr=""/>
            <p:cNvPicPr/>
            <p:nvPr/>
          </p:nvPicPr>
          <p:blipFill>
            <a:blip r:embed="rId3"/>
            <a:stretch/>
          </p:blipFill>
          <p:spPr>
            <a:xfrm flipH="1" rot="5400000">
              <a:off x="4527360" y="2752920"/>
              <a:ext cx="3114720" cy="460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Рисунок 7" descr=""/>
          <p:cNvPicPr/>
          <p:nvPr/>
        </p:nvPicPr>
        <p:blipFill>
          <a:blip r:embed="rId4"/>
          <a:stretch/>
        </p:blipFill>
        <p:spPr>
          <a:xfrm>
            <a:off x="5148360" y="174600"/>
            <a:ext cx="302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104760" y="-57240"/>
            <a:ext cx="5256360" cy="688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5386320" y="-23760"/>
            <a:ext cx="375444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54000"/>
            <a:ext cx="5070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219640" y="1484280"/>
            <a:ext cx="3673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 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тчиева Нина Григорьевна – преподаватель изобразительного  искусства МБОУ  Крюковской  СОШ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тчиева  Ирина  Григорьевна – преподаватель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т  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0" y="25560"/>
            <a:ext cx="4692600" cy="6832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2"/>
          <a:srcRect l="0" t="0" r="4488" b="0"/>
          <a:stretch/>
        </p:blipFill>
        <p:spPr>
          <a:xfrm>
            <a:off x="4686480" y="1341360"/>
            <a:ext cx="44449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372960" y="60480"/>
            <a:ext cx="4294440" cy="903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41120" y="938160"/>
            <a:ext cx="4338720" cy="978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469800" y="1917720"/>
            <a:ext cx="4197600" cy="36892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763720" y="1757520"/>
            <a:ext cx="17161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4"/>
          <a:stretch/>
        </p:blipFill>
        <p:spPr>
          <a:xfrm>
            <a:off x="4932360" y="276120"/>
            <a:ext cx="3795840" cy="5330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5"/>
          <a:stretch/>
        </p:blipFill>
        <p:spPr>
          <a:xfrm>
            <a:off x="1251000" y="5583240"/>
            <a:ext cx="6718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44440" y="209520"/>
            <a:ext cx="7121520" cy="4038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3794040" y="3122640"/>
            <a:ext cx="337032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3763800" y="4316400"/>
            <a:ext cx="2408400" cy="2408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"/>
          <p:cNvPicPr/>
          <p:nvPr/>
        </p:nvPicPr>
        <p:blipFill>
          <a:blip r:embed="rId4"/>
          <a:stretch/>
        </p:blipFill>
        <p:spPr>
          <a:xfrm>
            <a:off x="6804000" y="3537000"/>
            <a:ext cx="2016000" cy="3155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5"/>
          <a:stretch/>
        </p:blipFill>
        <p:spPr>
          <a:xfrm>
            <a:off x="290520" y="4438800"/>
            <a:ext cx="2841480" cy="2342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"/>
          <p:cNvPicPr/>
          <p:nvPr/>
        </p:nvPicPr>
        <p:blipFill>
          <a:blip r:embed="rId6"/>
          <a:srcRect l="0" t="0" r="-2188" b="0"/>
          <a:stretch/>
        </p:blipFill>
        <p:spPr>
          <a:xfrm>
            <a:off x="3763800" y="6453360"/>
            <a:ext cx="2408400" cy="271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819600" y="6130800"/>
            <a:ext cx="24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ажение Ярила- солн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867120" y="39085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рамика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I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79280" y="1181160"/>
            <a:ext cx="4816440" cy="5467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45788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5416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08000" y="19080"/>
            <a:ext cx="5400720" cy="6669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5940360" y="252360"/>
            <a:ext cx="2900520" cy="6272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2643120" y="3240"/>
            <a:ext cx="3297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179280" y="-28440"/>
            <a:ext cx="8785440" cy="50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1585800" y="5538960"/>
            <a:ext cx="5569200" cy="1257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3"/>
          <a:stretch/>
        </p:blipFill>
        <p:spPr>
          <a:xfrm>
            <a:off x="1868400" y="5013360"/>
            <a:ext cx="49356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48200" cy="5832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4481640" y="404640"/>
            <a:ext cx="4248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7:26:24Z</dcterms:created>
  <dc:creator>Тётушки</dc:creator>
  <dc:description/>
  <dc:language>en-US</dc:language>
  <cp:lastModifiedBy>Алекс</cp:lastModifiedBy>
  <dcterms:modified xsi:type="dcterms:W3CDTF">2015-01-10T15:59:32Z</dcterms:modified>
  <cp:revision>140</cp:revision>
  <dc:subject/>
  <dc:title>Презентация PowerPoint</dc:title>
</cp:coreProperties>
</file>