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6E0-118F-4B18-B1CE-66629354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12D-EAE3-49AA-94EB-E4C93172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475-76AB-491F-BB2D-FFC3253F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6A6-6B7B-433B-94F4-F93BA87A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A27-C764-4A6B-913E-75271890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220-6500-44CE-A063-E240FE99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EE5-ADAF-4130-9D81-16071CA2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149-33A4-42D2-B0BE-FFC5393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8B6-0C53-4179-AE55-73EC7919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095-3E26-41A3-B7E5-9D1E736A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260-CFDD-43A7-B825-36282862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45C-D067-418B-8949-78956D11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D549-BC06-42E8-AF1B-C23DB88C0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2921040" cy="6191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>
            <a:off x="5332320" y="722160"/>
            <a:ext cx="3630600" cy="53294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"/>
          <p:cNvPicPr/>
          <p:nvPr/>
        </p:nvPicPr>
        <p:blipFill>
          <a:blip r:embed="rId3"/>
          <a:stretch/>
        </p:blipFill>
        <p:spPr>
          <a:xfrm>
            <a:off x="119160" y="100080"/>
            <a:ext cx="240336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2"/>
          <a:stretch/>
        </p:blipFill>
        <p:spPr>
          <a:xfrm>
            <a:off x="7596360" y="-25560"/>
            <a:ext cx="96984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3"/>
          <a:stretch/>
        </p:blipFill>
        <p:spPr>
          <a:xfrm>
            <a:off x="623880" y="-25560"/>
            <a:ext cx="96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395280" y="206280"/>
            <a:ext cx="4694400" cy="63691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"/>
          <p:cNvPicPr/>
          <p:nvPr/>
        </p:nvPicPr>
        <p:blipFill>
          <a:blip r:embed="rId2"/>
          <a:stretch/>
        </p:blipFill>
        <p:spPr>
          <a:xfrm>
            <a:off x="5295960" y="434880"/>
            <a:ext cx="294804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073760" cy="55958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39625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4294080" y="247680"/>
            <a:ext cx="4849920" cy="6415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30240" y="247680"/>
            <a:ext cx="439236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003920" cy="6264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392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34920" y="333360"/>
            <a:ext cx="4073400" cy="6120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3639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17640" y="0"/>
            <a:ext cx="4559040" cy="6745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4859280" y="115920"/>
            <a:ext cx="3816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468360" y="162000"/>
            <a:ext cx="3952800" cy="65721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"/>
          <p:cNvPicPr/>
          <p:nvPr/>
        </p:nvPicPr>
        <p:blipFill>
          <a:blip r:embed="rId2"/>
          <a:stretch/>
        </p:blipFill>
        <p:spPr>
          <a:xfrm>
            <a:off x="4859280" y="141120"/>
            <a:ext cx="374508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-33480" y="-171360"/>
            <a:ext cx="4849920" cy="7029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4716360" y="-66600"/>
            <a:ext cx="442764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7:26:24Z</dcterms:created>
  <dc:creator>Тётушки</dc:creator>
  <dc:description/>
  <dc:language>en-US</dc:language>
  <cp:lastModifiedBy>Алекс</cp:lastModifiedBy>
  <dcterms:modified xsi:type="dcterms:W3CDTF">2015-01-10T16:01:36Z</dcterms:modified>
  <cp:revision>139</cp:revision>
  <dc:subject/>
  <dc:title>Презентация PowerPoint</dc:title>
</cp:coreProperties>
</file>